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6A2D5-2039-443D-9E39-3EBAA1B1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27534-5F43-4891-BE98-F50F4908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5DE0D-5A49-4978-BCF5-5B263E87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05DBC-8C5D-45E7-8FC7-DE84C4A19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7BBB-7CD4-4358-A3A7-067302E86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D824-32B4-44BD-97B1-AB8C4A8A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9E48-C1DC-4ECA-84C4-76038C9E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30E7-2B58-48D5-883A-0E1D9F9B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674F-4D58-4F83-9CA1-5DFA9259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F9C3-5AC9-41DF-94F9-3B203CCB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F5E1-2B97-434E-A916-73BF67EE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B35FE-BA72-44C8-AA25-D51AD410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1ADC-7540-491C-B005-8C2ABC99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1A13-1372-4351-9544-39DAC153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5E70-12BE-43ED-A5D8-F05C1420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8429-C523-46F1-9696-1707C74E2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D515-23A9-4D76-94C7-7AC7EF22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F747D-B1EB-4D19-97EA-A9BFFEF6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8920E-B721-4153-9A99-88D34355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DECD9-644E-4997-813B-62E8FFC1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19A5F-459F-4F51-98F1-EE7072C5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4BD39-0219-4CCE-808B-C4742D99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FE582-ACDF-4A57-BD2D-C5FB0798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03E7E-D985-4CE7-B669-25ECCB83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E6DF-958E-437F-8DAE-0484F73AB1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423A-F484-4810-9533-3968DA7CF5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660033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34364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5e5ff"/>
                </a:solidFill>
                <a:latin typeface="Arial"/>
              </a:rPr>
              <a:t>   </a:t>
            </a:r>
            <a:r>
              <a:rPr b="1" lang="en-US" sz="7200" spc="-1" strike="noStrike">
                <a:solidFill>
                  <a:srgbClr val="e5e5ff"/>
                </a:solidFill>
                <a:latin typeface="Arial"/>
              </a:rPr>
              <a:t>Баскетбол</a:t>
            </a:r>
            <a:r>
              <a:rPr b="1" lang="en-US" sz="7200" spc="-1" strike="noStrike">
                <a:solidFill>
                  <a:srgbClr val="e5e5ff"/>
                </a:solidFill>
                <a:latin typeface="Arial"/>
              </a:rPr>
              <a:t> 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555920" y="486864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Georgia"/>
              </a:rPr>
              <a:t>Коротко</a:t>
            </a:r>
            <a:r>
              <a:rPr b="0" i="1" lang="en-US" sz="2400" spc="-1" strike="noStrike">
                <a:solidFill>
                  <a:srgbClr val="00ffff"/>
                </a:solidFill>
                <a:latin typeface="Georgia"/>
              </a:rPr>
              <a:t> </a:t>
            </a:r>
            <a:r>
              <a:rPr b="0" i="1" lang="en-US" sz="4000" spc="-1" strike="noStrike">
                <a:solidFill>
                  <a:srgbClr val="00ffff"/>
                </a:solidFill>
                <a:latin typeface="Georgia"/>
              </a:rPr>
              <a:t>о главном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411280" y="1484280"/>
            <a:ext cx="4624560" cy="3416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765960" y="5805360"/>
            <a:ext cx="53856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5e5ff"/>
                </a:solidFill>
                <a:latin typeface="Arial"/>
              </a:rPr>
              <a:t>Мысова И.А.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5e5ff"/>
                </a:solidFill>
                <a:latin typeface="Arial"/>
              </a:rPr>
              <a:t>учитель физической культуры МОУ «СОШ №1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0" t="23903" r="-1303" b="3930"/>
          <a:stretch/>
        </p:blipFill>
        <p:spPr>
          <a:xfrm>
            <a:off x="0" y="0"/>
            <a:ext cx="9468000" cy="7091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-625320" y="652320"/>
            <a:ext cx="103975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Garamond"/>
              </a:rPr>
              <a:t>Соблюдайте основные правил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Garamond"/>
              </a:rPr>
              <a:t> </a:t>
            </a:r>
            <a:r>
              <a:rPr b="1" lang="en-US" sz="4800" spc="-1" strike="noStrike">
                <a:solidFill>
                  <a:srgbClr val="00ffff"/>
                </a:solidFill>
                <a:latin typeface="Garamond"/>
              </a:rPr>
              <a:t>при ловле мяча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71640" y="2046240"/>
            <a:ext cx="7345440" cy="496836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doni MT Black"/>
              </a:rPr>
              <a:t>Следите за мяч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doni MT Black"/>
              </a:rPr>
              <a:t>Ловите мяч пальцами, а не ладоня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doni MT Black"/>
              </a:rPr>
              <a:t>Амортизируйте мяч рук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doni MT Black"/>
              </a:rPr>
              <a:t>Наблюдайте за вращением мяч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doni MT Black"/>
              </a:rPr>
              <a:t>Двигайтесь навстречу мяч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doni MT Black"/>
              </a:rPr>
              <a:t>Принимайте мяч на уровне груди, держа локти в сторон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doni MT Black"/>
              </a:rPr>
              <a:t>Охраняйте путь передачи мяча ногами и туловищ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8000"/>
                            </p:stCondLst>
                            <p:childTnLst>
                              <p:par>
                                <p:cTn id="27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7000"/>
                            </p:stCondLst>
                            <p:childTnLst>
                              <p:par>
                                <p:cTn id="29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0"/>
                            </p:stCondLst>
                            <p:childTnLst>
                              <p:par>
                                <p:cTn id="30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3000"/>
                            </p:stCondLst>
                            <p:childTnLst>
                              <p:par>
                                <p:cTn id="30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6600"/>
                </a:solidFill>
                <a:latin typeface="Arial"/>
              </a:rPr>
              <a:t>Передача мяч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5157720"/>
            <a:ext cx="813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494172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Это  основа  успеха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всех  комбинац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5765760" cy="3844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100"/>
                            </p:stCondLst>
                            <p:childTnLst>
                              <p:par>
                                <p:cTn id="327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4776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Georgia"/>
              </a:rPr>
              <a:t>Способы передачи мяч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4800" y="123984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Двумя руками о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груд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Двумя руками с отскок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Двумя руками сниз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Двумя руками над голов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Бейсбольная (длинная) передач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4044960" cy="48546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500"/>
                            </p:stCondLst>
                            <p:childTnLst>
                              <p:par>
                                <p:cTn id="34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7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Georgia"/>
              </a:rPr>
              <a:t>Способы передачи мяч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48320" y="1700280"/>
            <a:ext cx="40384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Передача за спино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Передача при ведении мяч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Передача удар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Передача крюк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Передача в прыжк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Передача по пол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Одной рукой сниз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7084" t="0" r="30540" b="0"/>
          <a:stretch/>
        </p:blipFill>
        <p:spPr>
          <a:xfrm>
            <a:off x="684360" y="1413000"/>
            <a:ext cx="3816360" cy="4894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7500"/>
                            </p:stCondLst>
                            <p:childTnLst>
                              <p:par>
                                <p:cTn id="38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9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7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9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7500"/>
                            </p:stCondLst>
                            <p:childTnLst>
                              <p:par>
                                <p:cTn id="401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3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1912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ff"/>
                </a:solidFill>
                <a:latin typeface="Arial"/>
              </a:rPr>
              <a:t>Ведение мяч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3741840" cy="5472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572000" y="977040"/>
            <a:ext cx="4176720" cy="49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e5ff"/>
                </a:solidFill>
                <a:latin typeface="Bookman Old Style"/>
              </a:rPr>
              <a:t>ведение мяча 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e5ff"/>
                </a:solidFill>
                <a:latin typeface="Bookman Old Style"/>
              </a:rPr>
              <a:t>   </a:t>
            </a:r>
            <a:r>
              <a:rPr b="1" i="1" lang="en-US" sz="2800" spc="-1" strike="noStrike">
                <a:solidFill>
                  <a:srgbClr val="e5e5ff"/>
                </a:solidFill>
                <a:latin typeface="Bookman Old Style"/>
              </a:rPr>
              <a:t>мес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e5ff"/>
                </a:solidFill>
                <a:latin typeface="Bookman Old Style"/>
              </a:rPr>
              <a:t>по прям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e5ff"/>
                </a:solidFill>
                <a:latin typeface="Bookman Old Style"/>
              </a:rPr>
              <a:t>с изменением направ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e5ff"/>
                </a:solidFill>
                <a:latin typeface="Bookman Old Style"/>
              </a:rPr>
              <a:t>со сменой ру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e5ff"/>
                </a:solidFill>
                <a:latin typeface="Bookman Old Style"/>
              </a:rPr>
              <a:t>с изменением высоты отско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500"/>
                            </p:stCondLst>
                            <p:childTnLst>
                              <p:par>
                                <p:cTn id="416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0"/>
                            </p:stCondLst>
                            <p:childTnLst>
                              <p:par>
                                <p:cTn id="420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460440" y="1600200"/>
          <a:ext cx="40323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4032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643280" y="1628640"/>
          <a:ext cx="403236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628640"/>
                    <a:ext cx="4032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716360" y="1557000"/>
            <a:ext cx="3888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Стойка игро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Поворот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Останов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Финт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Передвиж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Перехват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Выбива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Вырыва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Овладение отскоком мяч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ff"/>
                </a:solidFill>
                <a:latin typeface="Arial"/>
              </a:rPr>
              <a:t>Техническая</a:t>
            </a:r>
            <a:r>
              <a:rPr b="1" lang="en-US" sz="4000" spc="-1" strike="noStrike">
                <a:solidFill>
                  <a:srgbClr val="66ffff"/>
                </a:solidFill>
                <a:latin typeface="Garamond"/>
              </a:rPr>
              <a:t> </a:t>
            </a:r>
            <a:r>
              <a:rPr b="1" i="1" lang="en-US" sz="4000" spc="-1" strike="noStrike">
                <a:solidFill>
                  <a:srgbClr val="66ffff"/>
                </a:solidFill>
                <a:latin typeface="Arial"/>
              </a:rPr>
              <a:t>подготовка защитни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684360" y="1628640"/>
            <a:ext cx="3573360" cy="49784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0" dur="3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900"/>
                            </p:stCondLst>
                            <p:childTnLst>
                              <p:par>
                                <p:cTn id="4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4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79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4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2900"/>
                            </p:stCondLst>
                            <p:childTnLst>
                              <p:par>
                                <p:cTn id="44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5400"/>
                            </p:stCondLst>
                            <p:childTnLst>
                              <p:par>
                                <p:cTn id="453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7900"/>
                            </p:stCondLst>
                            <p:childTnLst>
                              <p:par>
                                <p:cTn id="457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400"/>
                            </p:stCondLst>
                            <p:childTnLst>
                              <p:par>
                                <p:cTn id="46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2900"/>
                            </p:stCondLst>
                            <p:childTnLst>
                              <p:par>
                                <p:cTn id="46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5400"/>
                            </p:stCondLst>
                            <p:childTnLst>
                              <p:par>
                                <p:cTn id="46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Arial"/>
              </a:rPr>
              <a:t>Правила игр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1700280"/>
            <a:ext cx="158436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1 тай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1700280"/>
            <a:ext cx="165744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2 тай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3933720"/>
            <a:ext cx="1296720" cy="79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 четвер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Bookman Old Style"/>
              </a:rPr>
              <a:t>10 мину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16360" y="3933720"/>
            <a:ext cx="1366560" cy="79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 четвер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Bookman Old Style"/>
              </a:rPr>
              <a:t>10 мину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88000" y="3933720"/>
            <a:ext cx="1368360" cy="7905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 четвер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Bookman Old Style"/>
              </a:rPr>
              <a:t>10 мину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24720" y="3933720"/>
            <a:ext cx="1368360" cy="79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 четвер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Bookman Old Style"/>
              </a:rPr>
              <a:t>10 мину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92360" y="4005360"/>
            <a:ext cx="1150920" cy="576000"/>
          </a:xfrm>
          <a:prstGeom prst="ellipse">
            <a:avLst/>
          </a:prstGeom>
          <a:solidFill>
            <a:srgbClr val="a886e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2 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00720" y="4076640"/>
            <a:ext cx="1077840" cy="504720"/>
          </a:xfrm>
          <a:prstGeom prst="ellipse">
            <a:avLst/>
          </a:prstGeom>
          <a:solidFill>
            <a:srgbClr val="a886e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2 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19640" y="1773360"/>
            <a:ext cx="2303280" cy="647640"/>
          </a:xfrm>
          <a:prstGeom prst="ellipse">
            <a:avLst/>
          </a:prstGeom>
          <a:solidFill>
            <a:srgbClr val="a886e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Переры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10 мину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5373720"/>
            <a:ext cx="8570880" cy="790560"/>
          </a:xfrm>
          <a:prstGeom prst="ellipse">
            <a:avLst/>
          </a:prstGeom>
          <a:solidFill>
            <a:srgbClr val="7291f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Длительность овертайма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5 минут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5229360"/>
            <a:ext cx="863640" cy="936360"/>
          </a:xfrm>
          <a:custGeom>
            <a:avLst/>
            <a:gdLst>
              <a:gd name="textAreaLeft" fmla="*/ 288000 w 863640"/>
              <a:gd name="textAreaRight" fmla="*/ 739800 w 863640"/>
              <a:gd name="textAreaTop" fmla="*/ 539280 h 936360"/>
              <a:gd name="textAreaBottom" fmla="*/ 802080 h 936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971640" y="2421000"/>
            <a:ext cx="1008000" cy="151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900000" y="2421000"/>
            <a:ext cx="935280" cy="151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971280" y="2421000"/>
            <a:ext cx="936360" cy="151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971280" y="2421000"/>
            <a:ext cx="93636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8000" y="2421000"/>
            <a:ext cx="172728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508720" y="2421000"/>
            <a:ext cx="180000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08720" y="2421000"/>
            <a:ext cx="93528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6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1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600"/>
                            </p:stCondLst>
                            <p:childTnLst>
                              <p:par>
                                <p:cTn id="36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1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6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9100"/>
                            </p:stCondLst>
                            <p:childTnLst>
                              <p:par>
                                <p:cTn id="50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600"/>
                            </p:stCondLst>
                            <p:childTnLst>
                              <p:par>
                                <p:cTn id="54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21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36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10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6600"/>
                            </p:stCondLst>
                            <p:childTnLst>
                              <p:par>
                                <p:cTn id="73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8100"/>
                            </p:stCondLst>
                            <p:childTnLst>
                              <p:par>
                                <p:cTn id="77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96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11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91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Подготовка баскетболис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292720" y="1771560"/>
            <a:ext cx="3240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Физическ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Техническ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Тактическ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орально -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олев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95320" y="1341360"/>
            <a:ext cx="4108320" cy="5015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5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544320" y="384120"/>
            <a:ext cx="8121960" cy="6061680"/>
            <a:chOff x="544320" y="384120"/>
            <a:chExt cx="8121960" cy="6061680"/>
          </a:xfrm>
        </p:grpSpPr>
        <p:sp>
          <p:nvSpPr>
            <p:cNvPr id="128" name="_s712783"/>
            <p:cNvSpPr/>
            <p:nvPr/>
          </p:nvSpPr>
          <p:spPr>
            <a:xfrm flipH="1" flipV="1">
              <a:off x="3167640" y="2344680"/>
              <a:ext cx="719640" cy="537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712782"/>
            <p:cNvSpPr/>
            <p:nvPr/>
          </p:nvSpPr>
          <p:spPr>
            <a:xfrm>
              <a:off x="1436040" y="1049760"/>
              <a:ext cx="2030040" cy="15152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Bookman Old Style"/>
                </a:rPr>
                <a:t>остановк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712793"/>
            <p:cNvSpPr/>
            <p:nvPr/>
          </p:nvSpPr>
          <p:spPr>
            <a:xfrm flipH="1">
              <a:off x="2574720" y="3416760"/>
              <a:ext cx="1017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712792"/>
            <p:cNvSpPr/>
            <p:nvPr/>
          </p:nvSpPr>
          <p:spPr>
            <a:xfrm>
              <a:off x="544320" y="2657520"/>
              <a:ext cx="2030040" cy="15152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Bookman Old Style"/>
                </a:rPr>
                <a:t>передвиже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712791"/>
            <p:cNvSpPr/>
            <p:nvPr/>
          </p:nvSpPr>
          <p:spPr>
            <a:xfrm flipH="1">
              <a:off x="3170520" y="3952080"/>
              <a:ext cx="718920" cy="537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712790"/>
            <p:cNvSpPr/>
            <p:nvPr/>
          </p:nvSpPr>
          <p:spPr>
            <a:xfrm>
              <a:off x="1436040" y="4264920"/>
              <a:ext cx="2030040" cy="15152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99"/>
                  </a:solidFill>
                  <a:latin typeface="Bookman Old Style"/>
                </a:rPr>
                <a:t>веде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712789"/>
            <p:cNvSpPr/>
            <p:nvPr/>
          </p:nvSpPr>
          <p:spPr>
            <a:xfrm>
              <a:off x="4607640" y="4172760"/>
              <a:ext cx="0" cy="759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_s712788"/>
            <p:cNvSpPr/>
            <p:nvPr/>
          </p:nvSpPr>
          <p:spPr>
            <a:xfrm>
              <a:off x="3589920" y="4930560"/>
              <a:ext cx="2030040" cy="15152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99"/>
                  </a:solidFill>
                  <a:latin typeface="Bookman Old Style"/>
                </a:rPr>
                <a:t>передач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_s712787"/>
            <p:cNvSpPr/>
            <p:nvPr/>
          </p:nvSpPr>
          <p:spPr>
            <a:xfrm>
              <a:off x="5324760" y="3950640"/>
              <a:ext cx="718920" cy="537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_s712786"/>
            <p:cNvSpPr/>
            <p:nvPr/>
          </p:nvSpPr>
          <p:spPr>
            <a:xfrm>
              <a:off x="5744160" y="4264920"/>
              <a:ext cx="2030040" cy="15152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99"/>
                  </a:solidFill>
                  <a:latin typeface="Bookman Old Style"/>
                </a:rPr>
                <a:t>ловл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_s712785"/>
            <p:cNvSpPr/>
            <p:nvPr/>
          </p:nvSpPr>
          <p:spPr>
            <a:xfrm>
              <a:off x="5620320" y="3415320"/>
              <a:ext cx="1017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_s712784"/>
            <p:cNvSpPr/>
            <p:nvPr/>
          </p:nvSpPr>
          <p:spPr>
            <a:xfrm>
              <a:off x="6635520" y="2657520"/>
              <a:ext cx="2030760" cy="15152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99"/>
                  </a:solidFill>
                  <a:latin typeface="Bookman Old Style"/>
                </a:rPr>
                <a:t>броск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712781"/>
            <p:cNvSpPr/>
            <p:nvPr/>
          </p:nvSpPr>
          <p:spPr>
            <a:xfrm flipV="1">
              <a:off x="5322240" y="2342880"/>
              <a:ext cx="719640" cy="537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_s712780"/>
            <p:cNvSpPr/>
            <p:nvPr/>
          </p:nvSpPr>
          <p:spPr>
            <a:xfrm>
              <a:off x="5744160" y="1049760"/>
              <a:ext cx="2030040" cy="15152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99"/>
                  </a:solidFill>
                  <a:latin typeface="Bookman Old Style"/>
                </a:rPr>
                <a:t>финт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712779"/>
            <p:cNvSpPr/>
            <p:nvPr/>
          </p:nvSpPr>
          <p:spPr>
            <a:xfrm flipV="1">
              <a:off x="4605120" y="1899360"/>
              <a:ext cx="0" cy="759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712778"/>
            <p:cNvSpPr/>
            <p:nvPr/>
          </p:nvSpPr>
          <p:spPr>
            <a:xfrm>
              <a:off x="3589920" y="384120"/>
              <a:ext cx="2030040" cy="15152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Bookman Old Style"/>
                </a:rPr>
                <a:t>поворо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712777"/>
            <p:cNvSpPr/>
            <p:nvPr/>
          </p:nvSpPr>
          <p:spPr>
            <a:xfrm>
              <a:off x="3589920" y="2658960"/>
              <a:ext cx="2030040" cy="15156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Техника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напад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8028000" y="5805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3794"/>
                </a:moveTo>
                <a:lnTo>
                  <a:pt x="22129" y="10800"/>
                </a:lnTo>
                <a:lnTo>
                  <a:pt x="811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8028000" y="5805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3794"/>
                </a:moveTo>
                <a:lnTo>
                  <a:pt x="22129" y="10800"/>
                </a:lnTo>
                <a:lnTo>
                  <a:pt x="811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ff"/>
                </a:solidFill>
                <a:latin typeface="Arial"/>
              </a:rPr>
              <a:t>П</a:t>
            </a:r>
            <a:r>
              <a:rPr b="1" i="1" lang="en-US" sz="3600" spc="-1" strike="noStrike">
                <a:solidFill>
                  <a:srgbClr val="00ffff"/>
                </a:solidFill>
                <a:latin typeface="Arial"/>
              </a:rPr>
              <a:t>ередвижение баскетболиста</a:t>
            </a:r>
            <a:br>
              <a:rPr sz="3600"/>
            </a:b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Важный фактор для достижения успеха – умение изменять скорость передвижения</a:t>
            </a:r>
            <a:br>
              <a:rPr sz="28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8800" y="1628640"/>
            <a:ext cx="40388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" spc="-1" strike="noStrike">
                <a:solidFill>
                  <a:srgbClr val="00ffff"/>
                </a:solidFill>
                <a:latin typeface="Bookman Old Style"/>
              </a:rPr>
              <a:t>   </a:t>
            </a: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аго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гом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ринтерский бег (вперед лицом и спиной, в боковом направлении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ставными шагами (вперед, назад, боком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ыжками: толчком одной и двумя ногам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тановки: шагом и прыжко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ороты (пивотирование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716360" y="1773360"/>
            <a:ext cx="386100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ивотирование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– </a:t>
            </a:r>
            <a:r>
              <a:rPr b="1" i="1" lang="ru-RU" sz="2800" spc="-1" strike="noStrike">
                <a:solidFill>
                  <a:srgbClr val="00ffff"/>
                </a:solidFill>
                <a:latin typeface="Arial"/>
              </a:rPr>
              <a:t>прием, при котором, стоя на одной осевой ноге  и переступая другой, игрок меняет направление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4680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Bookman Old Style"/>
              </a:rPr>
              <a:t>Разновидности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ередний пиво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тационарный пиво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ивот у боковой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ини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братный пиво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ачающийся пиво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119560" y="2060640"/>
            <a:ext cx="3741840" cy="4398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75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Финт</a:t>
            </a:r>
            <a:r>
              <a:rPr b="1" i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Garamond"/>
              </a:rPr>
              <a:t>– </a:t>
            </a:r>
            <a:r>
              <a:rPr b="1" i="1" lang="en-US" sz="3200" spc="-1" strike="noStrike">
                <a:solidFill>
                  <a:srgbClr val="00ffff"/>
                </a:solidFill>
                <a:latin typeface="Arial"/>
              </a:rPr>
              <a:t>прием, с помощью которого игрок старается скрыть свои основные действия от противник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3672000" cy="424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Финты без мяч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ыполняют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на рывок 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на поворо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на передвиж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на ловлю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на засло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03640" y="2204640"/>
            <a:ext cx="3538800" cy="424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Финты с мяч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ыполняют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на передач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на бросо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на вед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на поворо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Georgia"/>
              </a:rPr>
              <a:t>Владение мячом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157400" y="1177920"/>
            <a:ext cx="7159680" cy="53704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ffff"/>
                </a:solidFill>
                <a:latin typeface="Arial"/>
              </a:rPr>
              <a:t>Ловля – </a:t>
            </a:r>
            <a:br>
              <a:rPr sz="4800"/>
            </a:br>
            <a:r>
              <a:rPr b="1" i="1" lang="en-US" sz="3200" spc="-1" strike="noStrike">
                <a:solidFill>
                  <a:srgbClr val="00ffff"/>
                </a:solidFill>
                <a:latin typeface="Bookman Old Style"/>
              </a:rPr>
              <a:t>это прием , с помощью которого баскетболист овладевает мячом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овля двумя руками на уровне груд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6080" indent="-496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овля двумя руками ниже поя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6080" indent="-496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овля двумя руками над голов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6080" indent="-496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овля мяча двумя руками с полутско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6080" indent="-496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овля мяча одной рукой на  уровне груди с поддержк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6080" indent="-496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овля мяча одной рукой на  уровне груди без поддерж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plit dir="out" orient="ver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75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17:18:08Z</dcterms:created>
  <dc:creator>user</dc:creator>
  <dc:description/>
  <dc:language>en-US</dc:language>
  <cp:lastModifiedBy>1</cp:lastModifiedBy>
  <dcterms:modified xsi:type="dcterms:W3CDTF">2008-04-07T06:47:19Z</dcterms:modified>
  <cp:revision>4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