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EE8F-2C83-4857-A19F-066869B1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D682-69D9-4613-8A86-FA059BEF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6657-8E48-4D48-AB09-195032B8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DFCE-5970-4010-9073-146C4D8D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DED6-65B4-49CD-9678-B50018FD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36E-FCCE-41AF-911E-3FEBA78D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2120-0EC0-4CE9-AFB8-CB93BF38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E81C-7E13-4A88-AD19-4AC0E8C9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4757-9EE0-4E30-BA84-689E9809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162B-C1CC-4350-AEF3-05D976B4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B296-69B3-424E-A2EC-2A20021B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3642-6F8B-45AC-82A1-62117FB8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A25D-DD71-40DB-8715-B34CE32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E6E5-0C95-4AE2-A600-2C37D462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4D19-5DEC-4AED-B969-6133C664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E193-5ADA-4EC3-A4EB-F80D1F5E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4504-10FA-4B13-8AC7-0A9C1CA6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245E9-101F-4779-AC08-49477856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E7E5-1051-4FC2-99EE-B08830F6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3EEB-6B3A-408B-BC50-5BCC8FD4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2FB2-C2FF-4153-8286-8EB498D3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A279-A1D7-420C-A15F-D058BE3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A2A5-720B-410D-8D34-F0158644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D48D-AAEC-4BB1-B871-2DD389A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C926-8E08-45B6-818F-DB3BB4B6E0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2916-4FCB-49E1-B9A2-9F029210B5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34364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e5e5ff"/>
                </a:solidFill>
                <a:latin typeface="Arial"/>
              </a:rPr>
              <a:t>Баскетбол</a:t>
            </a:r>
            <a:r>
              <a:rPr b="1" lang="en-US" sz="72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55920" y="486864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Georgia"/>
              </a:rPr>
              <a:t>Коротко</a:t>
            </a:r>
            <a:r>
              <a:rPr b="0" i="1" lang="en-US" sz="24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Georgia"/>
              </a:rPr>
              <a:t>о главн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624560" cy="341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65960" y="5805360"/>
            <a:ext cx="5385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e5ff"/>
                </a:solidFill>
                <a:latin typeface="Arial"/>
              </a:rPr>
              <a:t>Мысова И.А.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e5ff"/>
                </a:solidFill>
                <a:latin typeface="Arial"/>
              </a:rPr>
              <a:t>учитель физической культуры МОУ «СОШ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23903" r="-1303" b="3930"/>
          <a:stretch/>
        </p:blipFill>
        <p:spPr>
          <a:xfrm>
            <a:off x="0" y="0"/>
            <a:ext cx="9468000" cy="7091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625320" y="652320"/>
            <a:ext cx="10397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Соблюдайте основные прави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при ловле мяч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2046240"/>
            <a:ext cx="7345440" cy="49683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Следите за мяч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Ловите мяч пальцами, а не ладон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Амортизируйте мяч ру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Наблюдайте за вращением мя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Двигайтесь навстречу мяч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Принимайте мяч на уровне груди, держа локти в стор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Охраняйте путь передачи мяча ногами и туловищ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Передача мя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5157720"/>
            <a:ext cx="813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4941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Это  основа  успех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сех  комбин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76576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100"/>
                            </p:stCondLst>
                            <p:childTnLst>
                              <p:par>
                                <p:cTn id="32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4776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4800" y="123984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гру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с отско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сн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Бейсбольная (длинная) пере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044960" cy="4854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за спи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при ведении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удар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крю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в прыж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по по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Одной рукой сни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7084" t="0" r="30540" b="0"/>
          <a:stretch/>
        </p:blipFill>
        <p:spPr>
          <a:xfrm>
            <a:off x="684360" y="1413000"/>
            <a:ext cx="381636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500"/>
                            </p:stCondLst>
                            <p:childTnLst>
                              <p:par>
                                <p:cTn id="38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Arial"/>
              </a:rPr>
              <a:t>Ведение мяч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741840" cy="547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977040"/>
            <a:ext cx="41767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ведение мяча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по пря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с изменением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со сменой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с изменением высоты отск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643280" y="1628640"/>
          <a:ext cx="403236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62864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716360" y="1557000"/>
            <a:ext cx="3888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Стойка игро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овор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Останов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Фин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ередви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ерехва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би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рыв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Овладение отскоком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Arial"/>
              </a:rPr>
              <a:t>Техническая</a:t>
            </a:r>
            <a:r>
              <a:rPr b="1" lang="en-US" sz="4000" spc="-1" strike="noStrike">
                <a:solidFill>
                  <a:srgbClr val="66ffff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66ffff"/>
                </a:solidFill>
                <a:latin typeface="Arial"/>
              </a:rPr>
              <a:t>подготовка защитн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84360" y="1628640"/>
            <a:ext cx="3573360" cy="4978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9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4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9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4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9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4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29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4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Arial"/>
              </a:rPr>
              <a:t>Правила иг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700280"/>
            <a:ext cx="158436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1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700280"/>
            <a:ext cx="16574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2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933720"/>
            <a:ext cx="129672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3933720"/>
            <a:ext cx="13665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933720"/>
            <a:ext cx="1368360" cy="790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24720" y="3933720"/>
            <a:ext cx="13683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005360"/>
            <a:ext cx="1150920" cy="57600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4076640"/>
            <a:ext cx="1077840" cy="50472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1773360"/>
            <a:ext cx="2303280" cy="64764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Переры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373720"/>
            <a:ext cx="8570880" cy="790560"/>
          </a:xfrm>
          <a:prstGeom prst="ellipse">
            <a:avLst/>
          </a:prstGeom>
          <a:solidFill>
            <a:srgbClr val="729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Длительность овертайма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5 минут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229360"/>
            <a:ext cx="863640" cy="936360"/>
          </a:xfrm>
          <a:custGeom>
            <a:avLst/>
            <a:gdLst>
              <a:gd name="textAreaLeft" fmla="*/ 288000 w 863640"/>
              <a:gd name="textAreaRight" fmla="*/ 739800 w 863640"/>
              <a:gd name="textAreaTop" fmla="*/ 539280 h 936360"/>
              <a:gd name="textAreaBottom" fmla="*/ 802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71640" y="2421000"/>
            <a:ext cx="100800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00000" y="2421000"/>
            <a:ext cx="93528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1280" y="2421000"/>
            <a:ext cx="93636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971280" y="2421000"/>
            <a:ext cx="93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421000"/>
            <a:ext cx="1727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508720" y="2421000"/>
            <a:ext cx="180000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2421000"/>
            <a:ext cx="935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1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6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1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6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10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600"/>
                            </p:stCondLst>
                            <p:childTnLst>
                              <p:par>
                                <p:cTn id="5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1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1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6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10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6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11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9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Подготовка баскетболис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92720" y="1771560"/>
            <a:ext cx="324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Физ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ехн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акт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рально -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ле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95320" y="1341360"/>
            <a:ext cx="4108320" cy="501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544320" y="384120"/>
            <a:ext cx="8121960" cy="6061680"/>
            <a:chOff x="544320" y="384120"/>
            <a:chExt cx="8121960" cy="6061680"/>
          </a:xfrm>
        </p:grpSpPr>
        <p:sp>
          <p:nvSpPr>
            <p:cNvPr id="128" name="_s712783"/>
            <p:cNvSpPr/>
            <p:nvPr/>
          </p:nvSpPr>
          <p:spPr>
            <a:xfrm flipH="1" flipV="1">
              <a:off x="3167640" y="2344680"/>
              <a:ext cx="71964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712782"/>
            <p:cNvSpPr/>
            <p:nvPr/>
          </p:nvSpPr>
          <p:spPr>
            <a:xfrm>
              <a:off x="1436040" y="104976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Bookman Old Style"/>
                </a:rPr>
                <a:t>останов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712793"/>
            <p:cNvSpPr/>
            <p:nvPr/>
          </p:nvSpPr>
          <p:spPr>
            <a:xfrm flipH="1">
              <a:off x="2574720" y="3416760"/>
              <a:ext cx="1017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712792"/>
            <p:cNvSpPr/>
            <p:nvPr/>
          </p:nvSpPr>
          <p:spPr>
            <a:xfrm>
              <a:off x="544320" y="26575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Bookman Old Style"/>
                </a:rPr>
                <a:t>передвиж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712791"/>
            <p:cNvSpPr/>
            <p:nvPr/>
          </p:nvSpPr>
          <p:spPr>
            <a:xfrm flipH="1">
              <a:off x="3170520" y="3952080"/>
              <a:ext cx="71892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712790"/>
            <p:cNvSpPr/>
            <p:nvPr/>
          </p:nvSpPr>
          <p:spPr>
            <a:xfrm>
              <a:off x="1436040" y="42649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ве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712789"/>
            <p:cNvSpPr/>
            <p:nvPr/>
          </p:nvSpPr>
          <p:spPr>
            <a:xfrm>
              <a:off x="4607640" y="4172760"/>
              <a:ext cx="0" cy="75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712788"/>
            <p:cNvSpPr/>
            <p:nvPr/>
          </p:nvSpPr>
          <p:spPr>
            <a:xfrm>
              <a:off x="3589920" y="493056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передач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712787"/>
            <p:cNvSpPr/>
            <p:nvPr/>
          </p:nvSpPr>
          <p:spPr>
            <a:xfrm>
              <a:off x="5324760" y="3950640"/>
              <a:ext cx="71892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712786"/>
            <p:cNvSpPr/>
            <p:nvPr/>
          </p:nvSpPr>
          <p:spPr>
            <a:xfrm>
              <a:off x="5744160" y="42649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ловл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712785"/>
            <p:cNvSpPr/>
            <p:nvPr/>
          </p:nvSpPr>
          <p:spPr>
            <a:xfrm>
              <a:off x="5620320" y="3415320"/>
              <a:ext cx="1017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712784"/>
            <p:cNvSpPr/>
            <p:nvPr/>
          </p:nvSpPr>
          <p:spPr>
            <a:xfrm>
              <a:off x="6635520" y="2657520"/>
              <a:ext cx="203076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брос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712781"/>
            <p:cNvSpPr/>
            <p:nvPr/>
          </p:nvSpPr>
          <p:spPr>
            <a:xfrm flipV="1">
              <a:off x="5322240" y="2342880"/>
              <a:ext cx="71964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712780"/>
            <p:cNvSpPr/>
            <p:nvPr/>
          </p:nvSpPr>
          <p:spPr>
            <a:xfrm>
              <a:off x="5744160" y="104976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фин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712779"/>
            <p:cNvSpPr/>
            <p:nvPr/>
          </p:nvSpPr>
          <p:spPr>
            <a:xfrm flipV="1">
              <a:off x="4605120" y="1899360"/>
              <a:ext cx="0" cy="75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712778"/>
            <p:cNvSpPr/>
            <p:nvPr/>
          </p:nvSpPr>
          <p:spPr>
            <a:xfrm>
              <a:off x="3589920" y="3841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Bookman Old Style"/>
                </a:rPr>
                <a:t>поворо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712777"/>
            <p:cNvSpPr/>
            <p:nvPr/>
          </p:nvSpPr>
          <p:spPr>
            <a:xfrm>
              <a:off x="3589920" y="2658960"/>
              <a:ext cx="2030040" cy="15156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Техник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напа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00ffff"/>
                </a:solidFill>
                <a:latin typeface="Arial"/>
              </a:rPr>
              <a:t>ередвижение баскетболиста</a:t>
            </a:r>
            <a:br>
              <a:rPr sz="3600"/>
            </a:b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Важный фактор для достижения успеха – умение изменять скорость передвижения</a:t>
            </a:r>
            <a:br>
              <a:rPr sz="28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8800" y="1628640"/>
            <a:ext cx="4038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ffff"/>
                </a:solidFill>
                <a:latin typeface="Bookman Old Style"/>
              </a:rPr>
              <a:t>  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аг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гом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интерский бег (вперед лицом и спиной, в боковом направлени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авными шагами (вперед, назад, бок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ыжками: толчком одной и двумя ног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новки: шагом и прыжк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ороты (пивотировани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1773360"/>
            <a:ext cx="38610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ивотирование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– </a:t>
            </a: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прием, при котором, стоя на одной осевой ноге  и переступая другой, игрок меняет направлени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68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Разновидности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редни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ационар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вот у боков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н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т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чающийся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119560" y="2060640"/>
            <a:ext cx="3741840" cy="439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Финт</a:t>
            </a: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Garamond"/>
              </a:rPr>
              <a:t>– </a:t>
            </a: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прием, с помощью которого игрок старается скрыть свои основные действия от противни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6720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нты без мяч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рывок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оворо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ередви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ловл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засл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03640" y="2204640"/>
            <a:ext cx="35388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нты с мяч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ередач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брос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овор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Владение мячом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57400" y="1177920"/>
            <a:ext cx="7159680" cy="5370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ff"/>
                </a:solidFill>
                <a:latin typeface="Arial"/>
              </a:rPr>
              <a:t>Ловля – </a:t>
            </a:r>
            <a:br>
              <a:rPr sz="4800"/>
            </a:br>
            <a:r>
              <a:rPr b="1" i="1" lang="en-US" sz="3200" spc="-1" strike="noStrike">
                <a:solidFill>
                  <a:srgbClr val="00ffff"/>
                </a:solidFill>
                <a:latin typeface="Bookman Old Style"/>
              </a:rPr>
              <a:t>это прием , с помощью которого баскетболист овладевает мяч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 уровне гру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иже поя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двумя руками с полутск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с поддерж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без поддерж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7:18:08Z</dcterms:created>
  <dc:creator>user</dc:creator>
  <dc:description/>
  <dc:language>en-US</dc:language>
  <cp:lastModifiedBy>1</cp:lastModifiedBy>
  <dcterms:modified xsi:type="dcterms:W3CDTF">2008-04-07T06:47:19Z</dcterms:modified>
  <cp:revision>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