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74A9-3E8E-4EB7-A777-77A62236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521B-556D-4779-BA03-883F1CD3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93A9-3DE6-4F56-AEB2-E3715A0D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07A0-CABE-41EE-8257-8A796081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8E6E-E857-4100-96EC-CD06C046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D713-ED16-4A7D-9010-8714226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863-1E79-4943-BF36-E5D6261C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F24A-3FAB-49B2-889E-A009805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42A4-77EE-4D00-B684-AD7F324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776-50D1-4F8F-97FF-4DF17B1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160-DAFF-4D45-9C0F-0B6B385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B797-A10E-405C-9A1E-7DB4DFC6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123C-B308-40EA-A577-181C4B7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09BA-05EE-4BD9-8F87-1FB8A75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BAF4-11AB-4C38-9D05-A959989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BD93-A752-4206-B192-29FDA894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E0DC-3FE2-43C3-B50F-A26AF017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E992-3E84-4F13-BDB0-C31E87E4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B208-FDF8-43BE-9119-DD9CC689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D78B-98DF-4F4B-972F-C560736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5049-337D-498E-9BBA-4A87740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6660-93E7-424F-9818-0A74FBE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CE1E-A769-4BCB-9488-BF55AA1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86B3-CBD9-462E-AB99-5149E4D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A67-FCDA-4663-8616-4C126264AF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299-1100-4017-A381-2EDB9D305A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09480" y="1219320"/>
            <a:ext cx="7620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Times New Roman"/>
              </a:rPr>
              <a:t>Использование ИТ в проектировании предметно-пространствен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уководит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Шишко С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Баженова О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57200" y="53352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Рабочая документация – это утвержденные в установленном порядке текстовые и графические материалы, которыми определяются градостроительные объемно-планировочные, архитектурные, конструктивные, технические, технологические решения, а также сметы объектов стро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сходные данные на порядок разработки рабочей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архитектурно-планировочное задание (АПЗ)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технические условия по инженерному обеспечению объекта (ТУ)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задание на проектирование;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другие исходные данные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85800" y="129636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тадии проект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Предпроектная стадия </a:t>
            </a:r>
            <a:r>
              <a:rPr b="1" i="1" lang="ru-RU" sz="3600" spc="-1" strike="noStrike">
                <a:solidFill>
                  <a:srgbClr val="00007d"/>
                </a:solidFill>
                <a:latin typeface="Times New Roman"/>
              </a:rPr>
              <a:t>(концепция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Эскизны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Дизайн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Рабочая докум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423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72464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75600" y="42084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главные страницы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поисковых систем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Я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ndex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433440" y="60948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териал презентации с помощю программы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Adobe Photoshop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фото"/>
          <p:cNvPicPr/>
          <p:nvPr/>
        </p:nvPicPr>
        <p:blipFill>
          <a:blip r:embed="rId3"/>
          <a:stretch/>
        </p:blipFill>
        <p:spPr>
          <a:xfrm>
            <a:off x="1371600" y="1447920"/>
            <a:ext cx="64008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1205280" y="49356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резентация с помощю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макет"/>
          <p:cNvPicPr/>
          <p:nvPr/>
        </p:nvPicPr>
        <p:blipFill>
          <a:blip r:embed="rId2"/>
          <a:stretch/>
        </p:blipFill>
        <p:spPr>
          <a:xfrm>
            <a:off x="1143000" y="1295280"/>
            <a:ext cx="68896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743400" y="66024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атериал презентации с помощю программы 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зал"/>
          <p:cNvPicPr/>
          <p:nvPr/>
        </p:nvPicPr>
        <p:blipFill>
          <a:blip r:embed="rId2"/>
          <a:stretch/>
        </p:blipFill>
        <p:spPr>
          <a:xfrm>
            <a:off x="1295280" y="137160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сборочный чертеж -&#13;&#10;выполните чертеж указаной детали сборочного чертежа&#13;&#10;черчение чертежи в автокад autocad"/>
          <p:cNvPicPr/>
          <p:nvPr/>
        </p:nvPicPr>
        <p:blipFill>
          <a:blip r:embed="rId1"/>
          <a:stretch/>
        </p:blipFill>
        <p:spPr>
          <a:xfrm>
            <a:off x="304920" y="1308240"/>
            <a:ext cx="5715000" cy="40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73200" y="49680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Чертеж выполненный в программе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uto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т2"/>
          <p:cNvPicPr/>
          <p:nvPr/>
        </p:nvPicPr>
        <p:blipFill>
          <a:blip r:embed="rId2"/>
          <a:stretch/>
        </p:blipFill>
        <p:spPr>
          <a:xfrm>
            <a:off x="3276720" y="2514600"/>
            <a:ext cx="539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house%201"/>
          <p:cNvPicPr/>
          <p:nvPr/>
        </p:nvPicPr>
        <p:blipFill>
          <a:blip r:embed="rId1"/>
          <a:srcRect l="0" t="0" r="-17" b="0"/>
          <a:stretch/>
        </p:blipFill>
        <p:spPr>
          <a:xfrm>
            <a:off x="152280" y="685800"/>
            <a:ext cx="3911760" cy="5180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97600" y="344520"/>
            <a:ext cx="66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Чертеж выполненный в программе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rchi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черт"/>
          <p:cNvPicPr/>
          <p:nvPr/>
        </p:nvPicPr>
        <p:blipFill>
          <a:blip r:embed="rId2"/>
          <a:stretch/>
        </p:blipFill>
        <p:spPr>
          <a:xfrm>
            <a:off x="1143000" y="1301760"/>
            <a:ext cx="6858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42"/>
          <p:cNvSpPr/>
          <p:nvPr/>
        </p:nvSpPr>
        <p:spPr>
          <a:xfrm>
            <a:off x="457200" y="6094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едставление дизайнерского проекта по внутренней и внешней отделке, предметному насыщению экстерьера и интерьера помещаются в пояснительной запис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 дизайн проект входят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ланировочн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Стилев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ехнологически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дбор материалов и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корирование интерь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Авторски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4T11:36:16Z</dcterms:modified>
  <cp:revision>10</cp:revision>
  <dc:subject/>
  <dc:title>Проектирование диза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80000000000010243000207f6000400038000</vt:lpwstr>
  </property>
  <property fmtid="{D5CDD505-2E9C-101B-9397-08002B2CF9AE}" pid="3" name="Version">
    <vt:r8>1</vt:r8>
  </property>
</Properties>
</file>