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4085-6F48-4662-9A1F-E0B986D2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CCF2-13D8-4ABF-A36F-96979C4C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8349-78DD-4DBC-9AB5-3465E28C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63A3-35BD-45BA-ACDC-461300F2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3D73-E471-42EF-A06D-D14131D9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65A5-B1AA-4AC4-A0EC-05273692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7738-E10F-4A2B-A32E-35F1A72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2B6A-F3F9-4F14-A8D3-CBE91372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717E-D65A-42D8-AB33-F7455A1E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828B-89FF-44FF-A2BA-72AC3B51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F056-B77F-48A3-93F2-D4DCC7C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20F9-1899-499C-B8D7-E8CF86DB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B4B9-ACBB-4450-8368-A38A8CFA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F6E0-3F89-4E20-9E08-9E8AA809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67F-D097-4C3E-9388-48ADC270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27D2-019C-40B7-A881-9FCDF91F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B631-CA7A-40C9-869E-FA463875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C929-BE94-45E2-9607-162277C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E9FB-3D40-491C-9786-E50CF53C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B38B-F368-4229-9A21-2E7D2653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F74E-95F6-4688-A7E9-15B70BC4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66EC-FF34-4BFB-A499-CECA6740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CA5E-5067-41E9-8A43-C7BC983F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C062-A3C9-4A14-B905-B4EDF6CE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D25B-F3B4-4ABB-BDD3-48B5DAE053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2A7C-D6E7-4B57-8786-5C83A7B0B2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609480" y="1219320"/>
            <a:ext cx="76201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Times New Roman"/>
              </a:rPr>
              <a:t>Использование ИТ в проектировании предметно-пространственно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Руководит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Шишко С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Баженова О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57200" y="533520"/>
            <a:ext cx="815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Рабочая документация – это утвержденные в установленном порядке текстовые и графические материалы, которыми определяются градостроительные объемно-планировочные, архитектурные, конструктивные, технические, технологические решения, а также сметы объектов стро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Исходные данные на порядок разработки рабочей докум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архитектурно-планировочное задание (АПЗ);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технические условия по инженерному обеспечению объекта (ТУ);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задание на проектирование;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другие исходные данные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85800" y="129636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тадии проект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Предпроектная стадия </a:t>
            </a: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(концепция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Эскизный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Дизайн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Рабочая докум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952880" cy="423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472464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75600" y="42084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главные страницы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поисковых систем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Я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ndex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433440" y="609480"/>
            <a:ext cx="84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атериал презентации с помощю программы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Adobe Photoshop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фото"/>
          <p:cNvPicPr/>
          <p:nvPr/>
        </p:nvPicPr>
        <p:blipFill>
          <a:blip r:embed="rId3"/>
          <a:stretch/>
        </p:blipFill>
        <p:spPr>
          <a:xfrm>
            <a:off x="1371600" y="1447920"/>
            <a:ext cx="64008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1205280" y="49356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Презентация с помощю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ак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макет"/>
          <p:cNvPicPr/>
          <p:nvPr/>
        </p:nvPicPr>
        <p:blipFill>
          <a:blip r:embed="rId2"/>
          <a:stretch/>
        </p:blipFill>
        <p:spPr>
          <a:xfrm>
            <a:off x="1143000" y="1295280"/>
            <a:ext cx="68896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743400" y="660240"/>
            <a:ext cx="78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атериал презентации с помощю программы 3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Dma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зал"/>
          <p:cNvPicPr/>
          <p:nvPr/>
        </p:nvPicPr>
        <p:blipFill>
          <a:blip r:embed="rId2"/>
          <a:stretch/>
        </p:blipFill>
        <p:spPr>
          <a:xfrm>
            <a:off x="1295280" y="137160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сборочный чертеж -&#13;&#10;выполните чертеж указаной детали сборочного чертежа&#13;&#10;черчение чертежи в автокад autocad"/>
          <p:cNvPicPr/>
          <p:nvPr/>
        </p:nvPicPr>
        <p:blipFill>
          <a:blip r:embed="rId1"/>
          <a:stretch/>
        </p:blipFill>
        <p:spPr>
          <a:xfrm>
            <a:off x="304920" y="1308240"/>
            <a:ext cx="5715000" cy="406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673200" y="496800"/>
            <a:ext cx="65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Чертеж выполненный в программе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uto 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т2"/>
          <p:cNvPicPr/>
          <p:nvPr/>
        </p:nvPicPr>
        <p:blipFill>
          <a:blip r:embed="rId2"/>
          <a:stretch/>
        </p:blipFill>
        <p:spPr>
          <a:xfrm>
            <a:off x="3276720" y="2514600"/>
            <a:ext cx="539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house%201"/>
          <p:cNvPicPr/>
          <p:nvPr/>
        </p:nvPicPr>
        <p:blipFill>
          <a:blip r:embed="rId1"/>
          <a:srcRect l="0" t="0" r="-17" b="0"/>
          <a:stretch/>
        </p:blipFill>
        <p:spPr>
          <a:xfrm>
            <a:off x="152280" y="685800"/>
            <a:ext cx="3911760" cy="5180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597600" y="344520"/>
            <a:ext cx="66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Чертеж выполненный в программе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rchi 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черт"/>
          <p:cNvPicPr/>
          <p:nvPr/>
        </p:nvPicPr>
        <p:blipFill>
          <a:blip r:embed="rId2"/>
          <a:stretch/>
        </p:blipFill>
        <p:spPr>
          <a:xfrm>
            <a:off x="1143000" y="1301760"/>
            <a:ext cx="6858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42"/>
          <p:cNvSpPr/>
          <p:nvPr/>
        </p:nvSpPr>
        <p:spPr>
          <a:xfrm>
            <a:off x="457200" y="60948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Представление дизайнерского проекта по внутренней и внешней отделке, предметному насыщению экстерьера и интерьера помещаются в пояснительной запис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В дизайн проект входят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ланировочн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Стилев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Технологически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дбор материалов и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екорирование интерь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Авторский над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4T11:36:16Z</dcterms:modified>
  <cp:revision>10</cp:revision>
  <dc:subject/>
  <dc:title>Проектирование дизай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80000000000010243000207f6000400038000</vt:lpwstr>
  </property>
  <property fmtid="{D5CDD505-2E9C-101B-9397-08002B2CF9AE}" pid="3" name="Version">
    <vt:r8>1</vt:r8>
  </property>
</Properties>
</file>