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3.jpeg" ContentType="image/jpeg"/>
  <Override PartName="/ppt/media/image28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32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4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0C05-C65A-47B4-9F8D-12663EB80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1FD5-7ED1-4D67-A302-D5195644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5FCE-F672-42B6-991D-5035CE775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6F80-FB6F-4E2F-BD98-C31BA7FB1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745A-D2EC-48F9-8A10-58320E89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820C-6B75-4B40-98B2-4E6EDD35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A937-4609-485D-B109-BCD7FC60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B20B-3E27-477B-B0C1-F78A639D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F425-600E-42EC-A951-7E40671D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2C5C-1C3A-40D3-B0D8-B8DC1845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38E5-9D1F-46C6-B18C-E5670822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D5F1-4454-47FD-8332-626CC2E6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5C27-EB72-4910-A728-8D7D64076D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image" Target="../media/image42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25.wmf"/><Relationship Id="rId3" Type="http://schemas.openxmlformats.org/officeDocument/2006/relationships/image" Target="../media/image28.wmf"/><Relationship Id="rId4" Type="http://schemas.openxmlformats.org/officeDocument/2006/relationships/image" Target="../media/image30.wmf"/><Relationship Id="rId5" Type="http://schemas.openxmlformats.org/officeDocument/2006/relationships/image" Target="../media/image36.wmf"/><Relationship Id="rId6" Type="http://schemas.openxmlformats.org/officeDocument/2006/relationships/image" Target="../media/image52.wmf"/><Relationship Id="rId7" Type="http://schemas.openxmlformats.org/officeDocument/2006/relationships/image" Target="../media/image53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9.wmf"/><Relationship Id="rId3" Type="http://schemas.openxmlformats.org/officeDocument/2006/relationships/image" Target="../media/image54.wmf"/><Relationship Id="rId4" Type="http://schemas.openxmlformats.org/officeDocument/2006/relationships/image" Target="../media/image55.wmf"/><Relationship Id="rId5" Type="http://schemas.openxmlformats.org/officeDocument/2006/relationships/image" Target="../media/image56.wmf"/><Relationship Id="rId6" Type="http://schemas.openxmlformats.org/officeDocument/2006/relationships/image" Target="../media/image57.wmf"/><Relationship Id="rId7" Type="http://schemas.openxmlformats.org/officeDocument/2006/relationships/image" Target="../media/image58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98c4"/>
            </a:gs>
            <a:gs pos="100000">
              <a:srgbClr val="24446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85800" y="144000"/>
            <a:ext cx="78105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сийский университет дружбы народов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РУД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4560" y="1052640"/>
            <a:ext cx="79930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женерно-технический факуль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83640" y="2133720"/>
            <a:ext cx="79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cc"/>
                </a:solidFill>
                <a:latin typeface="Arial"/>
              </a:rPr>
              <a:t>Курс лекций по начертательной геометр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cc"/>
                </a:solidFill>
                <a:latin typeface="Arial"/>
              </a:rPr>
              <a:t>для студентов 1 кур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863520" y="4286160"/>
            <a:ext cx="156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ff"/>
                </a:solidFill>
                <a:latin typeface="Arial"/>
              </a:rPr>
              <a:t>Лекция №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617400" y="4797360"/>
            <a:ext cx="436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ff"/>
                </a:solidFill>
                <a:latin typeface="Arial"/>
              </a:rPr>
              <a:t>Предмет начертательная геометр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16320" y="5373720"/>
            <a:ext cx="76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ff"/>
                </a:solidFill>
                <a:latin typeface="Arial"/>
              </a:rPr>
              <a:t>Образование комплексного чертежа. Комплексный чертеж т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16320" y="5084640"/>
            <a:ext cx="77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ff"/>
                </a:solidFill>
                <a:latin typeface="Arial"/>
              </a:rPr>
              <a:t>Виды проецирования. Свойства ортогонального проецир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611280" y="565452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ff"/>
                </a:solidFill>
                <a:latin typeface="Arial"/>
              </a:rPr>
              <a:t>Комплексный чертеж линии. Взаимное расположение прям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1908000" y="1484280"/>
            <a:ext cx="720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федра начертательной геометрии и чер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3708360" y="3213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Кухарчук А.И., Тимофеева Т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5" descr="символ"/>
          <p:cNvPicPr/>
          <p:nvPr/>
        </p:nvPicPr>
        <p:blipFill>
          <a:blip r:embed="rId1"/>
          <a:srcRect l="19026" t="8047" r="43911" b="31650"/>
          <a:stretch/>
        </p:blipFill>
        <p:spPr>
          <a:xfrm rot="21162000">
            <a:off x="5954400" y="2863440"/>
            <a:ext cx="2712960" cy="2879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РУДН"/>
          <p:cNvPicPr/>
          <p:nvPr/>
        </p:nvPicPr>
        <p:blipFill>
          <a:blip r:embed="rId2"/>
          <a:srcRect l="0" t="0" r="48" b="188"/>
          <a:stretch/>
        </p:blipFill>
        <p:spPr>
          <a:xfrm>
            <a:off x="0" y="0"/>
            <a:ext cx="2089080" cy="18003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7"/>
          <p:cNvSpPr/>
          <p:nvPr/>
        </p:nvSpPr>
        <p:spPr>
          <a:xfrm>
            <a:off x="612720" y="594216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ff"/>
                </a:solidFill>
                <a:latin typeface="Arial"/>
              </a:rPr>
              <a:t>Положение линий относительно плоскостей проек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179280" y="2980800"/>
            <a:ext cx="3313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bbe0e3"/>
                </a:solidFill>
                <a:latin typeface="Arial"/>
              </a:rPr>
              <a:t>«</a:t>
            </a:r>
            <a:r>
              <a:rPr b="1" lang="ru-RU" sz="1400" spc="-1" strike="noStrike">
                <a:solidFill>
                  <a:srgbClr val="bbe0e3"/>
                </a:solidFill>
                <a:latin typeface="Arial"/>
              </a:rPr>
              <a:t>Очарование, сопровождающее науку, может победить свойственное людям отвращение к напряжению ума и заставить их находить удовольствие в упражнении своего разума…» </a:t>
            </a:r>
            <a:r>
              <a:rPr b="1" lang="ru-RU" sz="14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bbe0e3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bbe0e3"/>
                </a:solidFill>
                <a:latin typeface="Arial"/>
              </a:rPr>
              <a:t>          (Гаспар Монж</a:t>
            </a: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17">
            <a:hlinkClick r:id="rId3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8930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Основные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зиционные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свойства ортогонального проецир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250920" y="2736000"/>
            <a:ext cx="4392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екциями двух параллельных        прямых явля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ве параллельные прямы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8"/>
          <p:cNvPicPr/>
          <p:nvPr/>
        </p:nvPicPr>
        <p:blipFill>
          <a:blip r:embed="rId1"/>
          <a:srcRect l="8212" t="0" r="30598" b="0"/>
          <a:stretch/>
        </p:blipFill>
        <p:spPr>
          <a:xfrm>
            <a:off x="3995640" y="1339920"/>
            <a:ext cx="4965840" cy="49687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195640" y="177156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wipe dir="d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7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604360" cy="47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Метрические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свойства ортогонального проецир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572000" y="2156040"/>
            <a:ext cx="4392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ношения между отрезками прямой равны соответствующим отношениям между их проекц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|АС| : |СВ|= |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| : |С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|АС| : |АВ|= |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: |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6"/>
          <p:cNvPicPr/>
          <p:nvPr/>
        </p:nvPicPr>
        <p:blipFill>
          <a:blip r:embed="rId1"/>
          <a:srcRect l="25343" t="0" r="19866" b="0"/>
          <a:stretch/>
        </p:blipFill>
        <p:spPr>
          <a:xfrm>
            <a:off x="-46080" y="907920"/>
            <a:ext cx="4834080" cy="54007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6156360" y="14842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wipe dir="d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5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10"/>
          <p:cNvPicPr/>
          <p:nvPr/>
        </p:nvPicPr>
        <p:blipFill>
          <a:blip r:embed="rId1"/>
          <a:srcRect l="11855" t="0" r="20573" b="0"/>
          <a:stretch/>
        </p:blipFill>
        <p:spPr>
          <a:xfrm>
            <a:off x="3822840" y="765000"/>
            <a:ext cx="5319720" cy="5472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8930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Метрические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свойства ортогонального проецир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-108000" y="1411920"/>
            <a:ext cx="493236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ина отрезка равна длине его проекции, делённой на косинус угла наклона отрезка к плоскости проек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|АС| : |АВ| = cos </a:t>
            </a:r>
            <a:r>
              <a:rPr b="1" i="1" lang="ru-RU" sz="2000" spc="-1" strike="noStrike">
                <a:solidFill>
                  <a:srgbClr val="000000"/>
                </a:solidFill>
                <a:latin typeface="GreekC_IV50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|АВ| = |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| : cos </a:t>
            </a:r>
            <a:r>
              <a:rPr b="1" i="1" lang="ru-RU" sz="2000" spc="-1" strike="noStrike">
                <a:solidFill>
                  <a:srgbClr val="000000"/>
                </a:solidFill>
                <a:latin typeface="GreekC_IV50"/>
              </a:rPr>
              <a:t>a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. к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|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| = |АС|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2050920" y="90792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5364000" y="5157360"/>
            <a:ext cx="41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ч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α = 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то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В│=│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α =  9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то  │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│=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0" descr="1г"/>
          <p:cNvPicPr/>
          <p:nvPr/>
        </p:nvPicPr>
        <p:blipFill>
          <a:blip r:embed="rId2"/>
          <a:srcRect l="0" t="26402" r="43346" b="4074"/>
          <a:stretch/>
        </p:blipFill>
        <p:spPr>
          <a:xfrm>
            <a:off x="3708360" y="549360"/>
            <a:ext cx="5473800" cy="4789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1"/>
          <p:cNvSpPr/>
          <p:nvPr/>
        </p:nvSpPr>
        <p:spPr>
          <a:xfrm>
            <a:off x="324000" y="4676760"/>
            <a:ext cx="504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резок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натуральная величина) является гипотенузой  прямоугольного треугольника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ВС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дин катет которого является проекцией этого отрезка, а второй приращением координат точек А и 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wipe dir="d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2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1" descr="11"/>
          <p:cNvPicPr/>
          <p:nvPr/>
        </p:nvPicPr>
        <p:blipFill>
          <a:blip r:embed="rId1"/>
          <a:srcRect l="15561" t="5428" r="27019" b="4566"/>
          <a:stretch/>
        </p:blipFill>
        <p:spPr>
          <a:xfrm>
            <a:off x="-15840" y="1197000"/>
            <a:ext cx="4803840" cy="50403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893080" cy="47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Метрические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свойства ортогонального проецир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4462560" y="1987920"/>
            <a:ext cx="4681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хотя бы одна сторона прямого угла параллельна плоскости проекций, а вторая ей не перпендикулярна, то угол на эту плоскость проецируется в натуральную величину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6804000" y="69228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4356000" y="4724280"/>
            <a:ext cx="449892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прямой угол проецируется ортогонально в виде прямого угла, то он имеет сторону, расположенную параллельно плоскости проек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4643280" y="1197000"/>
            <a:ext cx="41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Теорема о проецировании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рямого угл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5145840" y="4221000"/>
            <a:ext cx="312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Обратная теорем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wipe dir="d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afff88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8930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тимость чертеж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24000" y="4796280"/>
            <a:ext cx="8281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екционный чертеж становится обратимым при добавлении дополнительной информаци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(введение второй плоскости проекции или числовой отметки, указывающей расстояние от точки в пространстве до плоскости проекци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684360" y="98100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шеприведенные чертежи называютс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днокартин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684360" y="1484280"/>
            <a:ext cx="74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смотренные методы проецирования позволяют однозначно  решить прямую задачу – построить проекцию (чертеж) геометрического обр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684360" y="2565360"/>
            <a:ext cx="824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атная задача начертательной геометрии – по данному чертежу реконструировать геометрический образ – решается неоднозначно (может быть несколько или бесчисленное множество решений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684360" y="4005360"/>
            <a:ext cx="79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этого следует, чт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днокартинный чертеж не обладает свойством обратимост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wipe dir="d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ffff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9" descr="12а"/>
          <p:cNvPicPr/>
          <p:nvPr/>
        </p:nvPicPr>
        <p:blipFill>
          <a:blip r:embed="rId1"/>
          <a:srcRect l="77361" t="22779" r="13883" b="21801"/>
          <a:stretch/>
        </p:blipFill>
        <p:spPr>
          <a:xfrm>
            <a:off x="3592440" y="836640"/>
            <a:ext cx="1411200" cy="5400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12а"/>
          <p:cNvPicPr/>
          <p:nvPr/>
        </p:nvPicPr>
        <p:blipFill>
          <a:blip r:embed="rId2"/>
          <a:srcRect l="45450" t="22779" r="32222" b="21801"/>
          <a:stretch/>
        </p:blipFill>
        <p:spPr>
          <a:xfrm>
            <a:off x="179280" y="836640"/>
            <a:ext cx="3552840" cy="53290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930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9900"/>
                </a:solidFill>
                <a:latin typeface="Arial"/>
              </a:rPr>
              <a:t>Образование комплексного чертежа</a:t>
            </a:r>
            <a:r>
              <a:rPr b="1" lang="ru-RU" sz="20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9900"/>
                </a:solidFill>
                <a:latin typeface="Arial"/>
              </a:rPr>
              <a:t>точки</a:t>
            </a:r>
            <a:r>
              <a:rPr b="1" lang="ru-RU" sz="2000" spc="-1" strike="noStrike">
                <a:solidFill>
                  <a:srgbClr val="6699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4030560" y="619560"/>
            <a:ext cx="4934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лексным чертежом  называется чертеж, составленный из двух или более связанных между собой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ртогональных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екци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зображаемого геометрического обр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4859280" y="2852640"/>
            <a:ext cx="417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цип образования: геометрический образ ортогонально проецируется минимум на две взаимно перпендикулярные плоскости проекций, которые затем соответствующим образом совмещаются с одной плоск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12а"/>
          <p:cNvPicPr/>
          <p:nvPr/>
        </p:nvPicPr>
        <p:blipFill>
          <a:blip r:embed="rId3"/>
          <a:srcRect l="14347" t="22779" r="54553" b="21801"/>
          <a:stretch/>
        </p:blipFill>
        <p:spPr>
          <a:xfrm>
            <a:off x="0" y="763560"/>
            <a:ext cx="4835520" cy="53294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0"/>
          <p:cNvSpPr/>
          <p:nvPr/>
        </p:nvSpPr>
        <p:spPr>
          <a:xfrm>
            <a:off x="250920" y="595008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нный чертеж   называется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мплексным чертеже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.Ч.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очк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4859280" y="5661000"/>
            <a:ext cx="42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на К.Ч. заданы две проекции точки, можно утверждать, ч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чка однозначно задана на К.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wipe dir="d"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fda"/>
            </a:gs>
            <a:gs pos="100000">
              <a:srgbClr val="cc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930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9900"/>
                </a:solidFill>
                <a:latin typeface="Arial"/>
              </a:rPr>
              <a:t>Образование комплексного чертежа</a:t>
            </a:r>
            <a:r>
              <a:rPr b="1" lang="ru-RU" sz="20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9900"/>
                </a:solidFill>
                <a:latin typeface="Arial"/>
              </a:rPr>
              <a:t>точки</a:t>
            </a:r>
            <a:r>
              <a:rPr b="1" lang="ru-RU" sz="2000" spc="-1" strike="noStrike">
                <a:solidFill>
                  <a:srgbClr val="6699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-181080" y="5804640"/>
            <a:ext cx="9864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огда проецирование осуществляется на три взаимно перпендикулярных плоскости проекций, и тогда они все совмещаются с од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1а"/>
          <p:cNvPicPr/>
          <p:nvPr/>
        </p:nvPicPr>
        <p:blipFill>
          <a:blip r:embed="rId1"/>
          <a:srcRect l="16439" t="0" r="50096" b="40574"/>
          <a:stretch/>
        </p:blipFill>
        <p:spPr>
          <a:xfrm>
            <a:off x="28440" y="981000"/>
            <a:ext cx="4516560" cy="4681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1б"/>
          <p:cNvPicPr/>
          <p:nvPr/>
        </p:nvPicPr>
        <p:blipFill>
          <a:blip r:embed="rId2"/>
          <a:srcRect l="13393" t="15588" r="51304" b="11427"/>
          <a:stretch/>
        </p:blipFill>
        <p:spPr>
          <a:xfrm>
            <a:off x="60480" y="549360"/>
            <a:ext cx="4295520" cy="5184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1в"/>
          <p:cNvPicPr/>
          <p:nvPr/>
        </p:nvPicPr>
        <p:blipFill>
          <a:blip r:embed="rId3"/>
          <a:srcRect l="29832" t="9337" r="30611" b="35403"/>
          <a:stretch/>
        </p:blipFill>
        <p:spPr>
          <a:xfrm>
            <a:off x="0" y="1316160"/>
            <a:ext cx="4356000" cy="355284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2"/>
          <p:cNvSpPr/>
          <p:nvPr/>
        </p:nvSpPr>
        <p:spPr>
          <a:xfrm>
            <a:off x="4788000" y="828720"/>
            <a:ext cx="4356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ловные обознач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В,С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… 1,2,3…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т.д. – точки в пространств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OY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горизонтальная  плоскость проек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OZ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вертикальная (фронтальная) плоскость  проек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OZ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вертикальная (профильная) плоскость проек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горизонтальная проекция точк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а плоскость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фронтальная  проекция точк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а плоскость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профильная  проекция точк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а плоскость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,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 линии связ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wipe dir="d"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2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2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20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0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12"/>
          <p:cNvPicPr/>
          <p:nvPr/>
        </p:nvPicPr>
        <p:blipFill>
          <a:blip r:embed="rId1"/>
          <a:srcRect l="0" t="11935" r="57110" b="14992"/>
          <a:stretch/>
        </p:blipFill>
        <p:spPr>
          <a:xfrm>
            <a:off x="-252360" y="620640"/>
            <a:ext cx="3686040" cy="45370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930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9900"/>
                </a:solidFill>
                <a:latin typeface="Arial"/>
              </a:rPr>
              <a:t>Образование комплексного чертежа</a:t>
            </a:r>
            <a:r>
              <a:rPr b="1" lang="ru-RU" sz="20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9900"/>
                </a:solidFill>
                <a:latin typeface="Arial"/>
              </a:rPr>
              <a:t>линии</a:t>
            </a:r>
            <a:r>
              <a:rPr b="1" lang="ru-RU" sz="2000" spc="-1" strike="noStrike">
                <a:solidFill>
                  <a:srgbClr val="6699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50920" y="501336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ни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геометрический образ, сформированный последовательным перемещением точк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50920" y="6165720"/>
            <a:ext cx="835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ая однозначно задана на комплексном чертеже, если заданы две ее прое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12"/>
          <p:cNvPicPr/>
          <p:nvPr/>
        </p:nvPicPr>
        <p:blipFill>
          <a:blip r:embed="rId2"/>
          <a:srcRect l="43822" t="11935" r="26973" b="14992"/>
          <a:stretch/>
        </p:blipFill>
        <p:spPr>
          <a:xfrm>
            <a:off x="3276720" y="44280"/>
            <a:ext cx="3590640" cy="5329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12"/>
          <p:cNvPicPr/>
          <p:nvPr/>
        </p:nvPicPr>
        <p:blipFill>
          <a:blip r:embed="rId3"/>
          <a:srcRect l="73958" t="11935" r="0" b="14992"/>
          <a:stretch/>
        </p:blipFill>
        <p:spPr>
          <a:xfrm>
            <a:off x="6488280" y="-27000"/>
            <a:ext cx="3268440" cy="55436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9"/>
          <p:cNvSpPr/>
          <p:nvPr/>
        </p:nvSpPr>
        <p:spPr>
          <a:xfrm>
            <a:off x="255240" y="5589720"/>
            <a:ext cx="530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ния – одномерный геометрический об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250920" y="5877000"/>
            <a:ext cx="48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значение линий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…   и  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wipe dir="d"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db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930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Arial"/>
              </a:rPr>
              <a:t>Взаимное расположение двух прямых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4356000" y="620640"/>
            <a:ext cx="47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Параллельные прямые.</a:t>
            </a:r>
            <a:r>
              <a:rPr b="1" lang="ru-RU" sz="2000" spc="-1" strike="noStrike">
                <a:solidFill>
                  <a:srgbClr val="996633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5076720" y="1989000"/>
            <a:ext cx="403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две прямые параллельны между собой, то их одноименные проекции тоже параллель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5572800" y="4148280"/>
            <a:ext cx="30956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║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║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║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2" descr="Рис"/>
          <p:cNvPicPr/>
          <p:nvPr/>
        </p:nvPicPr>
        <p:blipFill>
          <a:blip r:embed="rId1"/>
          <a:srcRect l="16596" t="17236" r="36149" b="3200"/>
          <a:stretch/>
        </p:blipFill>
        <p:spPr>
          <a:xfrm>
            <a:off x="0" y="692280"/>
            <a:ext cx="5905440" cy="54244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3" descr="Рис"/>
          <p:cNvPicPr/>
          <p:nvPr/>
        </p:nvPicPr>
        <p:blipFill>
          <a:blip r:embed="rId2"/>
          <a:srcRect l="13417" t="9033" r="38712" b="6711"/>
          <a:stretch/>
        </p:blipFill>
        <p:spPr>
          <a:xfrm>
            <a:off x="324000" y="776160"/>
            <a:ext cx="5760720" cy="5532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4" descr="Рис"/>
          <p:cNvPicPr/>
          <p:nvPr/>
        </p:nvPicPr>
        <p:blipFill>
          <a:blip r:embed="rId3"/>
          <a:srcRect l="10222" t="7869" r="56576" b="0"/>
          <a:stretch/>
        </p:blipFill>
        <p:spPr>
          <a:xfrm>
            <a:off x="0" y="576360"/>
            <a:ext cx="4262400" cy="6453000"/>
          </a:xfrm>
          <a:prstGeom prst="rect">
            <a:avLst/>
          </a:prstGeom>
          <a:ln w="0">
            <a:noFill/>
          </a:ln>
        </p:spPr>
      </p:pic>
    </p:spTree>
  </p:cSld>
  <p:transition advTm="60000">
    <p:wipe dir="d"/>
  </p:transition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d2"/>
            </a:gs>
            <a:gs pos="100000">
              <a:srgbClr val="ffcc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930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Arial"/>
              </a:rPr>
              <a:t>Взаимное расположение двух прямых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4356000" y="620640"/>
            <a:ext cx="47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Пересекающиеся прямые.</a:t>
            </a:r>
            <a:r>
              <a:rPr b="1" lang="ru-RU" sz="2000" spc="-1" strike="noStrike">
                <a:solidFill>
                  <a:srgbClr val="996633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5076720" y="198900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е прямые пересекаются между собой, если точки пересечения одноименных проекций прямых лежат на одной линии связ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360400" y="3965040"/>
            <a:ext cx="246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О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8" descr="Рис"/>
          <p:cNvPicPr/>
          <p:nvPr/>
        </p:nvPicPr>
        <p:blipFill>
          <a:blip r:embed="rId1"/>
          <a:srcRect l="39029" t="32608" r="36248" b="17153"/>
          <a:stretch/>
        </p:blipFill>
        <p:spPr>
          <a:xfrm>
            <a:off x="-252360" y="765000"/>
            <a:ext cx="5794200" cy="5758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Рис"/>
          <p:cNvPicPr/>
          <p:nvPr/>
        </p:nvPicPr>
        <p:blipFill>
          <a:blip r:embed="rId2"/>
          <a:srcRect l="9755" t="10806" r="37539" b="4674"/>
          <a:stretch/>
        </p:blipFill>
        <p:spPr>
          <a:xfrm>
            <a:off x="0" y="1773360"/>
            <a:ext cx="5364000" cy="4566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Рис"/>
          <p:cNvPicPr/>
          <p:nvPr/>
        </p:nvPicPr>
        <p:blipFill>
          <a:blip r:embed="rId3"/>
          <a:srcRect l="23812" t="11679" r="17967" b="8906"/>
          <a:stretch/>
        </p:blipFill>
        <p:spPr>
          <a:xfrm>
            <a:off x="0" y="1341360"/>
            <a:ext cx="4789440" cy="4629240"/>
          </a:xfrm>
          <a:prstGeom prst="rect">
            <a:avLst/>
          </a:prstGeom>
          <a:ln w="0">
            <a:noFill/>
          </a:ln>
        </p:spPr>
      </p:pic>
    </p:spTree>
  </p:cSld>
  <p:transition advTm="60000">
    <p:wipe dir="d"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658b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Oval 4"/>
          <p:cNvSpPr/>
          <p:nvPr/>
        </p:nvSpPr>
        <p:spPr>
          <a:xfrm>
            <a:off x="108000" y="4221000"/>
            <a:ext cx="417672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5"/>
          <p:cNvSpPr/>
          <p:nvPr/>
        </p:nvSpPr>
        <p:spPr>
          <a:xfrm>
            <a:off x="4643280" y="4292640"/>
            <a:ext cx="446436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2411280" y="2781360"/>
            <a:ext cx="403236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е основные задачи Н.Г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684360" y="3213000"/>
            <a:ext cx="1368360" cy="86544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151200 h 865440"/>
              <a:gd name="textAreaBottom" fmla="*/ 627480 h 8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6948360" y="3141720"/>
            <a:ext cx="1368720" cy="865080"/>
          </a:xfrm>
          <a:custGeom>
            <a:avLst/>
            <a:gdLst>
              <a:gd name="textAreaLeft" fmla="*/ 183240 w 1368720"/>
              <a:gd name="textAreaRight" fmla="*/ 1185480 w 1368720"/>
              <a:gd name="textAreaTop" fmla="*/ 151200 h 865080"/>
              <a:gd name="textAreaBottom" fmla="*/ 62712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едмет «Начертательная геометрия» (Н.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0920" y="836640"/>
            <a:ext cx="80866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Н.Г. изучает законы отображения трехмерного пространства на  двумерную плоскость методами проекций и сеч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Основоположником начертательной геометрии и метода ортогонального проецирования является французский математик, геометр Гаспар Монж (1746-1818гг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-36360" y="4051440"/>
            <a:ext cx="41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ая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роить изображение пространственного предмета на чертеж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859280" y="4292640"/>
            <a:ext cx="39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тна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конструкция пространственного предмета по чертеж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900000" y="5805360"/>
            <a:ext cx="708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Построение любого изображения выполняется с помощью операци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ецирования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99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3" descr="гаспар монж"/>
          <p:cNvPicPr/>
          <p:nvPr/>
        </p:nvPicPr>
        <p:blipFill>
          <a:blip r:embed="rId1"/>
          <a:stretch/>
        </p:blipFill>
        <p:spPr>
          <a:xfrm>
            <a:off x="2916360" y="2349360"/>
            <a:ext cx="3497040" cy="4246560"/>
          </a:xfrm>
          <a:prstGeom prst="rect">
            <a:avLst/>
          </a:prstGeom>
          <a:ln w="0">
            <a:noFill/>
          </a:ln>
        </p:spPr>
      </p:pic>
    </p:spTree>
  </p:cSld>
  <p:transition advTm="60000">
    <p:wipe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" dur="2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fc0"/>
            </a:gs>
            <a:gs pos="100000">
              <a:srgbClr val="ff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930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Arial"/>
              </a:rPr>
              <a:t>Взаимное расположение двух прямых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4211640" y="620640"/>
            <a:ext cx="47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Скрещивающиеся прям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(не имеют общих точек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5076720" y="1700280"/>
            <a:ext cx="40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е прямые  скрещиваются между собой, если точки пересечения их одноименных проекций лежат на разных линиях связ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5518080" y="3356640"/>
            <a:ext cx="1250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9" descr="Рис"/>
          <p:cNvPicPr/>
          <p:nvPr/>
        </p:nvPicPr>
        <p:blipFill>
          <a:blip r:embed="rId1"/>
          <a:srcRect l="41399" t="7325" r="6871" b="0"/>
          <a:stretch/>
        </p:blipFill>
        <p:spPr>
          <a:xfrm>
            <a:off x="395280" y="765000"/>
            <a:ext cx="5676840" cy="6093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Рис"/>
          <p:cNvPicPr/>
          <p:nvPr/>
        </p:nvPicPr>
        <p:blipFill>
          <a:blip r:embed="rId2"/>
          <a:srcRect l="17647" t="3673" r="30127" b="0"/>
          <a:stretch/>
        </p:blipFill>
        <p:spPr>
          <a:xfrm>
            <a:off x="-108000" y="476280"/>
            <a:ext cx="5983200" cy="6610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Рис"/>
          <p:cNvPicPr/>
          <p:nvPr/>
        </p:nvPicPr>
        <p:blipFill>
          <a:blip r:embed="rId3"/>
          <a:srcRect l="22846" t="0" r="18932" b="0"/>
          <a:stretch/>
        </p:blipFill>
        <p:spPr>
          <a:xfrm>
            <a:off x="244440" y="692280"/>
            <a:ext cx="4614840" cy="56163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3"/>
          <p:cNvSpPr/>
          <p:nvPr/>
        </p:nvSpPr>
        <p:spPr>
          <a:xfrm>
            <a:off x="5289120" y="4149720"/>
            <a:ext cx="315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чки 1 и 2, 3 и 4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курирующие то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5146200" y="5084640"/>
            <a:ext cx="34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курирующие точки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чки, лежащие на од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ецирующей пря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wipe dir="d"/>
  </p:transition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e3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8930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Положение прямых линий относительно</a:t>
            </a:r>
            <a:br>
              <a:rPr sz="2800"/>
            </a:b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плоскостей проек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250920" y="1197000"/>
            <a:ext cx="46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 зависимости от своего положения относительно плоскостей проекций прямые разделяют на прямые общего положения и прямые частного по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324000" y="2913120"/>
            <a:ext cx="4174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Прямая общего полож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прямая, которая имеет углы, отличные от 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9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одновременно со всеми тремя плоскостями проекции 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324000" y="5013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ые, параллельные  плоскостям проекций или перпендикулярные к ним, называются  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прямыми частного полож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2" descr="Рис"/>
          <p:cNvPicPr/>
          <p:nvPr/>
        </p:nvPicPr>
        <p:blipFill>
          <a:blip r:embed="rId1"/>
          <a:srcRect l="24342" t="7241" r="22705" b="5172"/>
          <a:stretch/>
        </p:blipFill>
        <p:spPr>
          <a:xfrm>
            <a:off x="4390920" y="1216080"/>
            <a:ext cx="4753080" cy="4589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3" descr="Рис"/>
          <p:cNvPicPr/>
          <p:nvPr/>
        </p:nvPicPr>
        <p:blipFill>
          <a:blip r:embed="rId2"/>
          <a:srcRect l="27702" t="7578" r="33498" b="0"/>
          <a:stretch/>
        </p:blipFill>
        <p:spPr>
          <a:xfrm>
            <a:off x="5005440" y="1197000"/>
            <a:ext cx="3814560" cy="5761080"/>
          </a:xfrm>
          <a:prstGeom prst="rect">
            <a:avLst/>
          </a:prstGeom>
          <a:ln w="0">
            <a:noFill/>
          </a:ln>
        </p:spPr>
      </p:pic>
    </p:spTree>
  </p:cSld>
  <p:transition advTm="60000">
    <p:wipe dir="d"/>
  </p:transition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2e2"/>
            </a:gs>
            <a:gs pos="100000">
              <a:srgbClr val="ffcc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8930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Прямые частного положения. Линии уров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4932360" y="1125360"/>
            <a:ext cx="46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Горизонталь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– линия, все точки которой имеют одинаковую координату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аппликат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5003640" y="1989000"/>
            <a:ext cx="41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изонталь параллельна горизонтальной плоскости проек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5005440" y="285264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значение горизонтал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║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9" descr="Рис"/>
          <p:cNvPicPr/>
          <p:nvPr/>
        </p:nvPicPr>
        <p:blipFill>
          <a:blip r:embed="rId1"/>
          <a:srcRect l="21914" t="28453" r="47050" b="25806"/>
          <a:stretch/>
        </p:blipFill>
        <p:spPr>
          <a:xfrm>
            <a:off x="-36360" y="1628640"/>
            <a:ext cx="5113080" cy="451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Рис"/>
          <p:cNvPicPr/>
          <p:nvPr/>
        </p:nvPicPr>
        <p:blipFill>
          <a:blip r:embed="rId2"/>
          <a:srcRect l="20075" t="7122" r="48392" b="45141"/>
          <a:stretch/>
        </p:blipFill>
        <p:spPr>
          <a:xfrm>
            <a:off x="-324000" y="1557360"/>
            <a:ext cx="5256360" cy="4768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Рис"/>
          <p:cNvPicPr/>
          <p:nvPr/>
        </p:nvPicPr>
        <p:blipFill>
          <a:blip r:embed="rId3"/>
          <a:srcRect l="23739" t="7706" r="38529" b="43912"/>
          <a:stretch/>
        </p:blipFill>
        <p:spPr>
          <a:xfrm>
            <a:off x="4572000" y="3429000"/>
            <a:ext cx="4464000" cy="3429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Рис"/>
          <p:cNvPicPr/>
          <p:nvPr/>
        </p:nvPicPr>
        <p:blipFill>
          <a:blip r:embed="rId4"/>
          <a:srcRect l="21914" t="28473" r="42178" b="22764"/>
          <a:stretch/>
        </p:blipFill>
        <p:spPr>
          <a:xfrm>
            <a:off x="4645080" y="3357720"/>
            <a:ext cx="4248000" cy="3456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Рис"/>
          <p:cNvPicPr/>
          <p:nvPr/>
        </p:nvPicPr>
        <p:blipFill>
          <a:blip r:embed="rId5"/>
          <a:srcRect l="7300" t="7325" r="0" b="12410"/>
          <a:stretch/>
        </p:blipFill>
        <p:spPr>
          <a:xfrm>
            <a:off x="4788000" y="3573360"/>
            <a:ext cx="4484520" cy="23259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8"/>
          <p:cNvSpPr/>
          <p:nvPr/>
        </p:nvSpPr>
        <p:spPr>
          <a:xfrm>
            <a:off x="684360" y="4149720"/>
            <a:ext cx="374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: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s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для всех точек лини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натуральная   величина прямой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α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угол наклона прямой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плоскост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угол наклона прямой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плоскост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7" descr="Рис"/>
          <p:cNvPicPr/>
          <p:nvPr/>
        </p:nvPicPr>
        <p:blipFill>
          <a:blip r:embed="rId6"/>
          <a:srcRect l="18867" t="10369" r="44606" b="24966"/>
          <a:stretch/>
        </p:blipFill>
        <p:spPr>
          <a:xfrm>
            <a:off x="1042920" y="1052640"/>
            <a:ext cx="3065400" cy="2808000"/>
          </a:xfrm>
          <a:prstGeom prst="rect">
            <a:avLst/>
          </a:prstGeom>
          <a:ln w="0">
            <a:noFill/>
          </a:ln>
        </p:spPr>
      </p:pic>
    </p:spTree>
  </p:cSld>
  <p:transition advTm="60000">
    <p:wipe dir="d"/>
  </p:transition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2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2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2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2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f0f0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8930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Прямые частного положения.  Линии уров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324000" y="1125360"/>
            <a:ext cx="46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Фронтал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линия, все точки которой имеют одинаковую  координату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ордината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324000" y="198900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ронталь параллельна фронтальной плоскости проекци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324000" y="25653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значение фронтал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║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4788000" y="4365720"/>
            <a:ext cx="374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: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для всех точек прямо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натуральная   величина отрезк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угол наклона прямой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плоскост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угол наклона прямой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плоскост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3" descr="Рис"/>
          <p:cNvPicPr/>
          <p:nvPr/>
        </p:nvPicPr>
        <p:blipFill>
          <a:blip r:embed="rId1"/>
          <a:srcRect l="37762" t="38043" r="34295" b="25631"/>
          <a:stretch/>
        </p:blipFill>
        <p:spPr>
          <a:xfrm>
            <a:off x="3419640" y="981000"/>
            <a:ext cx="5724360" cy="5283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4" descr="Рис"/>
          <p:cNvPicPr/>
          <p:nvPr/>
        </p:nvPicPr>
        <p:blipFill>
          <a:blip r:embed="rId2"/>
          <a:srcRect l="36233" t="14530" r="37356" b="50861"/>
          <a:stretch/>
        </p:blipFill>
        <p:spPr>
          <a:xfrm>
            <a:off x="3635280" y="907920"/>
            <a:ext cx="5400720" cy="5024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6" descr="Рис"/>
          <p:cNvPicPr/>
          <p:nvPr/>
        </p:nvPicPr>
        <p:blipFill>
          <a:blip r:embed="rId3"/>
          <a:srcRect l="48526" t="10392" r="21391" b="54139"/>
          <a:stretch/>
        </p:blipFill>
        <p:spPr>
          <a:xfrm>
            <a:off x="216000" y="2971800"/>
            <a:ext cx="4572000" cy="3825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7" descr="Рис"/>
          <p:cNvPicPr/>
          <p:nvPr/>
        </p:nvPicPr>
        <p:blipFill>
          <a:blip r:embed="rId4"/>
          <a:srcRect l="45103" t="30972" r="23856" b="31828"/>
          <a:stretch/>
        </p:blipFill>
        <p:spPr>
          <a:xfrm>
            <a:off x="0" y="2844720"/>
            <a:ext cx="4716360" cy="4013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8" descr="Рис"/>
          <p:cNvPicPr/>
          <p:nvPr/>
        </p:nvPicPr>
        <p:blipFill>
          <a:blip r:embed="rId5"/>
          <a:srcRect l="38072" t="34272" r="33687" b="39781"/>
          <a:stretch/>
        </p:blipFill>
        <p:spPr>
          <a:xfrm>
            <a:off x="-252360" y="3429000"/>
            <a:ext cx="4392720" cy="2865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9" descr="Рис"/>
          <p:cNvPicPr/>
          <p:nvPr/>
        </p:nvPicPr>
        <p:blipFill>
          <a:blip r:embed="rId6"/>
          <a:srcRect l="19042" t="16712" r="48150" b="13917"/>
          <a:stretch/>
        </p:blipFill>
        <p:spPr>
          <a:xfrm>
            <a:off x="5353200" y="692280"/>
            <a:ext cx="2714400" cy="3746520"/>
          </a:xfrm>
          <a:prstGeom prst="rect">
            <a:avLst/>
          </a:prstGeom>
          <a:ln w="0">
            <a:noFill/>
          </a:ln>
        </p:spPr>
      </p:pic>
    </p:spTree>
  </p:cSld>
  <p:transition advTm="60000">
    <p:wipe dir="d"/>
  </p:transition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2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2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e9e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8930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Прямые частного положения. Линии уров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324000" y="112536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фильная линия  – линия, все точки которой имеют одинаковую координату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абсцисс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324000" y="2297160"/>
            <a:ext cx="35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фильная  линия  параллельна профильной плоскости проек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324000" y="329256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значим профильную линию буквой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║ 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324000" y="3960720"/>
            <a:ext cx="360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проекции профильной прямой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овпадают с линией связи. Для  описания профильной линии (прямой) на комплексном чертеже необходимо вводить  профильную плоскость проекций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5"/>
          <p:cNvSpPr/>
          <p:nvPr/>
        </p:nvSpPr>
        <p:spPr>
          <a:xfrm>
            <a:off x="3287880" y="342792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3708360" y="5445000"/>
            <a:ext cx="52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натуральная   величина отрезка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α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угол наклона прямой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плоскост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угол наклона прямой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плоскост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7" descr="Рис"/>
          <p:cNvPicPr/>
          <p:nvPr/>
        </p:nvPicPr>
        <p:blipFill>
          <a:blip r:embed="rId1"/>
          <a:srcRect l="50976" t="0" r="24452" b="62801"/>
          <a:stretch/>
        </p:blipFill>
        <p:spPr>
          <a:xfrm>
            <a:off x="3664080" y="576360"/>
            <a:ext cx="5265720" cy="5661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8" descr="Рис"/>
          <p:cNvPicPr/>
          <p:nvPr/>
        </p:nvPicPr>
        <p:blipFill>
          <a:blip r:embed="rId2"/>
          <a:srcRect l="50040" t="39625" r="25091" b="26358"/>
          <a:stretch/>
        </p:blipFill>
        <p:spPr>
          <a:xfrm>
            <a:off x="3484440" y="981000"/>
            <a:ext cx="5561280" cy="5400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0" descr="Рис"/>
          <p:cNvPicPr/>
          <p:nvPr/>
        </p:nvPicPr>
        <p:blipFill>
          <a:blip r:embed="rId3"/>
          <a:srcRect l="16574" t="13523" r="53740" b="27673"/>
          <a:stretch/>
        </p:blipFill>
        <p:spPr>
          <a:xfrm>
            <a:off x="4500720" y="1268280"/>
            <a:ext cx="2968560" cy="4175280"/>
          </a:xfrm>
          <a:prstGeom prst="rect">
            <a:avLst/>
          </a:prstGeom>
          <a:ln w="0">
            <a:noFill/>
          </a:ln>
        </p:spPr>
      </p:pic>
    </p:spTree>
  </p:cSld>
  <p:transition advTm="60000">
    <p:wipe dir="d"/>
  </p:transition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cec"/>
            </a:gs>
            <a:gs pos="100000">
              <a:srgbClr val="ffcc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2560" y="260280"/>
            <a:ext cx="8893080" cy="47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Прямые частного паоложения. Проецирующие прям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 flipH="1">
            <a:off x="4642560" y="1125360"/>
            <a:ext cx="43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Горизонтально-проецирующая прям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линия, перпендикулярная горизонтальной плоскости проек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4716360" y="2309760"/>
            <a:ext cx="44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изонтально-проециру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ая параллельна фронта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профильной плоскостям проек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4716360" y="350820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значим горизонтально-проецирующую прямую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╨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4716360" y="4183200"/>
            <a:ext cx="42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горизонтально-проецирующая прямая проецируется в точку (теряет одно измерени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287880" y="342792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4716360" y="53802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: а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= 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натуральная велич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Рис"/>
          <p:cNvPicPr/>
          <p:nvPr/>
        </p:nvPicPr>
        <p:blipFill>
          <a:blip r:embed="rId1"/>
          <a:srcRect l="35609" t="15235" r="23856" b="30263"/>
          <a:stretch/>
        </p:blipFill>
        <p:spPr>
          <a:xfrm>
            <a:off x="34920" y="1052640"/>
            <a:ext cx="4753080" cy="4537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3" descr="Рис"/>
          <p:cNvPicPr/>
          <p:nvPr/>
        </p:nvPicPr>
        <p:blipFill>
          <a:blip r:embed="rId2"/>
          <a:srcRect l="36879" t="8215" r="43723" b="39752"/>
          <a:stretch/>
        </p:blipFill>
        <p:spPr>
          <a:xfrm>
            <a:off x="1136520" y="1341360"/>
            <a:ext cx="2570400" cy="5516640"/>
          </a:xfrm>
          <a:prstGeom prst="rect">
            <a:avLst/>
          </a:prstGeom>
          <a:ln w="0">
            <a:noFill/>
          </a:ln>
        </p:spPr>
      </p:pic>
    </p:spTree>
  </p:cSld>
  <p:transition advTm="60000">
    <p:wipe dir="d"/>
  </p:transition>
  <p:timing>
    <p:tnLst>
      <p:par>
        <p:cTn id="1318" dur="indefinite" restart="never" nodeType="tmRoot">
          <p:childTnLst>
            <p:seq>
              <p:cTn id="1319" dur="indefinite" nodeType="mainSeq">
                <p:childTnLst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2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dede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1280" y="260280"/>
            <a:ext cx="8893440" cy="47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Прямые частного положения. Проецирующие прям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 flipH="1">
            <a:off x="325440" y="1197000"/>
            <a:ext cx="431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Фронтально-проецирующая прям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линия, перпендикулярная фронтальной плоскости проекц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324000" y="227664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ронтально-проецирующая прямая параллельна горизонтальной и профильной плоскости проек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24000" y="335772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значим фронтально-проецирующую прямую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╨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324000" y="4183200"/>
            <a:ext cx="42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фронтально-проецирующая прямая проецируется в точку (теряет одно измерени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287880" y="342792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324000" y="53802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П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натуральная велич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Рис"/>
          <p:cNvPicPr/>
          <p:nvPr/>
        </p:nvPicPr>
        <p:blipFill>
          <a:blip r:embed="rId1"/>
          <a:srcRect l="43301" t="22483" r="24765" b="32533"/>
          <a:stretch/>
        </p:blipFill>
        <p:spPr>
          <a:xfrm>
            <a:off x="4248000" y="944640"/>
            <a:ext cx="5077080" cy="5076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Рис"/>
          <p:cNvPicPr/>
          <p:nvPr/>
        </p:nvPicPr>
        <p:blipFill>
          <a:blip r:embed="rId2"/>
          <a:srcRect l="78361" t="28101" r="7295" b="13013"/>
          <a:stretch/>
        </p:blipFill>
        <p:spPr>
          <a:xfrm>
            <a:off x="5940360" y="692280"/>
            <a:ext cx="1805040" cy="5516280"/>
          </a:xfrm>
          <a:prstGeom prst="rect">
            <a:avLst/>
          </a:prstGeom>
          <a:ln w="0">
            <a:noFill/>
          </a:ln>
        </p:spPr>
      </p:pic>
    </p:spTree>
  </p:cSld>
  <p:transition advTm="60000">
    <p:wipe dir="d"/>
  </p:transition>
  <p:timing>
    <p:tnLst>
      <p:par>
        <p:cTn id="1375" dur="indefinite" restart="never" nodeType="tmRoot">
          <p:childTnLst>
            <p:seq>
              <p:cTn id="1376" dur="indefinite" nodeType="mainSeq">
                <p:childTnLst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c5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44280"/>
            <a:ext cx="8893080" cy="47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 flipH="1">
            <a:off x="330120" y="620640"/>
            <a:ext cx="881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ово направление проецирующего луча пр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тогональном проецирован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324000" y="11318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овите 5 основных позиционных свойств ортогонального проецир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324000" y="17002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жет ли при ортогональном проецирован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ина проекции отрезка быть больше натуральной величины отрезка? Меньше? Равн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324000" y="2276640"/>
            <a:ext cx="58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ецируется ли при ортогональном проецировании любой прямой угол в натуральную величину? Какое условие должно быть при этом выполнен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3287880" y="342792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324000" y="3363840"/>
            <a:ext cx="57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такое однокартинный чертеж? Является ли однокартинный чертеж обратимым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324000" y="3933720"/>
            <a:ext cx="57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необходимо сделать, чтобы чертеж стал обратимым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324000" y="450864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ой чертеж называется комплексным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1"/>
          <p:cNvSpPr/>
          <p:nvPr/>
        </p:nvSpPr>
        <p:spPr>
          <a:xfrm>
            <a:off x="324000" y="4869000"/>
            <a:ext cx="54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олько проекций точки на К.Ч. должно быть задано, чтобы она была задана однозначно? А сколько проекций лин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324000" y="566748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ая точка расположена выше А или 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какая ближ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6" descr="1д"/>
          <p:cNvPicPr/>
          <p:nvPr/>
        </p:nvPicPr>
        <p:blipFill>
          <a:blip r:embed="rId1"/>
          <a:srcRect l="40573" t="9740" r="36953" b="11982"/>
          <a:stretch/>
        </p:blipFill>
        <p:spPr>
          <a:xfrm>
            <a:off x="6443640" y="2565360"/>
            <a:ext cx="2036880" cy="3960720"/>
          </a:xfrm>
          <a:prstGeom prst="rect">
            <a:avLst/>
          </a:prstGeom>
          <a:ln w="0">
            <a:noFill/>
          </a:ln>
        </p:spPr>
      </p:pic>
    </p:spTree>
  </p:cSld>
  <p:transition advTm="60000">
    <p:wipe dir="d"/>
  </p:transition>
  <p:timing>
    <p:tnLst>
      <p:par>
        <p:cTn id="1432" dur="indefinite" restart="never" nodeType="tmRoot">
          <p:childTnLst>
            <p:seq>
              <p:cTn id="1433" dur="indefinite" nodeType="mainSeq">
                <p:childTnLst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2c2c2"/>
            </a:gs>
            <a:gs pos="100000">
              <a:srgbClr val="80808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44280"/>
            <a:ext cx="8893080" cy="47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3287880" y="342792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5"/>
          <p:cNvSpPr/>
          <p:nvPr/>
        </p:nvSpPr>
        <p:spPr>
          <a:xfrm>
            <a:off x="539640" y="83664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расположены прямы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 отношению друг к другу? Как называются проекции прямых обозначенные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в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в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6" descr="Рис"/>
          <p:cNvPicPr/>
          <p:nvPr/>
        </p:nvPicPr>
        <p:blipFill>
          <a:blip r:embed="rId1"/>
          <a:srcRect l="30612" t="0" r="30588" b="0"/>
          <a:stretch/>
        </p:blipFill>
        <p:spPr>
          <a:xfrm>
            <a:off x="5119560" y="44280"/>
            <a:ext cx="3421080" cy="4896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7" descr="Рис"/>
          <p:cNvPicPr/>
          <p:nvPr/>
        </p:nvPicPr>
        <p:blipFill>
          <a:blip r:embed="rId2"/>
          <a:srcRect l="28667" t="8933" r="20877" b="10296"/>
          <a:stretch/>
        </p:blipFill>
        <p:spPr>
          <a:xfrm>
            <a:off x="5076720" y="482760"/>
            <a:ext cx="4067280" cy="39542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8" descr="Рис"/>
          <p:cNvPicPr/>
          <p:nvPr/>
        </p:nvPicPr>
        <p:blipFill>
          <a:blip r:embed="rId3"/>
          <a:srcRect l="26717" t="0" r="22827" b="0"/>
          <a:stretch/>
        </p:blipFill>
        <p:spPr>
          <a:xfrm>
            <a:off x="5219640" y="476280"/>
            <a:ext cx="3427560" cy="381636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19"/>
          <p:cNvSpPr/>
          <p:nvPr/>
        </p:nvSpPr>
        <p:spPr>
          <a:xfrm flipH="1">
            <a:off x="539640" y="1989000"/>
            <a:ext cx="48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ие прямые являются прямыми общего положения? Частного полож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0"/>
          <p:cNvSpPr/>
          <p:nvPr/>
        </p:nvSpPr>
        <p:spPr>
          <a:xfrm>
            <a:off x="3995640" y="4581360"/>
            <a:ext cx="45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расположены по отношению к плоскостям проекций горизонталь? Фронталь? Профильная пряма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3995640" y="5661000"/>
            <a:ext cx="52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называется прямая, заданная на К.Ч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ая проекция является натуральной величиной заданной прям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2" descr="Рис"/>
          <p:cNvPicPr/>
          <p:nvPr/>
        </p:nvPicPr>
        <p:blipFill>
          <a:blip r:embed="rId4"/>
          <a:srcRect l="25223" t="4107" r="30142" b="9659"/>
          <a:stretch/>
        </p:blipFill>
        <p:spPr>
          <a:xfrm>
            <a:off x="179280" y="2852640"/>
            <a:ext cx="3313080" cy="3745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3" descr="Рис"/>
          <p:cNvPicPr/>
          <p:nvPr/>
        </p:nvPicPr>
        <p:blipFill>
          <a:blip r:embed="rId5"/>
          <a:srcRect l="22519" t="9337" r="44004" b="21838"/>
          <a:stretch/>
        </p:blipFill>
        <p:spPr>
          <a:xfrm>
            <a:off x="539640" y="2781360"/>
            <a:ext cx="3179880" cy="38163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4" descr="Рис"/>
          <p:cNvPicPr/>
          <p:nvPr/>
        </p:nvPicPr>
        <p:blipFill>
          <a:blip r:embed="rId6"/>
          <a:srcRect l="25757" t="0" r="18932" b="7544"/>
          <a:stretch/>
        </p:blipFill>
        <p:spPr>
          <a:xfrm>
            <a:off x="-36360" y="2527200"/>
            <a:ext cx="3436920" cy="4070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5" descr="Рис"/>
          <p:cNvPicPr/>
          <p:nvPr/>
        </p:nvPicPr>
        <p:blipFill>
          <a:blip r:embed="rId7"/>
          <a:srcRect l="34483" t="15786" r="47080" b="19859"/>
          <a:stretch/>
        </p:blipFill>
        <p:spPr>
          <a:xfrm>
            <a:off x="1332000" y="2708280"/>
            <a:ext cx="1717560" cy="4248000"/>
          </a:xfrm>
          <a:prstGeom prst="rect">
            <a:avLst/>
          </a:prstGeom>
          <a:ln w="0">
            <a:noFill/>
          </a:ln>
        </p:spPr>
      </p:pic>
    </p:spTree>
  </p:cSld>
  <p:transition advTm="60000">
    <p:wipe dir="d"/>
  </p:transition>
  <p:timing>
    <p:tnLst>
      <p:par>
        <p:cTn id="1511" dur="indefinite" restart="never" nodeType="tmRoot">
          <p:childTnLst>
            <p:seq>
              <p:cTn id="1512" dur="indefinite" nodeType="mainSeq">
                <p:childTnLst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9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5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8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4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3b3b3"/>
            </a:gs>
            <a:gs pos="100000">
              <a:srgbClr val="8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86920" y="115560"/>
            <a:ext cx="88930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3203640" y="76500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расположены по отношению к плоскостям проекций горизонтально проецирующая прямая? фронтально проецирующая пряма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3"/>
          <p:cNvSpPr/>
          <p:nvPr/>
        </p:nvSpPr>
        <p:spPr>
          <a:xfrm>
            <a:off x="3203640" y="164952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называется прямая, заданная на К.Ч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ая проекция является натуральной величиной заданной прям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4" descr="Рис"/>
          <p:cNvPicPr/>
          <p:nvPr/>
        </p:nvPicPr>
        <p:blipFill>
          <a:blip r:embed="rId1"/>
          <a:srcRect l="32024" t="0" r="42758" b="42504"/>
          <a:stretch/>
        </p:blipFill>
        <p:spPr>
          <a:xfrm>
            <a:off x="611280" y="-531720"/>
            <a:ext cx="2406600" cy="45370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5" descr="Рис"/>
          <p:cNvPicPr/>
          <p:nvPr/>
        </p:nvPicPr>
        <p:blipFill>
          <a:blip r:embed="rId2"/>
          <a:srcRect l="69863" t="34228" r="0" b="20941"/>
          <a:stretch/>
        </p:blipFill>
        <p:spPr>
          <a:xfrm>
            <a:off x="179280" y="-243000"/>
            <a:ext cx="3297240" cy="360072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27"/>
          <p:cNvSpPr/>
          <p:nvPr/>
        </p:nvSpPr>
        <p:spPr>
          <a:xfrm>
            <a:off x="684360" y="3835440"/>
            <a:ext cx="38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ройте перпендикуляр из точки А  к прямой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а какой плоскости проекций прямой угол проецируется в натуральную величин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8" descr="1е"/>
          <p:cNvPicPr/>
          <p:nvPr/>
        </p:nvPicPr>
        <p:blipFill>
          <a:blip r:embed="rId3"/>
          <a:srcRect l="12633" t="11867" r="50090" b="11867"/>
          <a:stretch/>
        </p:blipFill>
        <p:spPr>
          <a:xfrm>
            <a:off x="4572000" y="2205000"/>
            <a:ext cx="4035600" cy="4390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9" descr="1ж"/>
          <p:cNvPicPr/>
          <p:nvPr/>
        </p:nvPicPr>
        <p:blipFill>
          <a:blip r:embed="rId4"/>
          <a:srcRect l="43928" t="0" r="20006" b="14051"/>
          <a:stretch/>
        </p:blipFill>
        <p:spPr>
          <a:xfrm>
            <a:off x="4732200" y="2131920"/>
            <a:ext cx="3440160" cy="46818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0" descr="1з"/>
          <p:cNvPicPr/>
          <p:nvPr/>
        </p:nvPicPr>
        <p:blipFill>
          <a:blip r:embed="rId5"/>
          <a:srcRect l="11312" t="5740" r="46976" b="12967"/>
          <a:stretch/>
        </p:blipFill>
        <p:spPr>
          <a:xfrm>
            <a:off x="4356000" y="2355840"/>
            <a:ext cx="3888000" cy="436248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31"/>
          <p:cNvSpPr/>
          <p:nvPr/>
        </p:nvSpPr>
        <p:spPr>
          <a:xfrm>
            <a:off x="684360" y="5321160"/>
            <a:ext cx="41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ите  натуральную величину построенного отрезка А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32" descr="1и"/>
          <p:cNvPicPr/>
          <p:nvPr/>
        </p:nvPicPr>
        <p:blipFill>
          <a:blip r:embed="rId6"/>
          <a:srcRect l="27289" t="11867" r="43442" b="22770"/>
          <a:stretch/>
        </p:blipFill>
        <p:spPr>
          <a:xfrm>
            <a:off x="5076720" y="2421000"/>
            <a:ext cx="3252960" cy="44370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3" descr="1к"/>
          <p:cNvPicPr/>
          <p:nvPr/>
        </p:nvPicPr>
        <p:blipFill>
          <a:blip r:embed="rId7"/>
          <a:srcRect l="18971" t="11867" r="40774" b="22770"/>
          <a:stretch/>
        </p:blipFill>
        <p:spPr>
          <a:xfrm>
            <a:off x="4211640" y="2492280"/>
            <a:ext cx="4356000" cy="4321440"/>
          </a:xfrm>
          <a:prstGeom prst="rect">
            <a:avLst/>
          </a:prstGeom>
          <a:ln w="0">
            <a:noFill/>
          </a:ln>
        </p:spPr>
      </p:pic>
    </p:spTree>
  </p:cSld>
  <p:transition advTm="60000">
    <p:wipe dir="d"/>
  </p:transition>
  <p:timing>
    <p:tnLst>
      <p:par>
        <p:cTn id="1605" dur="indefinite" restart="never" nodeType="tmRoot">
          <p:childTnLst>
            <p:seq>
              <p:cTn id="1606" dur="indefinite" nodeType="mainSeq">
                <p:childTnLst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9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7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2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0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0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0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8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2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8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280" y="115560"/>
            <a:ext cx="838836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иды проец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58920" y="54936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Линейное центральное проец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1"/>
          <p:cNvPicPr/>
          <p:nvPr/>
        </p:nvPicPr>
        <p:blipFill>
          <a:blip r:embed="rId1"/>
          <a:srcRect l="13457" t="9952" r="40288" b="14336"/>
          <a:stretch/>
        </p:blipFill>
        <p:spPr>
          <a:xfrm>
            <a:off x="-757080" y="1197000"/>
            <a:ext cx="5329080" cy="53290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3"/>
          <p:cNvSpPr/>
          <p:nvPr/>
        </p:nvSpPr>
        <p:spPr>
          <a:xfrm>
            <a:off x="4211640" y="1391760"/>
            <a:ext cx="4859280" cy="36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центр проецирова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плоскость проекций или картинная плоск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, В - точки пространст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проецирующий луч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, в  - направление проецирова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В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нтральные  проекции точек А и В на плоскость П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4356000" y="1197000"/>
            <a:ext cx="3959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ппарат проец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4643280" y="4581360"/>
            <a:ext cx="402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екцией фигуры называется множество проекций всех ее точе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6"/>
          <p:cNvSpPr/>
          <p:nvPr/>
        </p:nvSpPr>
        <p:spPr>
          <a:xfrm>
            <a:off x="4643280" y="5445000"/>
            <a:ext cx="43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т закономерных отношений между   линейными размерами геометрического образа (Г.О.) и его  проекц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wipe dir="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41672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иды проец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24000" y="549360"/>
            <a:ext cx="7200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Параллельное проец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24000" y="2017080"/>
            <a:ext cx="446400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 - направление проец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лоскость проекц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, В - точки простран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В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екции точек А и В на плоскость П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2"/>
          <p:cNvPicPr/>
          <p:nvPr/>
        </p:nvPicPr>
        <p:blipFill>
          <a:blip r:embed="rId1"/>
          <a:srcRect l="26932" t="5949" r="35628" b="20978"/>
          <a:stretch/>
        </p:blipFill>
        <p:spPr>
          <a:xfrm>
            <a:off x="4522680" y="907920"/>
            <a:ext cx="4521240" cy="54007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539640" y="148428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ппарат проец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611280" y="4221000"/>
            <a:ext cx="41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екцией фигуры называется множество проекций всех ее точе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611280" y="530028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т закономерных отношений между   линейными размерами геометрического образа (Г.О.) и его  проекц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wipe dir="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652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иды проец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692000" y="549360"/>
            <a:ext cx="745164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Ортогональное  проец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4067280" y="1507320"/>
            <a:ext cx="4895640" cy="29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 - направление проецирова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лоскость проекц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, В - точки пространст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В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тогональные проекции точек А и В на плоскость П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3"/>
          <p:cNvPicPr/>
          <p:nvPr/>
        </p:nvPicPr>
        <p:blipFill>
          <a:blip r:embed="rId1"/>
          <a:srcRect l="6181" t="11242" r="50911" b="15715"/>
          <a:stretch/>
        </p:blipFill>
        <p:spPr>
          <a:xfrm>
            <a:off x="-28440" y="1125360"/>
            <a:ext cx="4628880" cy="48247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4500720" y="3789360"/>
            <a:ext cx="41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екцией фигуры называется множество проекций всех ее точе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4573440" y="112536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ппарат проец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4500720" y="4797360"/>
            <a:ext cx="464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ществуют определенные закономерности между геометрическим образом (Г.О.) и его ортогональной проекцией: позиционные и метрические свойства ортогонального проецир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wipe dir="d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ffff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8893080" cy="47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Основные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зиционные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свойства ортогонального проецир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500720" y="2296080"/>
            <a:ext cx="41050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ой точке проецируемого Г.О. соответствует одна точка на плоскости проекц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4"/>
          <p:cNvPicPr/>
          <p:nvPr/>
        </p:nvPicPr>
        <p:blipFill>
          <a:blip r:embed="rId1"/>
          <a:srcRect l="53403" t="16401" r="0" b="14992"/>
          <a:stretch/>
        </p:blipFill>
        <p:spPr>
          <a:xfrm>
            <a:off x="-36360" y="1135080"/>
            <a:ext cx="5435280" cy="4900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7"/>
          <p:cNvSpPr/>
          <p:nvPr/>
        </p:nvSpPr>
        <p:spPr>
          <a:xfrm>
            <a:off x="6300720" y="15559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5003640" y="4724280"/>
            <a:ext cx="28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обратная зависимость неоднозначн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wipe dir="d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5"/>
          <p:cNvPicPr/>
          <p:nvPr/>
        </p:nvPicPr>
        <p:blipFill>
          <a:blip r:embed="rId1"/>
          <a:srcRect l="0" t="0" r="52540" b="0"/>
          <a:stretch/>
        </p:blipFill>
        <p:spPr>
          <a:xfrm>
            <a:off x="34920" y="1197000"/>
            <a:ext cx="4411800" cy="56894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8930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Основные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зиционные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свойства ортогонального проецир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932360" y="2569320"/>
            <a:ext cx="403236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екцией прямой лини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является прямая ли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В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ецирующая плоскость </a:t>
            </a:r>
            <a:r>
              <a:rPr b="1" lang="ru-RU" sz="2000" spc="-1" strike="noStrike">
                <a:solidFill>
                  <a:srgbClr val="000000"/>
                </a:solidFill>
                <a:latin typeface="GreekC"/>
              </a:rPr>
              <a:t>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6659640" y="148428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wipe dir="d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ffffff"/>
            </a:gs>
            <a:gs pos="100000">
              <a:srgbClr val="cc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8930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Основные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зиционные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свойства ортогонального проецир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468360" y="2353320"/>
            <a:ext cx="360036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точка принадлежит линии, то ее проекция принадлежит проекции данной лин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АВ  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С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6"/>
          <p:cNvPicPr/>
          <p:nvPr/>
        </p:nvPicPr>
        <p:blipFill>
          <a:blip r:embed="rId1"/>
          <a:srcRect l="26471" t="0" r="19665" b="0"/>
          <a:stretch/>
        </p:blipFill>
        <p:spPr>
          <a:xfrm>
            <a:off x="4052880" y="1052640"/>
            <a:ext cx="4811760" cy="5472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1909440" y="152892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wipe dir="d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8930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Основные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зиционные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свойства ортогонального проецир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716360" y="2288160"/>
            <a:ext cx="424836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екцией точки пересечения двух прямых явля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чка пересечения проекций данных прям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= А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= 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7"/>
          <p:cNvPicPr/>
          <p:nvPr/>
        </p:nvPicPr>
        <p:blipFill>
          <a:blip r:embed="rId1"/>
          <a:srcRect l="11855" t="0" r="33355" b="0"/>
          <a:stretch/>
        </p:blipFill>
        <p:spPr>
          <a:xfrm>
            <a:off x="19080" y="1268280"/>
            <a:ext cx="4768920" cy="53294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6516720" y="15573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wipe dir="d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9T09:43:36Z</dcterms:created>
  <dc:creator>Маришка</dc:creator>
  <dc:description/>
  <dc:language>en-US</dc:language>
  <cp:lastModifiedBy>Name</cp:lastModifiedBy>
  <dcterms:modified xsi:type="dcterms:W3CDTF">2011-02-04T11:36:05Z</dcterms:modified>
  <cp:revision>67</cp:revision>
  <dc:subject/>
  <dc:title>Начертательная геометр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8130000000000010243000207f6000400038000</vt:lpwstr>
  </property>
</Properties>
</file>