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3.jpeg" ContentType="image/jpeg"/>
  <Override PartName="/ppt/media/image28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32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3F2D-60D2-4EE8-A747-81443C27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9E6-03F5-4D63-B7B6-72A7B3B9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C559-F851-446E-A61F-A481C688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35D-5861-408C-8FFA-73AD4E4D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8EF3-9C6F-480B-A596-D613867B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0E4-1CA7-47E2-9835-CBF0D1CF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317C-0063-4ECF-868D-FA54735C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FD65-F23A-4112-8978-F846E4E7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25B3-3B7A-42A3-BC48-7911B756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F8CE-6B17-4023-9213-263464CC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AE04-9DF1-46D3-98B9-0ED7A106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AA71-9818-4670-B95F-972A9DCC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FE6A-B9C8-4DA3-A99D-867961358C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25.wmf"/><Relationship Id="rId3" Type="http://schemas.openxmlformats.org/officeDocument/2006/relationships/image" Target="../media/image28.wmf"/><Relationship Id="rId4" Type="http://schemas.openxmlformats.org/officeDocument/2006/relationships/image" Target="../media/image30.wmf"/><Relationship Id="rId5" Type="http://schemas.openxmlformats.org/officeDocument/2006/relationships/image" Target="../media/image36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9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image" Target="../media/image5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98c4"/>
            </a:gs>
            <a:gs pos="100000">
              <a:srgbClr val="2444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85800" y="144000"/>
            <a:ext cx="78105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йский университет дружбы народ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РУД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4560" y="1052640"/>
            <a:ext cx="7993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женерно-технический факуль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83640" y="2133720"/>
            <a:ext cx="79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Arial"/>
              </a:rPr>
              <a:t>Курс лекций по начертательной геометр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для студентов 1 кур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863520" y="428616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</a:rPr>
              <a:t>Лекция №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17400" y="4797360"/>
            <a:ext cx="43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</a:rPr>
              <a:t>Предмет начертательная геомет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16320" y="5373720"/>
            <a:ext cx="76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</a:rPr>
              <a:t>Образование комплексного чертежа. Комплексный чертеж 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16320" y="5084640"/>
            <a:ext cx="77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</a:rPr>
              <a:t>Виды проецирования. Свойства ортогонального проец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11280" y="565452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</a:rPr>
              <a:t>Комплексный чертеж линии. Взаимное расположение пря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1908000" y="1484280"/>
            <a:ext cx="720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федра начертательной геометрии и чер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708360" y="3213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ухарчук А.И., Тимофеева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символ"/>
          <p:cNvPicPr/>
          <p:nvPr/>
        </p:nvPicPr>
        <p:blipFill>
          <a:blip r:embed="rId1"/>
          <a:srcRect l="19026" t="8047" r="43911" b="31650"/>
          <a:stretch/>
        </p:blipFill>
        <p:spPr>
          <a:xfrm rot="21162000">
            <a:off x="5954400" y="2863440"/>
            <a:ext cx="2712960" cy="28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РУДН"/>
          <p:cNvPicPr/>
          <p:nvPr/>
        </p:nvPicPr>
        <p:blipFill>
          <a:blip r:embed="rId2"/>
          <a:srcRect l="0" t="0" r="48" b="188"/>
          <a:stretch/>
        </p:blipFill>
        <p:spPr>
          <a:xfrm>
            <a:off x="0" y="0"/>
            <a:ext cx="2089080" cy="1800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7"/>
          <p:cNvSpPr/>
          <p:nvPr/>
        </p:nvSpPr>
        <p:spPr>
          <a:xfrm>
            <a:off x="612720" y="594216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</a:rPr>
              <a:t>Положение линий относительно плоскостей прое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79280" y="2980800"/>
            <a:ext cx="3313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be0e3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bbe0e3"/>
                </a:solidFill>
                <a:latin typeface="Arial"/>
              </a:rPr>
              <a:t>Очарование, сопровождающее науку, может победить свойственное людям отвращение к напряжению ума и заставить их находить удовольствие в упражнении своего разума…» </a:t>
            </a:r>
            <a:r>
              <a:rPr b="1" lang="ru-RU" sz="1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bbe0e3"/>
                </a:solidFill>
                <a:latin typeface="Arial"/>
              </a:rPr>
              <a:t>          (Гаспар Монж</a:t>
            </a: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17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сновные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войства ортогонального проец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50920" y="2736000"/>
            <a:ext cx="4392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циями двух параллельных        прямых явля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е параллельные прям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8"/>
          <p:cNvPicPr/>
          <p:nvPr/>
        </p:nvPicPr>
        <p:blipFill>
          <a:blip r:embed="rId1"/>
          <a:srcRect l="8212" t="0" r="30598" b="0"/>
          <a:stretch/>
        </p:blipFill>
        <p:spPr>
          <a:xfrm>
            <a:off x="3995640" y="1339920"/>
            <a:ext cx="4965840" cy="4968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195640" y="17715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60436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етрические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войства ортогонального проец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0" y="2156040"/>
            <a:ext cx="439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шения между отрезками прямой равны соответствующим отношениям между их проек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АС| : |СВ|= |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 : |С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АС| : |АВ|= |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: |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6"/>
          <p:cNvPicPr/>
          <p:nvPr/>
        </p:nvPicPr>
        <p:blipFill>
          <a:blip r:embed="rId1"/>
          <a:srcRect l="25343" t="0" r="19866" b="0"/>
          <a:stretch/>
        </p:blipFill>
        <p:spPr>
          <a:xfrm>
            <a:off x="-46080" y="907920"/>
            <a:ext cx="4834080" cy="54007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6156360" y="1484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10"/>
          <p:cNvPicPr/>
          <p:nvPr/>
        </p:nvPicPr>
        <p:blipFill>
          <a:blip r:embed="rId1"/>
          <a:srcRect l="11855" t="0" r="20573" b="0"/>
          <a:stretch/>
        </p:blipFill>
        <p:spPr>
          <a:xfrm>
            <a:off x="3822840" y="765000"/>
            <a:ext cx="5319720" cy="5472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етрические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войства ортогонального проец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-108000" y="1411920"/>
            <a:ext cx="493236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ина отрезка равна длине его проекции, делённой на косинус угла наклона отрезка к плоскости прое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АС| : |АВ| = cos </a:t>
            </a:r>
            <a:r>
              <a:rPr b="1" i="1" lang="ru-RU" sz="2000" spc="-1" strike="noStrike">
                <a:solidFill>
                  <a:srgbClr val="000000"/>
                </a:solidFill>
                <a:latin typeface="GreekC_IV50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АВ| = |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 : cos </a:t>
            </a:r>
            <a:r>
              <a:rPr b="1" i="1" lang="ru-RU" sz="2000" spc="-1" strike="noStrike">
                <a:solidFill>
                  <a:srgbClr val="000000"/>
                </a:solidFill>
                <a:latin typeface="GreekC_IV50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. к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 = |АС|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05092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364000" y="5157360"/>
            <a:ext cx="41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ч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α = 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то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В│=│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α =  9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то  │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│=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1г"/>
          <p:cNvPicPr/>
          <p:nvPr/>
        </p:nvPicPr>
        <p:blipFill>
          <a:blip r:embed="rId2"/>
          <a:srcRect l="0" t="26402" r="43346" b="4074"/>
          <a:stretch/>
        </p:blipFill>
        <p:spPr>
          <a:xfrm>
            <a:off x="3708360" y="549360"/>
            <a:ext cx="5473800" cy="4789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1"/>
          <p:cNvSpPr/>
          <p:nvPr/>
        </p:nvSpPr>
        <p:spPr>
          <a:xfrm>
            <a:off x="324000" y="4676760"/>
            <a:ext cx="504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резо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натуральная величина) является гипотенузой  прямоугольного треугольник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С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дин катет которого является проекцией этого отрезка, а второй приращением координат точек А и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1" descr="11"/>
          <p:cNvPicPr/>
          <p:nvPr/>
        </p:nvPicPr>
        <p:blipFill>
          <a:blip r:embed="rId1"/>
          <a:srcRect l="15561" t="5428" r="27019" b="4566"/>
          <a:stretch/>
        </p:blipFill>
        <p:spPr>
          <a:xfrm>
            <a:off x="-15840" y="1197000"/>
            <a:ext cx="4803840" cy="5040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етрические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войства ортогонального проец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4462560" y="1987920"/>
            <a:ext cx="4681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хотя бы одна сторона прямого угла параллельна плоскости проекций, а вторая ей не перпендикулярна, то угол на эту плоскость проецируется в натуральную величину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804000" y="692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356000" y="4724280"/>
            <a:ext cx="44989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прямой угол проецируется ортогонально в виде прямого угла, то он имеет сторону, расположенную параллельно плоскости прое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4643280" y="1197000"/>
            <a:ext cx="41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Теорема о проецировании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рямого угл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5145840" y="4221000"/>
            <a:ext cx="312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Обратная теорем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afff88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тимость черте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4796280"/>
            <a:ext cx="828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ционный чертеж становится обратимым при добавлении дополнительной информаци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введение второй плоскости проекции или числовой отметки, указывающей расстояние от точки в пространстве до плоскости проекц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684360" y="98100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шеприведенные чертежи называю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карти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684360" y="148428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отренные методы проецирования позволяют однозначно  решить прямую задачу – построить проекцию (чертеж) геометрического об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684360" y="2565360"/>
            <a:ext cx="824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тная задача начертательной геометрии – по данному чертежу реконструировать геометрический образ – решается неоднозначно (может быть несколько или бесчисленное множество решений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684360" y="400536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этого следует, чт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картинный чертеж не обладает свойством обратимо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ff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9" descr="12а"/>
          <p:cNvPicPr/>
          <p:nvPr/>
        </p:nvPicPr>
        <p:blipFill>
          <a:blip r:embed="rId1"/>
          <a:srcRect l="77361" t="22779" r="13883" b="21801"/>
          <a:stretch/>
        </p:blipFill>
        <p:spPr>
          <a:xfrm>
            <a:off x="3592440" y="836640"/>
            <a:ext cx="1411200" cy="5400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12а"/>
          <p:cNvPicPr/>
          <p:nvPr/>
        </p:nvPicPr>
        <p:blipFill>
          <a:blip r:embed="rId2"/>
          <a:srcRect l="45450" t="22779" r="32222" b="21801"/>
          <a:stretch/>
        </p:blipFill>
        <p:spPr>
          <a:xfrm>
            <a:off x="179280" y="836640"/>
            <a:ext cx="3552840" cy="5329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Arial"/>
              </a:rPr>
              <a:t>Образование комплексного чертежа</a:t>
            </a:r>
            <a:r>
              <a:rPr b="1" lang="ru-RU" sz="2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9900"/>
                </a:solidFill>
                <a:latin typeface="Arial"/>
              </a:rPr>
              <a:t>точки</a:t>
            </a:r>
            <a:r>
              <a:rPr b="1" lang="ru-RU" sz="2000" spc="-1" strike="noStrike">
                <a:solidFill>
                  <a:srgbClr val="6699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4030560" y="619560"/>
            <a:ext cx="4934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лексным чертежом  называется чертеж, составленный из двух или более связанных между собой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ртогональны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екци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зображаемого геометрического об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859280" y="2852640"/>
            <a:ext cx="41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цип образования: геометрический образ ортогонально проецируется минимум на две взаимно перпендикулярные плоскости проекций, которые затем соответствующим образом совмещаются с одной плоск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12а"/>
          <p:cNvPicPr/>
          <p:nvPr/>
        </p:nvPicPr>
        <p:blipFill>
          <a:blip r:embed="rId3"/>
          <a:srcRect l="14347" t="22779" r="54553" b="21801"/>
          <a:stretch/>
        </p:blipFill>
        <p:spPr>
          <a:xfrm>
            <a:off x="0" y="763560"/>
            <a:ext cx="4835520" cy="5329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0"/>
          <p:cNvSpPr/>
          <p:nvPr/>
        </p:nvSpPr>
        <p:spPr>
          <a:xfrm>
            <a:off x="250920" y="59500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ный чертеж   называется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мплексным чертеже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.Ч.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очк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4859280" y="5661000"/>
            <a:ext cx="42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на К.Ч. заданы две проекции точки, можно утверждать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чка однозначно задана на К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fda"/>
            </a:gs>
            <a:gs pos="100000">
              <a:srgbClr val="cc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Arial"/>
              </a:rPr>
              <a:t>Образование комплексного чертежа</a:t>
            </a:r>
            <a:r>
              <a:rPr b="1" lang="ru-RU" sz="2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9900"/>
                </a:solidFill>
                <a:latin typeface="Arial"/>
              </a:rPr>
              <a:t>точки</a:t>
            </a:r>
            <a:r>
              <a:rPr b="1" lang="ru-RU" sz="2000" spc="-1" strike="noStrike">
                <a:solidFill>
                  <a:srgbClr val="6699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-181080" y="5804640"/>
            <a:ext cx="9864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огда проецирование осуществляется на три взаимно перпендикулярных плоскости проекций, и тогда они все совмещаются с од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1а"/>
          <p:cNvPicPr/>
          <p:nvPr/>
        </p:nvPicPr>
        <p:blipFill>
          <a:blip r:embed="rId1"/>
          <a:srcRect l="16439" t="0" r="50096" b="40574"/>
          <a:stretch/>
        </p:blipFill>
        <p:spPr>
          <a:xfrm>
            <a:off x="28440" y="981000"/>
            <a:ext cx="4516560" cy="4681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1б"/>
          <p:cNvPicPr/>
          <p:nvPr/>
        </p:nvPicPr>
        <p:blipFill>
          <a:blip r:embed="rId2"/>
          <a:srcRect l="13393" t="15588" r="51304" b="11427"/>
          <a:stretch/>
        </p:blipFill>
        <p:spPr>
          <a:xfrm>
            <a:off x="60480" y="549360"/>
            <a:ext cx="4295520" cy="5184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1в"/>
          <p:cNvPicPr/>
          <p:nvPr/>
        </p:nvPicPr>
        <p:blipFill>
          <a:blip r:embed="rId3"/>
          <a:srcRect l="29832" t="9337" r="30611" b="35403"/>
          <a:stretch/>
        </p:blipFill>
        <p:spPr>
          <a:xfrm>
            <a:off x="0" y="1316160"/>
            <a:ext cx="4356000" cy="35528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>
            <a:off x="4788000" y="828720"/>
            <a:ext cx="435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ловные обознач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В,С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… 1,2,3…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т.д. – точки в пространств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OY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горизонтальная  плоскость прое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OZ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вертикальная (фронтальная) плоскость  прое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OZ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вертикальная (профильная) плоскость прое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горизонтальная проекция точк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 плоскост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фронтальная  проекция точк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 плоскост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рофильная  проекция точк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 плоскост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,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линии свя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12"/>
          <p:cNvPicPr/>
          <p:nvPr/>
        </p:nvPicPr>
        <p:blipFill>
          <a:blip r:embed="rId1"/>
          <a:srcRect l="0" t="11935" r="57110" b="14992"/>
          <a:stretch/>
        </p:blipFill>
        <p:spPr>
          <a:xfrm>
            <a:off x="-252360" y="620640"/>
            <a:ext cx="3686040" cy="45370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Arial"/>
              </a:rPr>
              <a:t>Образование комплексного чертежа</a:t>
            </a:r>
            <a:r>
              <a:rPr b="1" lang="ru-RU" sz="2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9900"/>
                </a:solidFill>
                <a:latin typeface="Arial"/>
              </a:rPr>
              <a:t>линии</a:t>
            </a:r>
            <a:r>
              <a:rPr b="1" lang="ru-RU" sz="2000" spc="-1" strike="noStrike">
                <a:solidFill>
                  <a:srgbClr val="6699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50920" y="50133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ни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геометрический образ, сформированный последовательным перемещением точ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0920" y="6165720"/>
            <a:ext cx="83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однозначно задана на комплексном чертеже, если заданы две ее прое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12"/>
          <p:cNvPicPr/>
          <p:nvPr/>
        </p:nvPicPr>
        <p:blipFill>
          <a:blip r:embed="rId2"/>
          <a:srcRect l="43822" t="11935" r="26973" b="14992"/>
          <a:stretch/>
        </p:blipFill>
        <p:spPr>
          <a:xfrm>
            <a:off x="3276720" y="44280"/>
            <a:ext cx="3590640" cy="5329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12"/>
          <p:cNvPicPr/>
          <p:nvPr/>
        </p:nvPicPr>
        <p:blipFill>
          <a:blip r:embed="rId3"/>
          <a:srcRect l="73958" t="11935" r="0" b="14992"/>
          <a:stretch/>
        </p:blipFill>
        <p:spPr>
          <a:xfrm>
            <a:off x="6488280" y="-27000"/>
            <a:ext cx="3268440" cy="5543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9"/>
          <p:cNvSpPr/>
          <p:nvPr/>
        </p:nvSpPr>
        <p:spPr>
          <a:xfrm>
            <a:off x="255240" y="5589720"/>
            <a:ext cx="53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ния – одномерный геометрический об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250920" y="5877000"/>
            <a:ext cx="48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ение линий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…   и  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b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Взаимное расположение двух прямы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356000" y="62064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Параллельные прямые.</a:t>
            </a: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5076720" y="1989000"/>
            <a:ext cx="40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две прямые параллельны между собой, то их одноименные проекции тоже параллель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5572800" y="4148280"/>
            <a:ext cx="3095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║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║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║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2" descr="Рис"/>
          <p:cNvPicPr/>
          <p:nvPr/>
        </p:nvPicPr>
        <p:blipFill>
          <a:blip r:embed="rId1"/>
          <a:srcRect l="16596" t="17236" r="36149" b="3200"/>
          <a:stretch/>
        </p:blipFill>
        <p:spPr>
          <a:xfrm>
            <a:off x="0" y="692280"/>
            <a:ext cx="5905440" cy="5424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Рис"/>
          <p:cNvPicPr/>
          <p:nvPr/>
        </p:nvPicPr>
        <p:blipFill>
          <a:blip r:embed="rId2"/>
          <a:srcRect l="13417" t="9033" r="38712" b="6711"/>
          <a:stretch/>
        </p:blipFill>
        <p:spPr>
          <a:xfrm>
            <a:off x="324000" y="776160"/>
            <a:ext cx="5760720" cy="5532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Рис"/>
          <p:cNvPicPr/>
          <p:nvPr/>
        </p:nvPicPr>
        <p:blipFill>
          <a:blip r:embed="rId3"/>
          <a:srcRect l="10222" t="7869" r="56576" b="0"/>
          <a:stretch/>
        </p:blipFill>
        <p:spPr>
          <a:xfrm>
            <a:off x="0" y="576360"/>
            <a:ext cx="4262400" cy="645300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d2"/>
            </a:gs>
            <a:gs pos="100000">
              <a:srgbClr val="ffcc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Взаимное расположение двух прямы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4356000" y="62064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Пересекающиеся прямые.</a:t>
            </a: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5076720" y="1989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 прямые пересекаются между собой, если точки пересечения одноименных проекций прямых лежат на одной линии связ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60400" y="3965040"/>
            <a:ext cx="246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Рис"/>
          <p:cNvPicPr/>
          <p:nvPr/>
        </p:nvPicPr>
        <p:blipFill>
          <a:blip r:embed="rId1"/>
          <a:srcRect l="39029" t="32608" r="36248" b="17153"/>
          <a:stretch/>
        </p:blipFill>
        <p:spPr>
          <a:xfrm>
            <a:off x="-252360" y="765000"/>
            <a:ext cx="5794200" cy="5758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Рис"/>
          <p:cNvPicPr/>
          <p:nvPr/>
        </p:nvPicPr>
        <p:blipFill>
          <a:blip r:embed="rId2"/>
          <a:srcRect l="9755" t="10806" r="37539" b="4674"/>
          <a:stretch/>
        </p:blipFill>
        <p:spPr>
          <a:xfrm>
            <a:off x="0" y="1773360"/>
            <a:ext cx="5364000" cy="456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Рис"/>
          <p:cNvPicPr/>
          <p:nvPr/>
        </p:nvPicPr>
        <p:blipFill>
          <a:blip r:embed="rId3"/>
          <a:srcRect l="23812" t="11679" r="17967" b="8906"/>
          <a:stretch/>
        </p:blipFill>
        <p:spPr>
          <a:xfrm>
            <a:off x="0" y="1341360"/>
            <a:ext cx="4789440" cy="462924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658b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4"/>
          <p:cNvSpPr/>
          <p:nvPr/>
        </p:nvSpPr>
        <p:spPr>
          <a:xfrm>
            <a:off x="108000" y="4221000"/>
            <a:ext cx="417672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4643280" y="4292640"/>
            <a:ext cx="446436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411280" y="2781360"/>
            <a:ext cx="4032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 основные задачи Н.Г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684360" y="3213000"/>
            <a:ext cx="1368360" cy="8654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151200 h 865440"/>
              <a:gd name="textAreaBottom" fmla="*/ 62748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6948360" y="3141720"/>
            <a:ext cx="1368720" cy="865080"/>
          </a:xfrm>
          <a:custGeom>
            <a:avLst/>
            <a:gdLst>
              <a:gd name="textAreaLeft" fmla="*/ 183240 w 1368720"/>
              <a:gd name="textAreaRight" fmla="*/ 1185480 w 136872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дмет «Начертательная геометрия» (Н.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836640"/>
            <a:ext cx="80866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Н.Г. изучает законы отображения трехмерного пространства на  двумерную плоскость методами проекций и се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Основоположником начертательной геометрии и метода ортогонального проецирования является французский математик, геометр Гаспар Монж (1746-1818гг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-36360" y="405144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оить изображение пространственного предмета на чертеж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859280" y="429264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а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нструкция пространственного предмета по чертеж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900000" y="5805360"/>
            <a:ext cx="708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Построение любого изображения выполняется с помощью операц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ецирования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гаспар монж"/>
          <p:cNvPicPr/>
          <p:nvPr/>
        </p:nvPicPr>
        <p:blipFill>
          <a:blip r:embed="rId1"/>
          <a:stretch/>
        </p:blipFill>
        <p:spPr>
          <a:xfrm>
            <a:off x="2916360" y="2349360"/>
            <a:ext cx="3497040" cy="424656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fc0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Взаимное расположение двух прямы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211640" y="620640"/>
            <a:ext cx="47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Скрещивающиеся пря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(не имеют общих точе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076720" y="170028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 прямые  скрещиваются между собой, если точки пересечения их одноименных проекций лежат на разных линиях связ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518080" y="3356640"/>
            <a:ext cx="1250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Рис"/>
          <p:cNvPicPr/>
          <p:nvPr/>
        </p:nvPicPr>
        <p:blipFill>
          <a:blip r:embed="rId1"/>
          <a:srcRect l="41399" t="7325" r="6871" b="0"/>
          <a:stretch/>
        </p:blipFill>
        <p:spPr>
          <a:xfrm>
            <a:off x="395280" y="765000"/>
            <a:ext cx="5676840" cy="609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Рис"/>
          <p:cNvPicPr/>
          <p:nvPr/>
        </p:nvPicPr>
        <p:blipFill>
          <a:blip r:embed="rId2"/>
          <a:srcRect l="17647" t="3673" r="30127" b="0"/>
          <a:stretch/>
        </p:blipFill>
        <p:spPr>
          <a:xfrm>
            <a:off x="-108000" y="476280"/>
            <a:ext cx="5983200" cy="6610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Рис"/>
          <p:cNvPicPr/>
          <p:nvPr/>
        </p:nvPicPr>
        <p:blipFill>
          <a:blip r:embed="rId3"/>
          <a:srcRect l="22846" t="0" r="18932" b="0"/>
          <a:stretch/>
        </p:blipFill>
        <p:spPr>
          <a:xfrm>
            <a:off x="244440" y="692280"/>
            <a:ext cx="4614840" cy="5616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3"/>
          <p:cNvSpPr/>
          <p:nvPr/>
        </p:nvSpPr>
        <p:spPr>
          <a:xfrm>
            <a:off x="5289120" y="4149720"/>
            <a:ext cx="315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ки 1 и 2, 3 и 4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ирующие т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5146200" y="5084640"/>
            <a:ext cx="34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ирующие точк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ки, лежащие на од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цирующей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e3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Положение прямых линий относительно</a:t>
            </a:r>
            <a:br>
              <a:rPr sz="2800"/>
            </a:b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плоскостей проек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50920" y="1197000"/>
            <a:ext cx="46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зависимости от своего положения относительно плоскостей проекций прямые разделяют на прямые общего положения и прямые частного по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324000" y="2913120"/>
            <a:ext cx="417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Прямая общего полож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рямая, которая имеет углы, отличные от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9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одновременно со всеми тремя плоскостями проекции 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324000" y="501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ые, параллельные  плоскостям проекций или перпендикулярные к ним, называются  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прямыми частного полож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2" descr="Рис"/>
          <p:cNvPicPr/>
          <p:nvPr/>
        </p:nvPicPr>
        <p:blipFill>
          <a:blip r:embed="rId1"/>
          <a:srcRect l="24342" t="7241" r="22705" b="5172"/>
          <a:stretch/>
        </p:blipFill>
        <p:spPr>
          <a:xfrm>
            <a:off x="4390920" y="1216080"/>
            <a:ext cx="4753080" cy="4589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Рис"/>
          <p:cNvPicPr/>
          <p:nvPr/>
        </p:nvPicPr>
        <p:blipFill>
          <a:blip r:embed="rId2"/>
          <a:srcRect l="27702" t="7578" r="33498" b="0"/>
          <a:stretch/>
        </p:blipFill>
        <p:spPr>
          <a:xfrm>
            <a:off x="5005440" y="1197000"/>
            <a:ext cx="3814560" cy="576108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2e2"/>
            </a:gs>
            <a:gs pos="100000">
              <a:srgbClr val="ff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рямые частного положения. Линии уро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4932360" y="1125360"/>
            <a:ext cx="46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Горизонтал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линия, все точки которой имеют одинаковую координату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апплика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003640" y="1989000"/>
            <a:ext cx="41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изонталь параллельна горизонтальной плоскости прое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5005440" y="285264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ение горизонтал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║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9" descr="Рис"/>
          <p:cNvPicPr/>
          <p:nvPr/>
        </p:nvPicPr>
        <p:blipFill>
          <a:blip r:embed="rId1"/>
          <a:srcRect l="21914" t="28453" r="47050" b="25806"/>
          <a:stretch/>
        </p:blipFill>
        <p:spPr>
          <a:xfrm>
            <a:off x="-36360" y="1628640"/>
            <a:ext cx="5113080" cy="451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Рис"/>
          <p:cNvPicPr/>
          <p:nvPr/>
        </p:nvPicPr>
        <p:blipFill>
          <a:blip r:embed="rId2"/>
          <a:srcRect l="20075" t="7122" r="48392" b="45141"/>
          <a:stretch/>
        </p:blipFill>
        <p:spPr>
          <a:xfrm>
            <a:off x="-324000" y="1557360"/>
            <a:ext cx="5256360" cy="4768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Рис"/>
          <p:cNvPicPr/>
          <p:nvPr/>
        </p:nvPicPr>
        <p:blipFill>
          <a:blip r:embed="rId3"/>
          <a:srcRect l="23739" t="7706" r="38529" b="43912"/>
          <a:stretch/>
        </p:blipFill>
        <p:spPr>
          <a:xfrm>
            <a:off x="4572000" y="3429000"/>
            <a:ext cx="4464000" cy="3429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Рис"/>
          <p:cNvPicPr/>
          <p:nvPr/>
        </p:nvPicPr>
        <p:blipFill>
          <a:blip r:embed="rId4"/>
          <a:srcRect l="21914" t="28473" r="42178" b="22764"/>
          <a:stretch/>
        </p:blipFill>
        <p:spPr>
          <a:xfrm>
            <a:off x="4645080" y="3357720"/>
            <a:ext cx="4248000" cy="345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Рис"/>
          <p:cNvPicPr/>
          <p:nvPr/>
        </p:nvPicPr>
        <p:blipFill>
          <a:blip r:embed="rId5"/>
          <a:srcRect l="7300" t="7325" r="0" b="12410"/>
          <a:stretch/>
        </p:blipFill>
        <p:spPr>
          <a:xfrm>
            <a:off x="4788000" y="3573360"/>
            <a:ext cx="4484520" cy="23259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8"/>
          <p:cNvSpPr/>
          <p:nvPr/>
        </p:nvSpPr>
        <p:spPr>
          <a:xfrm>
            <a:off x="684360" y="4149720"/>
            <a:ext cx="37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для всех точек лин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туральная   величина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угол наклона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угол наклона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7" descr="Рис"/>
          <p:cNvPicPr/>
          <p:nvPr/>
        </p:nvPicPr>
        <p:blipFill>
          <a:blip r:embed="rId6"/>
          <a:srcRect l="18867" t="10369" r="44606" b="24966"/>
          <a:stretch/>
        </p:blipFill>
        <p:spPr>
          <a:xfrm>
            <a:off x="1042920" y="1052640"/>
            <a:ext cx="3065400" cy="280800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0f0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рямые частного положения.  Линии уро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24000" y="1125360"/>
            <a:ext cx="46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Фронтал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линия, все точки которой имеют одинаковую  координат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ордината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324000" y="1989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онталь параллельна фронтальной плоскости проекц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324000" y="2565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ение фронта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║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4788000" y="4365720"/>
            <a:ext cx="37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для всех точек прям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туральная   величина отрезк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угол наклона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угол наклона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3" descr="Рис"/>
          <p:cNvPicPr/>
          <p:nvPr/>
        </p:nvPicPr>
        <p:blipFill>
          <a:blip r:embed="rId1"/>
          <a:srcRect l="37762" t="38043" r="34295" b="25631"/>
          <a:stretch/>
        </p:blipFill>
        <p:spPr>
          <a:xfrm>
            <a:off x="3419640" y="981000"/>
            <a:ext cx="5724360" cy="5283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Рис"/>
          <p:cNvPicPr/>
          <p:nvPr/>
        </p:nvPicPr>
        <p:blipFill>
          <a:blip r:embed="rId2"/>
          <a:srcRect l="36233" t="14530" r="37356" b="50861"/>
          <a:stretch/>
        </p:blipFill>
        <p:spPr>
          <a:xfrm>
            <a:off x="3635280" y="907920"/>
            <a:ext cx="5400720" cy="5024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" descr="Рис"/>
          <p:cNvPicPr/>
          <p:nvPr/>
        </p:nvPicPr>
        <p:blipFill>
          <a:blip r:embed="rId3"/>
          <a:srcRect l="48526" t="10392" r="21391" b="54139"/>
          <a:stretch/>
        </p:blipFill>
        <p:spPr>
          <a:xfrm>
            <a:off x="216000" y="2971800"/>
            <a:ext cx="4572000" cy="3825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7" descr="Рис"/>
          <p:cNvPicPr/>
          <p:nvPr/>
        </p:nvPicPr>
        <p:blipFill>
          <a:blip r:embed="rId4"/>
          <a:srcRect l="45103" t="30972" r="23856" b="31828"/>
          <a:stretch/>
        </p:blipFill>
        <p:spPr>
          <a:xfrm>
            <a:off x="0" y="2844720"/>
            <a:ext cx="4716360" cy="4013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8" descr="Рис"/>
          <p:cNvPicPr/>
          <p:nvPr/>
        </p:nvPicPr>
        <p:blipFill>
          <a:blip r:embed="rId5"/>
          <a:srcRect l="38072" t="34272" r="33687" b="39781"/>
          <a:stretch/>
        </p:blipFill>
        <p:spPr>
          <a:xfrm>
            <a:off x="-252360" y="3429000"/>
            <a:ext cx="4392720" cy="2865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Рис"/>
          <p:cNvPicPr/>
          <p:nvPr/>
        </p:nvPicPr>
        <p:blipFill>
          <a:blip r:embed="rId6"/>
          <a:srcRect l="19042" t="16712" r="48150" b="13917"/>
          <a:stretch/>
        </p:blipFill>
        <p:spPr>
          <a:xfrm>
            <a:off x="5353200" y="692280"/>
            <a:ext cx="2714400" cy="374652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e9e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рямые частного положения. Линии уро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24000" y="112536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ильная линия  – линия, все точки которой имеют одинаковую координат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абсцисс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24000" y="229716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ильная  линия  параллельна профильной плоскости прое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324000" y="32925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им профильную линию букв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║ 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24000" y="3960720"/>
            <a:ext cx="36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проекции профильной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впадают с линией связи. Для  описания профильной линии (прямой) на комплексном чертеже необходимо вводить  профильную плоскость проекци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3287880" y="34279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3708360" y="544500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туральная   величина отрезк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угол наклона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угол наклона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7" descr="Рис"/>
          <p:cNvPicPr/>
          <p:nvPr/>
        </p:nvPicPr>
        <p:blipFill>
          <a:blip r:embed="rId1"/>
          <a:srcRect l="50976" t="0" r="24452" b="62801"/>
          <a:stretch/>
        </p:blipFill>
        <p:spPr>
          <a:xfrm>
            <a:off x="3664080" y="576360"/>
            <a:ext cx="5265720" cy="5661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Рис"/>
          <p:cNvPicPr/>
          <p:nvPr/>
        </p:nvPicPr>
        <p:blipFill>
          <a:blip r:embed="rId2"/>
          <a:srcRect l="50040" t="39625" r="25091" b="26358"/>
          <a:stretch/>
        </p:blipFill>
        <p:spPr>
          <a:xfrm>
            <a:off x="3484440" y="981000"/>
            <a:ext cx="5561280" cy="5400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0" descr="Рис"/>
          <p:cNvPicPr/>
          <p:nvPr/>
        </p:nvPicPr>
        <p:blipFill>
          <a:blip r:embed="rId3"/>
          <a:srcRect l="16574" t="13523" r="53740" b="27673"/>
          <a:stretch/>
        </p:blipFill>
        <p:spPr>
          <a:xfrm>
            <a:off x="4500720" y="1268280"/>
            <a:ext cx="2968560" cy="417528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cec"/>
            </a:gs>
            <a:gs pos="100000">
              <a:srgbClr val="ff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2560" y="260280"/>
            <a:ext cx="889308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рямые частного паоложения. Проецирующие прям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 flipH="1">
            <a:off x="4642560" y="1125360"/>
            <a:ext cx="43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Горизонтально-проецирующая прям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линия, перпендикулярная горизонтальной плоскости прое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4716360" y="2309760"/>
            <a:ext cx="44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изонтально-проециру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параллельна фронт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рофильной плоскостям прое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716360" y="35082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им горизонтально-проецирующую прямую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╨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4716360" y="4183200"/>
            <a:ext cx="42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оризонтально-проецирующая прямая проецируется в точку (теряет одно измере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287880" y="34279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4716360" y="53802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 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= 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натуральная велич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Рис"/>
          <p:cNvPicPr/>
          <p:nvPr/>
        </p:nvPicPr>
        <p:blipFill>
          <a:blip r:embed="rId1"/>
          <a:srcRect l="35609" t="15235" r="23856" b="30263"/>
          <a:stretch/>
        </p:blipFill>
        <p:spPr>
          <a:xfrm>
            <a:off x="34920" y="1052640"/>
            <a:ext cx="4753080" cy="4537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3" descr="Рис"/>
          <p:cNvPicPr/>
          <p:nvPr/>
        </p:nvPicPr>
        <p:blipFill>
          <a:blip r:embed="rId2"/>
          <a:srcRect l="36879" t="8215" r="43723" b="39752"/>
          <a:stretch/>
        </p:blipFill>
        <p:spPr>
          <a:xfrm>
            <a:off x="1136520" y="1341360"/>
            <a:ext cx="2570400" cy="551664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ded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280" y="260280"/>
            <a:ext cx="889344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рямые частного положения. Проецирующие прям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 flipH="1">
            <a:off x="325440" y="1197000"/>
            <a:ext cx="431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Фронтально-проецирующая прям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линия, перпендикулярная фронтальной плоскости проек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24000" y="227664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онтально-проецирующая прямая параллельна горизонтальной и профильной плоскости прое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24000" y="335772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им фронтально-проецирующую прямую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╨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324000" y="4183200"/>
            <a:ext cx="42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фронтально-проецирующая прямая проецируется в точку (теряет одно измере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287880" y="34279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324000" y="53802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натуральная велич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Рис"/>
          <p:cNvPicPr/>
          <p:nvPr/>
        </p:nvPicPr>
        <p:blipFill>
          <a:blip r:embed="rId1"/>
          <a:srcRect l="43301" t="22483" r="24765" b="32533"/>
          <a:stretch/>
        </p:blipFill>
        <p:spPr>
          <a:xfrm>
            <a:off x="4248000" y="944640"/>
            <a:ext cx="5077080" cy="5076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Рис"/>
          <p:cNvPicPr/>
          <p:nvPr/>
        </p:nvPicPr>
        <p:blipFill>
          <a:blip r:embed="rId2"/>
          <a:srcRect l="78361" t="28101" r="7295" b="13013"/>
          <a:stretch/>
        </p:blipFill>
        <p:spPr>
          <a:xfrm>
            <a:off x="5940360" y="692280"/>
            <a:ext cx="1805040" cy="551628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44280"/>
            <a:ext cx="889308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 flipH="1">
            <a:off x="330120" y="620640"/>
            <a:ext cx="88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во направление проецирующего луча пр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тогональном проецирова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324000" y="1131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овите 5 основных позиционных свойств ортогонального проец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324000" y="1700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ет ли при ортогональном проециров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ина проекции отрезка быть больше натуральной величины отрезка? Меньше? Рав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24000" y="227664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цируется ли при ортогональном проецировании любой прямой угол в натуральную величину? Какое условие должно быть при этом выполне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287880" y="34279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24000" y="3363840"/>
            <a:ext cx="57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такое однокартинный чертеж? Является ли однокартинный чертеж обратимы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324000" y="3933720"/>
            <a:ext cx="57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необходимо сделать, чтобы чертеж стал обратимы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324000" y="450864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й чертеж называется комплексны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324000" y="486900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лько проекций точки на К.Ч. должно быть задано, чтобы она была задана однозначно? А сколько проекций ли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324000" y="56674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ая точка расположена выше А или 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какая ближ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6" descr="1д"/>
          <p:cNvPicPr/>
          <p:nvPr/>
        </p:nvPicPr>
        <p:blipFill>
          <a:blip r:embed="rId1"/>
          <a:srcRect l="40573" t="9740" r="36953" b="11982"/>
          <a:stretch/>
        </p:blipFill>
        <p:spPr>
          <a:xfrm>
            <a:off x="6443640" y="2565360"/>
            <a:ext cx="2036880" cy="396072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2c2c2"/>
            </a:gs>
            <a:gs pos="100000">
              <a:srgbClr val="808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44280"/>
            <a:ext cx="889308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287880" y="34279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539640" y="83664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расположены прямы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 отношению друг к другу? Как называются проекции прямых обозначенные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в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в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6" descr="Рис"/>
          <p:cNvPicPr/>
          <p:nvPr/>
        </p:nvPicPr>
        <p:blipFill>
          <a:blip r:embed="rId1"/>
          <a:srcRect l="30612" t="0" r="30588" b="0"/>
          <a:stretch/>
        </p:blipFill>
        <p:spPr>
          <a:xfrm>
            <a:off x="5119560" y="44280"/>
            <a:ext cx="3421080" cy="4896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7" descr="Рис"/>
          <p:cNvPicPr/>
          <p:nvPr/>
        </p:nvPicPr>
        <p:blipFill>
          <a:blip r:embed="rId2"/>
          <a:srcRect l="28667" t="8933" r="20877" b="10296"/>
          <a:stretch/>
        </p:blipFill>
        <p:spPr>
          <a:xfrm>
            <a:off x="5076720" y="482760"/>
            <a:ext cx="4067280" cy="3954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8" descr="Рис"/>
          <p:cNvPicPr/>
          <p:nvPr/>
        </p:nvPicPr>
        <p:blipFill>
          <a:blip r:embed="rId3"/>
          <a:srcRect l="26717" t="0" r="22827" b="0"/>
          <a:stretch/>
        </p:blipFill>
        <p:spPr>
          <a:xfrm>
            <a:off x="5219640" y="476280"/>
            <a:ext cx="3427560" cy="381636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9"/>
          <p:cNvSpPr/>
          <p:nvPr/>
        </p:nvSpPr>
        <p:spPr>
          <a:xfrm flipH="1">
            <a:off x="539640" y="1989000"/>
            <a:ext cx="48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е прямые являются прямыми общего положения? Частного полож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3995640" y="4581360"/>
            <a:ext cx="45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расположены по отношению к плоскостям проекций горизонталь? Фронталь? Профильная прям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3995640" y="5661000"/>
            <a:ext cx="52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называется прямая, заданная на К.Ч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ая проекция является натуральной величиной заданной прям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2" descr="Рис"/>
          <p:cNvPicPr/>
          <p:nvPr/>
        </p:nvPicPr>
        <p:blipFill>
          <a:blip r:embed="rId4"/>
          <a:srcRect l="25223" t="4107" r="30142" b="9659"/>
          <a:stretch/>
        </p:blipFill>
        <p:spPr>
          <a:xfrm>
            <a:off x="179280" y="2852640"/>
            <a:ext cx="3313080" cy="3745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3" descr="Рис"/>
          <p:cNvPicPr/>
          <p:nvPr/>
        </p:nvPicPr>
        <p:blipFill>
          <a:blip r:embed="rId5"/>
          <a:srcRect l="22519" t="9337" r="44004" b="21838"/>
          <a:stretch/>
        </p:blipFill>
        <p:spPr>
          <a:xfrm>
            <a:off x="539640" y="2781360"/>
            <a:ext cx="3179880" cy="3816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4" descr="Рис"/>
          <p:cNvPicPr/>
          <p:nvPr/>
        </p:nvPicPr>
        <p:blipFill>
          <a:blip r:embed="rId6"/>
          <a:srcRect l="25757" t="0" r="18932" b="7544"/>
          <a:stretch/>
        </p:blipFill>
        <p:spPr>
          <a:xfrm>
            <a:off x="-36360" y="2527200"/>
            <a:ext cx="3436920" cy="4070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5" descr="Рис"/>
          <p:cNvPicPr/>
          <p:nvPr/>
        </p:nvPicPr>
        <p:blipFill>
          <a:blip r:embed="rId7"/>
          <a:srcRect l="34483" t="15786" r="47080" b="19859"/>
          <a:stretch/>
        </p:blipFill>
        <p:spPr>
          <a:xfrm>
            <a:off x="1332000" y="2708280"/>
            <a:ext cx="1717560" cy="424800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3b3b3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6920" y="11556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3203640" y="76500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расположены по отношению к плоскостям проекций горизонтально проецирующая прямая? фронтально проецирующая пряма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3203640" y="164952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называется прямая, заданная на К.Ч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ая проекция является натуральной величиной заданной прям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4" descr="Рис"/>
          <p:cNvPicPr/>
          <p:nvPr/>
        </p:nvPicPr>
        <p:blipFill>
          <a:blip r:embed="rId1"/>
          <a:srcRect l="32024" t="0" r="42758" b="42504"/>
          <a:stretch/>
        </p:blipFill>
        <p:spPr>
          <a:xfrm>
            <a:off x="611280" y="-531720"/>
            <a:ext cx="2406600" cy="4537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5" descr="Рис"/>
          <p:cNvPicPr/>
          <p:nvPr/>
        </p:nvPicPr>
        <p:blipFill>
          <a:blip r:embed="rId2"/>
          <a:srcRect l="69863" t="34228" r="0" b="20941"/>
          <a:stretch/>
        </p:blipFill>
        <p:spPr>
          <a:xfrm>
            <a:off x="179280" y="-243000"/>
            <a:ext cx="3297240" cy="36007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27"/>
          <p:cNvSpPr/>
          <p:nvPr/>
        </p:nvSpPr>
        <p:spPr>
          <a:xfrm>
            <a:off x="684360" y="3835440"/>
            <a:ext cx="38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ойте перпендикуляр из точки А  к прямо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 какой плоскости проекций прямой угол проецируется в натуральную велич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8" descr="1е"/>
          <p:cNvPicPr/>
          <p:nvPr/>
        </p:nvPicPr>
        <p:blipFill>
          <a:blip r:embed="rId3"/>
          <a:srcRect l="12633" t="11867" r="50090" b="11867"/>
          <a:stretch/>
        </p:blipFill>
        <p:spPr>
          <a:xfrm>
            <a:off x="4572000" y="2205000"/>
            <a:ext cx="4035600" cy="4390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9" descr="1ж"/>
          <p:cNvPicPr/>
          <p:nvPr/>
        </p:nvPicPr>
        <p:blipFill>
          <a:blip r:embed="rId4"/>
          <a:srcRect l="43928" t="0" r="20006" b="14051"/>
          <a:stretch/>
        </p:blipFill>
        <p:spPr>
          <a:xfrm>
            <a:off x="4732200" y="2131920"/>
            <a:ext cx="3440160" cy="4681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0" descr="1з"/>
          <p:cNvPicPr/>
          <p:nvPr/>
        </p:nvPicPr>
        <p:blipFill>
          <a:blip r:embed="rId5"/>
          <a:srcRect l="11312" t="5740" r="46976" b="12967"/>
          <a:stretch/>
        </p:blipFill>
        <p:spPr>
          <a:xfrm>
            <a:off x="4356000" y="2355840"/>
            <a:ext cx="3888000" cy="43624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31"/>
          <p:cNvSpPr/>
          <p:nvPr/>
        </p:nvSpPr>
        <p:spPr>
          <a:xfrm>
            <a:off x="684360" y="532116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те  натуральную величину построенного отрезка А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2" descr="1и"/>
          <p:cNvPicPr/>
          <p:nvPr/>
        </p:nvPicPr>
        <p:blipFill>
          <a:blip r:embed="rId6"/>
          <a:srcRect l="27289" t="11867" r="43442" b="22770"/>
          <a:stretch/>
        </p:blipFill>
        <p:spPr>
          <a:xfrm>
            <a:off x="5076720" y="2421000"/>
            <a:ext cx="3252960" cy="4437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3" descr="1к"/>
          <p:cNvPicPr/>
          <p:nvPr/>
        </p:nvPicPr>
        <p:blipFill>
          <a:blip r:embed="rId7"/>
          <a:srcRect l="18971" t="11867" r="40774" b="22770"/>
          <a:stretch/>
        </p:blipFill>
        <p:spPr>
          <a:xfrm>
            <a:off x="4211640" y="2492280"/>
            <a:ext cx="4356000" cy="432144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838836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иды проец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8920" y="54936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Линейное центральное проец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1"/>
          <p:cNvPicPr/>
          <p:nvPr/>
        </p:nvPicPr>
        <p:blipFill>
          <a:blip r:embed="rId1"/>
          <a:srcRect l="13457" t="9952" r="40288" b="14336"/>
          <a:stretch/>
        </p:blipFill>
        <p:spPr>
          <a:xfrm>
            <a:off x="-757080" y="1197000"/>
            <a:ext cx="5329080" cy="53290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3"/>
          <p:cNvSpPr/>
          <p:nvPr/>
        </p:nvSpPr>
        <p:spPr>
          <a:xfrm>
            <a:off x="4211640" y="1391760"/>
            <a:ext cx="4859280" cy="36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центр проециро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плоскость проекций или картинная плоск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В - точки простран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проецирующий луч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в  - направление проециро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альные  проекции точек А и В на плоскость П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4356000" y="1197000"/>
            <a:ext cx="395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ппарат проец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4643280" y="4581360"/>
            <a:ext cx="40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екцией фигуры называется множество проекций всех ее точ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4643280" y="544500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закономерных отношений между   линейными размерами геометрического образа (Г.О.) и его  проек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41672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иды проец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24000" y="549360"/>
            <a:ext cx="7200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араллельное проец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24000" y="2017080"/>
            <a:ext cx="4464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 - направление проец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лоскость проек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В - точки простран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ции точек А и В на плоскость П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2"/>
          <p:cNvPicPr/>
          <p:nvPr/>
        </p:nvPicPr>
        <p:blipFill>
          <a:blip r:embed="rId1"/>
          <a:srcRect l="26932" t="5949" r="35628" b="20978"/>
          <a:stretch/>
        </p:blipFill>
        <p:spPr>
          <a:xfrm>
            <a:off x="4522680" y="907920"/>
            <a:ext cx="4521240" cy="5400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539640" y="148428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ппарат проец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611280" y="422100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екцией фигуры называется множество проекций всех ее точ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611280" y="53002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закономерных отношений между   линейными размерами геометрического образа (Г.О.) и его  проек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652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иды проец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692000" y="549360"/>
            <a:ext cx="74516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Ортогональное  проец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067280" y="1507320"/>
            <a:ext cx="4895640" cy="29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 - направление проециро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лоскость проекц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В - точки простран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тогональные проекции точек А и В на плоскость П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3"/>
          <p:cNvPicPr/>
          <p:nvPr/>
        </p:nvPicPr>
        <p:blipFill>
          <a:blip r:embed="rId1"/>
          <a:srcRect l="6181" t="11242" r="50911" b="15715"/>
          <a:stretch/>
        </p:blipFill>
        <p:spPr>
          <a:xfrm>
            <a:off x="-28440" y="1125360"/>
            <a:ext cx="4628880" cy="4824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4500720" y="3789360"/>
            <a:ext cx="41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екцией фигуры называется множество проекций всех ее точ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4573440" y="112536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ппарат проец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4500720" y="4797360"/>
            <a:ext cx="46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ествуют определенные закономерности между геометрическим образом (Г.О.) и его ортогональной проекцией: позиционные и метрические свойства ортогонального проец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89308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сновные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войства ортогонального проец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00720" y="2296080"/>
            <a:ext cx="4105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ой точке проецируемого Г.О. соответствует одна точка на плоскости проекц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4"/>
          <p:cNvPicPr/>
          <p:nvPr/>
        </p:nvPicPr>
        <p:blipFill>
          <a:blip r:embed="rId1"/>
          <a:srcRect l="53403" t="16401" r="0" b="14992"/>
          <a:stretch/>
        </p:blipFill>
        <p:spPr>
          <a:xfrm>
            <a:off x="-36360" y="1135080"/>
            <a:ext cx="5435280" cy="4900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6300720" y="15559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5003640" y="4724280"/>
            <a:ext cx="28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братная зависимость неоднозначн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5"/>
          <p:cNvPicPr/>
          <p:nvPr/>
        </p:nvPicPr>
        <p:blipFill>
          <a:blip r:embed="rId1"/>
          <a:srcRect l="0" t="0" r="52540" b="0"/>
          <a:stretch/>
        </p:blipFill>
        <p:spPr>
          <a:xfrm>
            <a:off x="34920" y="1197000"/>
            <a:ext cx="4411800" cy="5689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сновные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войства ортогонального проец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932360" y="2569320"/>
            <a:ext cx="403236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цией прямой лини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является прямая ли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цирующая плоскость </a:t>
            </a:r>
            <a:r>
              <a:rPr b="1" lang="ru-RU" sz="2000" spc="-1" strike="noStrike">
                <a:solidFill>
                  <a:srgbClr val="000000"/>
                </a:solidFill>
                <a:latin typeface="GreekC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659640" y="148428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fff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сновные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войства ортогонального проец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68360" y="2353320"/>
            <a:ext cx="360036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точка принадлежит линии, то ее проекция принадлежит проекции данной лин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АВ 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С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6"/>
          <p:cNvPicPr/>
          <p:nvPr/>
        </p:nvPicPr>
        <p:blipFill>
          <a:blip r:embed="rId1"/>
          <a:srcRect l="26471" t="0" r="19665" b="0"/>
          <a:stretch/>
        </p:blipFill>
        <p:spPr>
          <a:xfrm>
            <a:off x="4052880" y="1052640"/>
            <a:ext cx="4811760" cy="5472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1909440" y="15289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сновные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войства ортогонального проец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716360" y="2288160"/>
            <a:ext cx="424836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цией точки пересечения двух прямых явля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ка пересечения проекций данных прям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= А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= 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7"/>
          <p:cNvPicPr/>
          <p:nvPr/>
        </p:nvPicPr>
        <p:blipFill>
          <a:blip r:embed="rId1"/>
          <a:srcRect l="11855" t="0" r="33355" b="0"/>
          <a:stretch/>
        </p:blipFill>
        <p:spPr>
          <a:xfrm>
            <a:off x="19080" y="1268280"/>
            <a:ext cx="4768920" cy="53294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6516720" y="1557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9T09:43:36Z</dcterms:created>
  <dc:creator>Маришка</dc:creator>
  <dc:description/>
  <dc:language>en-US</dc:language>
  <cp:lastModifiedBy>Name</cp:lastModifiedBy>
  <dcterms:modified xsi:type="dcterms:W3CDTF">2011-02-04T11:36:05Z</dcterms:modified>
  <cp:revision>67</cp:revision>
  <dc:subject/>
  <dc:title>Начертательная гео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130000000000010243000207f6000400038000</vt:lpwstr>
  </property>
</Properties>
</file>