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117-80B3-42F7-A4B8-6CF09A39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B2C-25AF-4E0D-964B-374A244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C8C-F641-48CF-8889-5CA38714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1CF-B86B-40E9-B4B8-6C898EB5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C1F-04D0-4476-9C8C-15F5EE44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091-3562-46F1-8374-7AE2633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065-9F5A-4D56-816D-3278B76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A0C-DB50-4465-A315-3EC171C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750-6698-405E-A838-6CD313D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CD4-9442-464C-B675-D4BB1A2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C72-36CD-4C42-8A98-1A85C113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371-C0CB-4914-8614-6966E7D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870-7E27-4115-A584-A44D48F99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42" name="Rectangle 4"/>
            <p:cNvSpPr/>
            <p:nvPr/>
          </p:nvSpPr>
          <p:spPr>
            <a:xfrm>
              <a:off x="539640" y="692280"/>
              <a:ext cx="7993080" cy="54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6" descr="pencil33"/>
          <p:cNvPicPr/>
          <p:nvPr/>
        </p:nvPicPr>
        <p:blipFill>
          <a:blip r:embed="rId1"/>
          <a:stretch/>
        </p:blipFill>
        <p:spPr>
          <a:xfrm>
            <a:off x="3348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Arial"/>
              </a:rPr>
              <a:t>Размещение текста, картинок, таблиц и диаграмм на примере каранд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2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539640" y="1557360"/>
            <a:ext cx="799308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 rot="18609000">
            <a:off x="-2160" y="15926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13254000">
            <a:off x="7522920" y="1628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рандаш.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ые каранда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59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Рис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ые каранд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Yellow_pencil"/>
          <p:cNvPicPr/>
          <p:nvPr/>
        </p:nvPicPr>
        <p:blipFill>
          <a:blip r:embed="rId1"/>
          <a:stretch/>
        </p:blipFill>
        <p:spPr>
          <a:xfrm>
            <a:off x="5761080" y="1989000"/>
            <a:ext cx="17636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68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13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1248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76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512720"/>
          <a:ext cx="8229600" cy="4653000"/>
        </p:xfrm>
        <a:graphic>
          <a:graphicData uri="http://schemas.openxmlformats.org/drawingml/2006/table">
            <a:tbl>
              <a:tblPr/>
              <a:tblGrid>
                <a:gridCol w="2573280"/>
                <a:gridCol w="1886040"/>
                <a:gridCol w="1884240"/>
                <a:gridCol w="1886040"/>
              </a:tblGrid>
              <a:tr h="535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ет карандаш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лбец 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рас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Оранжев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Желт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Оливков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Сер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84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. Орг.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Organization Chart 13"/>
          <p:cNvGrpSpPr/>
          <p:nvPr/>
        </p:nvGrpSpPr>
        <p:grpSpPr>
          <a:xfrm>
            <a:off x="431640" y="1585800"/>
            <a:ext cx="8208720" cy="4462920"/>
            <a:chOff x="431640" y="1585800"/>
            <a:chExt cx="8208720" cy="4462920"/>
          </a:xfrm>
        </p:grpSpPr>
        <p:cxnSp>
          <p:nvCxnSpPr>
            <p:cNvPr id="91" name="_s2052"/>
            <p:cNvCxnSpPr>
              <a:stCxn id="92" idx="0"/>
              <a:endCxn id="93" idx="2"/>
            </p:cNvCxnSpPr>
            <p:nvPr/>
          </p:nvCxnSpPr>
          <p:spPr>
            <a:xfrm flipV="1" rot="16200000">
              <a:off x="6917760" y="4122720"/>
              <a:ext cx="558360" cy="10623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3"/>
            <p:cNvCxnSpPr>
              <a:stCxn id="95" idx="0"/>
              <a:endCxn id="93" idx="2"/>
            </p:cNvCxnSpPr>
            <p:nvPr/>
          </p:nvCxnSpPr>
          <p:spPr>
            <a:xfrm flipH="1" flipV="1" rot="5400000">
              <a:off x="5853960" y="4120560"/>
              <a:ext cx="558360" cy="1066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4"/>
            <p:cNvCxnSpPr>
              <a:stCxn id="97" idx="0"/>
              <a:endCxn id="98" idx="2"/>
            </p:cNvCxnSpPr>
            <p:nvPr/>
          </p:nvCxnSpPr>
          <p:spPr>
            <a:xfrm flipV="1" rot="16200000">
              <a:off x="2661480" y="4120560"/>
              <a:ext cx="558360" cy="1066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8" idx="2"/>
            </p:cNvCxnSpPr>
            <p:nvPr/>
          </p:nvCxnSpPr>
          <p:spPr>
            <a:xfrm flipH="1" flipV="1" rot="5400000">
              <a:off x="1596600" y="4121640"/>
              <a:ext cx="558360" cy="10648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93" idx="0"/>
              <a:endCxn id="102" idx="2"/>
            </p:cNvCxnSpPr>
            <p:nvPr/>
          </p:nvCxnSpPr>
          <p:spPr>
            <a:xfrm flipV="1" rot="16200000">
              <a:off x="5321880" y="1914480"/>
              <a:ext cx="558360" cy="21308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102" idx="2"/>
            </p:cNvCxnSpPr>
            <p:nvPr/>
          </p:nvCxnSpPr>
          <p:spPr>
            <a:xfrm flipV="1">
              <a:off x="4536000" y="2700720"/>
              <a:ext cx="252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98" idx="0"/>
              <a:endCxn id="102" idx="2"/>
            </p:cNvCxnSpPr>
            <p:nvPr/>
          </p:nvCxnSpPr>
          <p:spPr>
            <a:xfrm flipH="1" flipV="1" rot="5400000">
              <a:off x="3192840" y="1915560"/>
              <a:ext cx="558360" cy="21286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2059"/>
            <p:cNvSpPr/>
            <p:nvPr/>
          </p:nvSpPr>
          <p:spPr>
            <a:xfrm>
              <a:off x="3624120" y="158580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0"/>
            <p:cNvSpPr/>
            <p:nvPr/>
          </p:nvSpPr>
          <p:spPr>
            <a:xfrm>
              <a:off x="149580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362412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2"/>
            <p:cNvSpPr/>
            <p:nvPr/>
          </p:nvSpPr>
          <p:spPr>
            <a:xfrm>
              <a:off x="5752440" y="325944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4316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4"/>
            <p:cNvSpPr/>
            <p:nvPr/>
          </p:nvSpPr>
          <p:spPr>
            <a:xfrm>
              <a:off x="255960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5"/>
            <p:cNvSpPr/>
            <p:nvPr/>
          </p:nvSpPr>
          <p:spPr>
            <a:xfrm>
              <a:off x="468792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66"/>
            <p:cNvSpPr/>
            <p:nvPr/>
          </p:nvSpPr>
          <p:spPr>
            <a:xfrm>
              <a:off x="6816240" y="4933080"/>
              <a:ext cx="1824120" cy="1115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107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6040" y="4149360"/>
            <a:ext cx="8229600" cy="19717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0" descr="Pencils_endings"/>
          <p:cNvPicPr/>
          <p:nvPr/>
        </p:nvPicPr>
        <p:blipFill>
          <a:blip r:embed="rId1"/>
          <a:stretch/>
        </p:blipFill>
        <p:spPr>
          <a:xfrm>
            <a:off x="1822320" y="1452600"/>
            <a:ext cx="50547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83520" y="139680"/>
            <a:ext cx="8996760" cy="6401160"/>
            <a:chOff x="83520" y="139680"/>
            <a:chExt cx="8996760" cy="6401160"/>
          </a:xfrm>
        </p:grpSpPr>
        <p:sp>
          <p:nvSpPr>
            <p:cNvPr id="116" name="Rectangle 5"/>
            <p:cNvSpPr/>
            <p:nvPr/>
          </p:nvSpPr>
          <p:spPr>
            <a:xfrm>
              <a:off x="324000" y="404640"/>
              <a:ext cx="8424720" cy="597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 rot="13468800">
              <a:off x="33120" y="5552280"/>
              <a:ext cx="158580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 rot="13254000">
              <a:off x="7522560" y="69228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 rot="18717000">
              <a:off x="7558560" y="5482440"/>
              <a:ext cx="1586160" cy="505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 rot="18609000">
              <a:off x="-2160" y="655920"/>
              <a:ext cx="1585800" cy="5047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ww.rupresentations.ucoz.r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шаблон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создан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Sou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дминистратором сай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rupresentations.ucoz.r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можете использовать этот шаблон при создании ваших презентаций в личных или бизнес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больше шаблонов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o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p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ую полезную информацию о создании презентаций вы можете найти на сай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rupresentations.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11:39Z</dcterms:created>
  <dc:creator>user</dc:creator>
  <dc:description/>
  <dc:language>en-US</dc:language>
  <cp:lastModifiedBy>Name</cp:lastModifiedBy>
  <dcterms:modified xsi:type="dcterms:W3CDTF">2011-02-04T11:36:17Z</dcterms:modified>
  <cp:revision>8</cp:revision>
  <dc:subject/>
  <dc:title>Цветные карандаш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30000000000010243000207f6000400038000</vt:lpwstr>
  </property>
</Properties>
</file>