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123-1F2E-43FA-8951-5D0C3329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72D-F848-4350-9A89-5E6F5731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9DF6-4706-4CC2-88AF-8DF28B21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8C5-13DF-4F90-B2FC-A1CD1431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4F4E8-66ED-4C5F-BEF1-339FAD7A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7B8B2-9428-4210-A82B-93A6B940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2118B-9A49-4D97-89B6-80628ABD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05FB8-99FF-46D2-966D-4F0B67B2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BD729-CC5F-4984-9217-282FA81D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EAC11-F735-44D3-ABDE-8C8ABDDA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D4410-927A-45DD-AF2D-EDE6DC9A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740-97F2-4950-9385-3AC49A2F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1FB07-E60E-44B5-A37E-66BA3349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8583A-C93B-47A3-9E64-02BCE1F5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C24DA-05A3-4D23-86B4-49DE0D88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F6CAF-30DC-462E-9398-DFA41E6A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EE047-B918-4A02-AFDE-DA58FFEE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8708-D0B3-42AA-9223-B08DA576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AAD-74C4-4BFB-A1DE-9FC12A89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44B-BA1D-47E1-BE59-3D849AA7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101-7CDA-40A3-A9C5-78793CCB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689-A673-4180-A838-E2C2B489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DD9-FED3-49CA-8F6D-D0854BC1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7EF-1B02-45F3-92BA-2BE7FBE9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EC4F-E1FD-4B70-B448-B64A6C83ED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2266-D53B-4582-8EB9-A7F98C0D15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e3ff"/>
                </a:solidFill>
                <a:latin typeface="Arial"/>
              </a:rPr>
              <a:t>К У Л Ь Т У Р А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льтура в переводе с латинского означает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зделывание, взращи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льтура — это все, что создает человек: материальные ценности, умения, знания, обычаи, традиции, нравственные и моральные ц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льтура — возделывание души человека (Цицерон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ЛЬТУРА - характеристика определенной исторической эпох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 не может жить вне куль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совая, элитарная культура, субкуль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сновные культурологические школ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) психологическая 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точки зрения этого направления культуры - это душа народа, "дух" наро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сновные культурологические школ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) социологическа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диняет тех ученых, которые ищут истоки и объяснение культуры в его общественной природе и организации (Элиот, П. Сорокин, Вебер, Парсонс). Специфический облик той или иной страны, Вебер, например, связывал с культурными факторами, а не с цивилизационными, которые имеют общечеловеческий характер. Парсонс считает, что все духовные и материальные достижения, объединенные понятием "культура", являются результатом общественно обусловленных действий на уровне двух систем - социальной и культурн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сновные культурологические школ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) аксиологическа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направление является самым распространенным в культурологии. Не случайно чаще всего можно встретить толкование понятия "культура" как "совокупность материальных и духовных ценностей". Понятие "ценность" впервые появляется в работах Канта. Широкое использование этого понятия в культурологии начинается с работ Вин-дельбанда. Видными представителями этого направления являются Рик-керт, Коген, Мюнстерберг, Вундт, Брентано, Мейнонг, Шеле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Функции культур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Аккумуляция родового опы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ункция гносеологическ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познавательная. Охватывая все сферы общественного сознания, взятых их в единстве, культура дает целостную картину познания и освоения мира, а также уровень навыков и умений люд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Функции культур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. Функция исторического обмена, передачи социального опы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ту функцию называют информационной. Общество не имеет другого механизма передачи социального опыта, "социальной наследственности", помимо культуры. В этом смысле культуру можно назвать "памятью" человеч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4. Коммуникативная функция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спринимаемая информацию, заключенную в памятниках материальной и духовной культуры, человек тем самым вступает в косвенное, опосредованное общение с людьми, создавшими эти памятники. Средством общения выступает прежде всего выступает язы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Функции культур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5. Культура выполняет регулятивную и нормативную функцию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десь она выступает как система норм и требований, предъявляемых моралью и прав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6. Сигнификативная функция культур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ее способность создавать целостные, осмысленные представления о мире и самостоятельные философские и поэтические миры. Для этого культура вырабатывает запас значений, имен, знаков, язык. Наука, искусство, философия -это особым образом организованные знаковые системы, призванные с разных сторон представить мир, сделать его понятным, осмысленным, близким челове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Функции культу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7. Функция "психологической разрядки"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- как бы противоположна предыдущей, нормативной. Специфически культурные, закрепленные традицией формы разрядки - это праздники и ритуалы. Смысл праздника состоит в торжественном коллективном обновлении жизни. Во время праздника идеальное и реальное как бы сливаются, человек испытывает облегчение и радость, если, конечно, умеет праздновать и приобщаться к определенной праздничной культуре. В качестве разрядки эффектно используется игра. Суть игры состоит в удовлетворении влечений символическими средствами. Вместе с тем, многие игры настолько сложны и изощренны, что требуют сами больших усилий и напряжения. Примером могут служить шахмат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Функции культу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8. Главной функцией является гуманистическая фун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льтура облагораживает человека, делает его личностью, прививает культуру общения, культуру восприятия, милосердие, альтруизм, такт, любовь к другим людям. Культура выполняет свои функции, влияет на социальную жизнь разными путями: а) через социализацию, б) через создание и введение ценностей, в) через образцы поведения, г) через создание моделей институтов и социальных сист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2 круга исследования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онятия «культура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1) Культура как поступательное движение, обусловленное накоплением традиций, обновляющихся творческим импульсом (Д. С. Лихачев, Ю. М. Лотман, В. С. Библер, Л. Н. Баткин, Н. С. Злобин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2 круга исследования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онятия «культура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сль об иссякании, конечности культуры нашего времени, в которой традиционность мешает возрождению «механизированного человека» (Н. А. Бердяев, Ф. Майор, К. Ясперс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сей несводимости 1 и 2 концепций – общий центр: человек субъект культуры, ее цент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ПРЕДЕЛЕНИЯ ПОНЯТИЯ</a:t>
            </a: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«КУЛЬТУРА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удачное определение понятия "культура", по-видимому, дано английским этнографом Э. Тейлором в 1871 г.: "Культура... это некоторое сложное целое, которое включает в себя знания, верования, искусство, мораль, законы, обычаи и другие способности и привычки, приобретаемые и достигаемые человеком как членом общества" . Если прибавить к этому материализованные знания, верования и умения, окружающие нас в виде зданий, произведений искусства, книг, культовых предметов и предметов повседневного обихода, то становится очевидным, что культура - это все, что производится, социально усваивается и разделяется членами общ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e3e3ff"/>
                </a:solidFill>
                <a:uFillTx/>
                <a:latin typeface="Arial"/>
              </a:rPr>
              <a:t>Чтобы получить представление о многозначности понятия "культура", обратим внимание на ряд определений, предложенные некоторыми учеными Европы и США:</a:t>
            </a:r>
            <a:endParaRPr b="0" lang="en-US" sz="2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, включающий знания, верования, искусства, законы, мораль, обычаи и другие способности и привычки, обретенные человеком как членом общества" (Э. Тейлор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каждый шаг вперед на пути культуры был шагом к свободе" (Ф. Энгельс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социальное наследование" (Б. Малиновский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культурный аспект охватывающий представления, ценности, нормы, их взаимодействия и взаимоотношения" (П.. Сорокин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КУЛЬТУРА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организация разнообразных явлений - материальных объектов, телесных актов, идей и чувств, которые состоят из символов или зависят от их употребления" (Л. Уай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то, что отличает человека от животного" (В. Оствалъд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процесс прогрессирующего самоосвобождения человека, языка, религия, наука - различные фазы этого процесса" (Э, Кассирер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совокупность интеллектуальные элементов, имеющихся у данного человека или у группы людей и обладающие некоторой стабильностью, связанной с тем, что можно назвать "памятью мира" и общества - памятью, материализированной в библиотеках, памятниках и языках" (А. Моль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В отечественной культурологии основными являются следующие определения: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льтура охватывает четыре "общих разряда: деятельность религиозную культурную, в тесном значении этого слова", т.е. научную, художественную и техническую, деятельность политическую и деятельность общественное экономическую" (Н. Данилевский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льтура "ядром своим и корнем имеет культ. Культурные ценности - это производные культа, как бы отслояющаяся шелуха культа" (Г1. Флоренский), О "совокупность материальных и духовных ценностей"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способ человеческой деятельности" (Э. Маркарян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знаковая система" (Ю. Лотман, Б. Успенский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КУЛЬТУРА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воплощенные ценности" (И. Чавчавадзе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состояние духовной жизни общества" (М. Ким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культура в современном понимании есть совокупности материальных и духовных предметов человеческой деятельности" (Э. Соколов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система регуляторов человеческой деятельности, несущая в себе аккумулированный опыт, накопленный человеком разумом" (В. Давидович и Ю. Жданов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культура как система духовного производства охватывает сознание, хранение, распространение и потребление духовных ценностей, взглядов, знаний и ориентацией - все то, что составляет духовный мир общества и человека" (Б. Ерасов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так, культура 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надбиологический механизм аккумуляции и совершенствования опыта народов, родовой опыт человечеств, закодированный в знаковых системах, орудиях и передаваемый из поколения в поколени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сновные культурологические школ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) символическая школ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ым, с точки зрения этой школы, во всякой культуре является то, что она связана с использованием символов. Поэтому понятие "культура" определяет через указание этой особенности всякой культуры. Л. Уайт, к примеру, понятие "культура" определяет как "организацию вещей и явлений, основанную на символах". Представителями символической школы являются Кассирер и Леви-Стро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сновные культурологические школ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) натуралистическая шк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ставители этого направления пытаются объяснить особенности той или иной культуры особенностями природного бытия человека, пытаются представить культуру как непосредственную адаптацию человека к условиям окружающей среды. К этому направлению относятся работы Ф. Гамильтона, Г. Спенсера, Б. Малиновского, 3. Фрейда, К. Лорен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22:12:16Z</dcterms:created>
  <dc:creator>Ya</dc:creator>
  <dc:description/>
  <dc:language>en-US</dc:language>
  <cp:lastModifiedBy>Owner</cp:lastModifiedBy>
  <dcterms:modified xsi:type="dcterms:W3CDTF">2012-08-27T22:47:54Z</dcterms:modified>
  <cp:revision>27</cp:revision>
  <dc:subject/>
  <dc:title>КУЛЬТУРА </dc:title>
</cp:coreProperties>
</file>