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AC9-22C9-4023-82B1-FDB52104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638-1802-4AAD-A814-02CB87D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53D-290F-4BCF-AFD0-AFD72545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B78-B060-4439-9275-4CD5CBE6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B2000-711A-40C4-8A6D-F44260E8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3C077-6D12-4E1D-96A9-A97F81A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4B20C-36B8-4A61-BAE2-A59691DC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6B356-6055-4359-A6B8-8929F5B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14224-57CB-4558-9A1C-A27D5D16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36ADA-7676-4E60-8B7A-0A44E127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0CCB-9E82-4011-9C74-3B8EB95B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2FB-1900-4F11-9F01-675D26C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BD335-B22B-448E-BAD2-8D82F2AC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EAD25-A0A8-466F-9985-8DC4BF4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69C09-F2C5-4F66-A8C6-5543F58A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8C886-9519-4A6D-8D51-59E8E9C7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DCFF7-95BC-41E1-A7E4-22147C80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CE8-EC5A-4A97-971C-E40E0255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C0A-8787-4598-B9BB-44927DFB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DFD-C07E-4AA2-B353-2E8FA26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4D0-6B91-42A3-A561-BCE97B5B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14B-EA3E-436A-B110-1D4EFF27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397-E8F3-40C6-8B79-104697C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81E-9C8C-46DF-806E-F1B5864E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1E6-9239-4AA4-8CE6-86620F6C1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F61A-826F-49E9-BA0F-69B47C3B3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К У Л Ь Т У Р А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в переводе с латинского означае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зделывание, взращи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— это все, что создает человек: материальные ценности, умения, знания, обычаи, традиции, нравственные и моральные ц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— возделывание души человека (Цицерон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- характеристика определенной исторической эп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не может жить вне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совая, элитарная культура, субкуль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) психологическая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точки зрения этого направления культуры - это душа народа, "дух" нар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) социологическа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диняет тех ученых, которые ищут истоки и объяснение культуры в его общественной природе и организации (Элиот, П. Сорокин, Вебер, Парсонс). Специфический облик той или иной страны, Вебер, например, связывал с культурными факторами, а не с цивилизационными, которые имеют общечеловеческий характер. Парсонс считает, что все духовные и материальные достижения, объединенные понятием "культура", являются результатом общественно обусловленных действий на уровне двух систем - социальной и культур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) аксиологическа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направление является самым распространенным в культурологии. Не случайно чаще всего можно встретить толкование понятия "культура" как "совокупность материальных и духовных ценностей". Понятие "ценность" впервые появляется в работах Канта. Широкое использование этого понятия в культурологии начинается с работ Вин-дельбанда. Видными представителями этого направления являются Рик-керт, Коген, Мюнстерберг, Вундт, Брентано, Мейнонг, Шел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Аккумуляция родового опы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я гносеологическ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ознавательная. Охватывая все сферы общественного сознания, взятых их в единстве, культура дает целостную картину познания и освоения мира, а также уровень навыков и умений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. Функция исторического обмена, передачи социального опы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у функцию называют информационной. Общество не имеет другого механизма передачи социального опыта, "социальной наследственности", помимо культуры. В этом смысле культуру можно назвать "памятью" челов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. Коммуникативная функция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спринимаемая информацию, заключенную в памятниках материальной и духовной культуры, человек тем самым вступает в косвенное, опосредованное общение с людьми, создавшими эти памятники. Средством общения выступает прежде всего выступает язы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. Культура выполняет регулятивную и нормативную функци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десь она выступает как система норм и требований, предъявляемых моралью и прав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. Сигнификативная функция культур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ее способность создавать целостные, осмысленные представления о мире и самостоятельные философские и поэтические миры. Для этого культура вырабатывает запас значений, имен, знаков, язык. Наука, искусство, философия -это особым образом организованные знаковые системы, призванные с разных сторон представить мир, сделать его понятным, осмысленным, близким челове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7. Функция "психологической разрядки"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- как бы противоположна предыдущей, нормативной. Специфически культурные, закрепленные традицией формы разрядки - это праздники и ритуалы. Смысл праздника состоит в торжественном коллективном обновлении жизни. Во время праздника идеальное и реальное как бы сливаются, человек испытывает облегчение и радость, если, конечно, умеет праздновать и приобщаться к определенной праздничной культуре. В качестве разрядки эффектно используется игра. Суть игры состоит в удовлетворении влечений символическими средствами. Вместе с тем, многие игры настолько сложны и изощренны, что требуют сами больших усилий и напряжения. Примером могут служить шахмат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ункции культу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. Главной функцией является гуманистическая фун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льтура облагораживает человека, делает его личностью, прививает культуру общения, культуру восприятия, милосердие, альтруизм, такт, любовь к другим людям. Культура выполняет свои функции, влияет на социальную жизнь разными путями: а) через социализацию, б) через создание и введение ценностей, в) через образцы поведения, г) через создание моделей институтов и социальных сист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2 круга исследования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я «культура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1) Культура как поступательное движение, обусловленное накоплением традиций, обновляющихся творческим импульсом (Д. С. Лихачев, Ю. М. Лотман, В. С. Библер, Л. Н. Баткин, Н. С. Злобин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2 круга исследования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нятия «культура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сль об иссякании, конечности культуры нашего времени, в которой традиционность мешает возрождению «механизированного человека» (Н. А. Бердяев, Ф. Майор, К. Ясперс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сей несводимости 1 и 2 концепций – общий центр: человек субъект культуры, ее цен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ПРЕДЕЛЕНИЯ ПОНЯТИЯ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«КУЛЬТУРА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удачное определение понятия "культура", по-видимому, дано английским этнографом Э. Тейлором в 1871 г.: "Культура... это некоторое сложное целое, которое включает в себя знания, верования, искусство, мораль, законы, обычаи и другие способности и привычки, приобретаемые и достигаемые человеком как членом общества" . Если прибавить к этому материализованные знания, верования и умения, окружающие нас в виде зданий, произведений искусства, книг, культовых предметов и предметов повседневного обихода, то становится очевидным, что культура - это все, что производится, социально усваивается и разделяется членами об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3e3ff"/>
                </a:solidFill>
                <a:uFillTx/>
                <a:latin typeface="Arial"/>
              </a:rPr>
              <a:t>Чтобы получить представление о многозначности понятия "культура", обратим внимание на ряд определений, предложенные некоторыми учеными Европы и США:</a:t>
            </a:r>
            <a:endParaRPr b="0" lang="en-US" sz="2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, включающий знания, верования, искусства, законы, мораль, обычаи и другие способности и привычки, обретенные человеком как членом общества" (Э. Тейлор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аждый шаг вперед на пути культуры был шагом к свободе" (Ф. Энгельс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оциальное наследование" (Б. Малиновски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ультурный аспект охватывающий представления, ценности, нормы, их взаимодействия и взаимоотношения" (П.. Сорокин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организация разнообразных явлений - материальных объектов, телесных актов, идей и чувств, которые состоят из символов или зависят от их употребления" (Л. Уай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о, что отличает человека от животного" (В. Оствалъд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роцесс прогрессирующего самоосвобождения человека, языка, религия, наука - различные фазы этого процесса" (Э, Кассирер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овокупность интеллектуальные элементов, имеющихся у данного человека или у группы людей и обладающие некоторой стабильностью, связанной с тем, что можно назвать "памятью мира" и общества - памятью, материализированной в библиотеках, памятниках и языках" (А. Моль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 отечественной культурологии основными являются следующие определения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охватывает четыре "общих разряда: деятельность религиозную культурную, в тесном значении этого слова", т.е. научную, художественную и техническую, деятельность политическую и деятельность общественное экономическую" (Н. Данилевски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а "ядром своим и корнем имеет культ. Культурные ценности - это производные культа, как бы отслояющаяся шелуха культа" (Г1. Флоренский), О "совокупность материальных и духовных ценностей"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пособ человеческой деятельности" (Э. Маркарян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знаковая система" (Ю. Лотман, Б. Успенски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УЛЬТУРА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воплощенные ценности" (И. Чавчавадз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остояние духовной жизни общества" (М. Ким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ультура в современном понимании есть совокупности материальных и духовных предметов человеческой деятельности" (Э. Соколов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система регуляторов человеческой деятельности, несущая в себе аккумулированный опыт, накопленный человеком разумом" (В. Давидович и Ю. Жданов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ультура как система духовного производства охватывает сознание, хранение, распространение и потребление духовных ценностей, взглядов, знаний и ориентацией - все то, что составляет духовный мир общества и человека" (Б. Ерасов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ак, культура 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надбиологический механизм аккумуляции и совершенствования опыта народов, родовой опыт человечеств, закодированный в знаковых системах, орудиях и передаваемый из поколения в поколе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) символическая школ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м, с точки зрения этой школы, во всякой культуре является то, что она связана с использованием символов. Поэтому понятие "культура" определяет через указание этой особенности всякой культуры. Л. Уайт, к примеру, понятие "культура" определяет как "организацию вещей и явлений, основанную на символах". Представителями символической школы являются Кассирер и Леви-Ст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сновные культурологические школ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) натуралистическая ш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ители этого направления пытаются объяснить особенности той или иной культуры особенностями природного бытия человека, пытаются представить культуру как непосредственную адаптацию человека к условиям окружающей среды. К этому направлению относятся работы Ф. Гамильтона, Г. Спенсера, Б. Малиновского, 3. Фрейда, К. Лорен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2:12:16Z</dcterms:created>
  <dc:creator>Ya</dc:creator>
  <dc:description/>
  <dc:language>en-US</dc:language>
  <cp:lastModifiedBy>Owner</cp:lastModifiedBy>
  <dcterms:modified xsi:type="dcterms:W3CDTF">2012-08-27T22:47:54Z</dcterms:modified>
  <cp:revision>27</cp:revision>
  <dc:subject/>
  <dc:title>КУЛЬТУРА </dc:title>
</cp:coreProperties>
</file>