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6.png" ContentType="image/png"/>
  <Override PartName="/ppt/media/image7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2AD-EA0F-41AF-98A8-76FD2D8A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0E3-1CE2-4414-A5CA-C5E08B5C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31C-1128-4798-8824-66F0698E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C47-9F99-45A9-9EC9-1469D7BC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DED-1FFA-4E5C-BCDA-92FB476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F70-9514-4A06-8BED-BD23437D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8A9-AA24-4438-8FA3-E818E1AF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2E2-504E-4B28-AE27-42775740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D1E-D367-482B-A9FA-07ED47BD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3D1-2C4A-4186-A44E-EEEAFE6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CF1-88A2-4FBC-A9F6-AADB00C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C44-5B4D-44F6-A258-2196C72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201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3072FEC7-6AD9-4FD0-8789-11184734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297000"/>
            <a:ext cx="8209080" cy="6561000"/>
            <a:chOff x="395280" y="297000"/>
            <a:chExt cx="8209080" cy="656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95280" y="297000"/>
              <a:ext cx="8209080" cy="61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780000" y="6093000"/>
              <a:ext cx="2117520" cy="765000"/>
              <a:chOff x="3780000" y="6093000"/>
              <a:chExt cx="2117520" cy="765000"/>
            </a:xfrm>
          </p:grpSpPr>
          <p:sp>
            <p:nvSpPr>
              <p:cNvPr id="44" name=""/>
              <p:cNvSpPr txBox="1"/>
              <p:nvPr/>
            </p:nvSpPr>
            <p:spPr>
              <a:xfrm>
                <a:off x="3780000" y="6093000"/>
                <a:ext cx="172476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00cc66"/>
                    </a:solidFill>
                    <a:effectLst>
                      <a:outerShdw dist="40186" dir="1096358" blurRad="0" rotWithShape="0">
                        <a:srgbClr val="808080">
                          <a:alpha val="80000"/>
                        </a:srgbClr>
                      </a:outerShdw>
                    </a:effectLst>
                    <a:latin typeface="Bookman Old Style"/>
                  </a:rPr>
                  <a:t>Презенташки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  <a:ea typeface="Bookman Old Style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00cc66"/>
                    </a:solidFill>
                    <a:effectLst>
                      <a:outerShdw dist="40186" dir="1096358" blurRad="0" rotWithShape="0">
                        <a:srgbClr val="808080">
                          <a:alpha val="80000"/>
                        </a:srgbClr>
                      </a:outerShdw>
                    </a:effectLst>
                    <a:latin typeface="Bookman Old Style"/>
                  </a:rPr>
                  <a:t>от Наташки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  <a:ea typeface="Bookman Old Style"/>
                </a:endParaRPr>
              </a:p>
            </p:txBody>
          </p:sp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11520" y="6263280"/>
                <a:ext cx="486000" cy="47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3132000" y="333360"/>
              <a:ext cx="28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на русском язы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pictur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1" name=""/>
            <p:cNvSpPr/>
            <p:nvPr/>
          </p:nvSpPr>
          <p:spPr>
            <a:xfrm>
              <a:off x="0" y="0"/>
              <a:ext cx="248436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УЖНО БЫТЬ ВНИМАТЕЛЬНЫ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ШОССЕ С ДВУСТРОНН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ВИЖЕНИЕМ, ЖД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ОСТРОВ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БЕЗОПАСНОСТИ, ЕСЛИ СРАЗ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Е ПЕРЕШЕЛ УЛИЦ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5" name=""/>
            <p:cNvSpPr/>
            <p:nvPr/>
          </p:nvSpPr>
          <p:spPr>
            <a:xfrm>
              <a:off x="6588000" y="189000"/>
              <a:ext cx="2556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УЖНО ВНИМАТЕЛЬН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РОХОДИТЬ ДОМ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В КОТОРЫХ ЕСТЬ ВЫЕЗ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ЛЯ МАШ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360" y="0"/>
            <a:ext cx="9144000" cy="6858000"/>
            <a:chOff x="36360" y="0"/>
            <a:chExt cx="9144000" cy="6858000"/>
          </a:xfrm>
        </p:grpSpPr>
        <p:pic>
          <p:nvPicPr>
            <p:cNvPr id="88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9" name=""/>
            <p:cNvSpPr/>
            <p:nvPr/>
          </p:nvSpPr>
          <p:spPr>
            <a:xfrm>
              <a:off x="6551640" y="260280"/>
              <a:ext cx="2376360" cy="16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 ТРОТУАРУ ВСЕГДА НУЖ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ИДТИ С ПРАВОЙ СТОР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3" name=""/>
            <p:cNvSpPr/>
            <p:nvPr/>
          </p:nvSpPr>
          <p:spPr>
            <a:xfrm>
              <a:off x="0" y="333360"/>
              <a:ext cx="241128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ТАМ, ГДЕ НЕТ ПЕШЕХОД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ОРОЖКИ, ПЕРЕБЕГАТЬ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УЛИЦУ НИКОГДА НЕЛЬЗ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УЖНО ИДТИ СПОКОЙНО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СЛЕДИТЬ, НЕ ИДЕТ 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МАШИНА – СЛЕВА ИЛИ СПРАВ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7" name=""/>
            <p:cNvSpPr/>
            <p:nvPr/>
          </p:nvSpPr>
          <p:spPr>
            <a:xfrm>
              <a:off x="179280" y="404640"/>
              <a:ext cx="2232000" cy="16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УЛИЦЕ, ГДЕ Е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ДЗЕМНЫЙ ПЕРЕХОД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ЛЬЗУЮТСЯ НИ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ИДЯ С ПРАВОЙ СТОР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0" name=""/>
          <p:cNvSpPr/>
          <p:nvPr/>
        </p:nvSpPr>
        <p:spPr>
          <a:xfrm>
            <a:off x="34920" y="260280"/>
            <a:ext cx="237636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ЕОБХОДИМО ЗНАТЬ, Ч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ТРАМВАЙ СЛЕДУЕТ ОБХОД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104" name=""/>
            <p:cNvSpPr/>
            <p:nvPr/>
          </p:nvSpPr>
          <p:spPr>
            <a:xfrm>
              <a:off x="73080" y="189000"/>
              <a:ext cx="2411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УЛИЦУ ПЕРЕХОДЯ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 ПЕШЕХОД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ОРОЖ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477720"/>
              <a:ext cx="2448000" cy="16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ГРУППА МАЛЫШЕЙ ДОЛЖ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ЕРЕХОДИТЬ УЛИЦУ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СТРОИВШИСЬ В КОЛОНУ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СПЕРЕДИ ИЛИ СЗАДИ Е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ИДУТ ВЗРОСЛЫЕ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КРАСНЫМИ ФЛАЖ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1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112" name=""/>
            <p:cNvSpPr/>
            <p:nvPr/>
          </p:nvSpPr>
          <p:spPr>
            <a:xfrm>
              <a:off x="6516720" y="189000"/>
              <a:ext cx="237636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АВТОБУС И ТРОЛЛЕЙБУ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ОБХОДЯТ ТОЛЬКО СЗА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971640" y="0"/>
            <a:ext cx="7416720" cy="6858000"/>
            <a:chOff x="971640" y="0"/>
            <a:chExt cx="741672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971640" y="1523880"/>
              <a:ext cx="74167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979640" y="246240"/>
              <a:ext cx="547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8000" spc="-1" strike="noStrike">
                  <a:solidFill>
                    <a:srgbClr val="ff3300"/>
                  </a:solidFill>
                  <a:latin typeface="Arial Narrow"/>
                </a:rPr>
                <a:t>КО</a:t>
              </a:r>
              <a:r>
                <a:rPr b="1" lang="en-US" sz="8000" spc="-1" strike="noStrike">
                  <a:solidFill>
                    <a:srgbClr val="ffff00"/>
                  </a:solidFill>
                  <a:latin typeface="Arial Narrow"/>
                </a:rPr>
                <a:t>НЕ</a:t>
              </a:r>
              <a:r>
                <a:rPr b="1" lang="en-US" sz="8000" spc="-1" strike="noStrike">
                  <a:solidFill>
                    <a:srgbClr val="00cc66"/>
                  </a:solidFill>
                  <a:latin typeface="Arial Narrow"/>
                </a:rPr>
                <a:t>Ц!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2360" y="0"/>
              <a:ext cx="58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 скачали эту презентацию на сайт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viki.rdf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1628640"/>
              <a:ext cx="410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 Old Style"/>
                </a:rPr>
                <a:t>Автор презентации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Уставицкая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Наталь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1989000"/>
            <a:ext cx="58323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орогие де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Рассмотрите внимательно рисунки и расскажите, всегда ли придерживаются правил уличного движения  медвежонок, лисичка, заяц и еж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57824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440"/>
            <a:ext cx="9144000" cy="6856560"/>
            <a:chOff x="0" y="1440"/>
            <a:chExt cx="9144000" cy="6856560"/>
          </a:xfrm>
        </p:grpSpPr>
        <p:pic>
          <p:nvPicPr>
            <p:cNvPr id="52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3" name=""/>
            <p:cNvSpPr/>
            <p:nvPr/>
          </p:nvSpPr>
          <p:spPr>
            <a:xfrm>
              <a:off x="468360" y="333360"/>
              <a:ext cx="1800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АВТОБУС НИКОГ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Е ОБХОДЯТ СПЕРЕД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А ТО МОЖНО ПОПА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Д МАШИН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picture" descr=""/>
            <p:cNvPicPr/>
            <p:nvPr/>
          </p:nvPicPr>
          <p:blipFill>
            <a:blip r:embed="rId1">
              <a:lum contrast="46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7" name=""/>
            <p:cNvSpPr/>
            <p:nvPr/>
          </p:nvSpPr>
          <p:spPr>
            <a:xfrm>
              <a:off x="611280" y="189000"/>
              <a:ext cx="1800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КАЖДЫЙ ОБЯЗ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МНИТЬ, ЧТО ЧЕРЕ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УЛИЦУ ЕСТЬ ПЕРЕ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picture" descr=""/>
            <p:cNvPicPr/>
            <p:nvPr/>
          </p:nvPicPr>
          <p:blipFill>
            <a:blip r:embed="rId1">
              <a:lum contrast="52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1" name=""/>
            <p:cNvSpPr/>
            <p:nvPr/>
          </p:nvSpPr>
          <p:spPr>
            <a:xfrm>
              <a:off x="108000" y="333360"/>
              <a:ext cx="223344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КРАСНЫЙ СВЕТ УЛИЦ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ЕРЕХОДИТЬ НЕЛЬЗ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5" name=""/>
            <p:cNvSpPr/>
            <p:nvPr/>
          </p:nvSpPr>
          <p:spPr>
            <a:xfrm>
              <a:off x="6659640" y="476280"/>
              <a:ext cx="2160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ТРАМВАЙ НЕЛЬЗ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ОБХОДИТЬ СЗАД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ЭТО ОПАСНО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9" name=""/>
            <p:cNvSpPr/>
            <p:nvPr/>
          </p:nvSpPr>
          <p:spPr>
            <a:xfrm>
              <a:off x="108000" y="476280"/>
              <a:ext cx="230328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ВЕЛОСИПЕДЕ МОЖ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КАТАТЬСЯ ТОЛЬКО ВО ДВ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3" name=""/>
            <p:cNvSpPr/>
            <p:nvPr/>
          </p:nvSpPr>
          <p:spPr>
            <a:xfrm>
              <a:off x="250920" y="620640"/>
              <a:ext cx="2089080" cy="9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ЕЛЬЗЯ ИГР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УЛИЦЕ, ЭТО ОПАСН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ЛЯ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6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7" name=""/>
            <p:cNvSpPr/>
            <p:nvPr/>
          </p:nvSpPr>
          <p:spPr>
            <a:xfrm>
              <a:off x="324000" y="549360"/>
              <a:ext cx="18000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ТАКИЕ ВЫХОДКИ МОГУ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РИВЕСТИ К БЕД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8:06:24Z</dcterms:created>
  <dc:creator>ДОМ</dc:creator>
  <dc:description/>
  <dc:language>en-US</dc:language>
  <cp:lastModifiedBy>AMBER</cp:lastModifiedBy>
  <dcterms:modified xsi:type="dcterms:W3CDTF">2007-05-12T16:13:35Z</dcterms:modified>
  <cp:revision>21</cp:revision>
  <dc:subject/>
  <dc:title>Слайд 1</dc:title>
</cp:coreProperties>
</file>