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4.wmf" ContentType="image/x-wmf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6.png" ContentType="image/png"/>
  <Override PartName="/ppt/media/image7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44CF-5B53-4BD1-8069-7916227D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E7F3-3FB2-41B3-B131-E7F6C388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A598-ECC5-420D-B42B-64C553FFA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50C2-D873-45EE-AF09-0CD502625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45B6-94DC-4ECD-AC18-38CFBBB0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4EE2-8F35-4AB3-8763-D9C53024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6171-3C73-4850-B8FC-4D2D34B5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DD78-BB0F-4F8D-8CE3-9A2EDF44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23D4-5FE7-45E8-863C-D762E69B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C5F9-2294-4567-9F1E-03B4598B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6EB5-0045-4A1A-A6F6-5817EAAA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6612-39C6-43E0-95F6-7134E3DF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250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5080" indent="-201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05040" indent="-200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05040" indent="-200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05040" indent="-200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lstStyle>
            <a:lvl1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lstStyle>
            <a:lvl1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lstStyle>
            <a:lvl1pPr indent="0" algn="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fld id="{6FC97F1D-AAED-470E-85CA-84EAF8B28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95280" y="297000"/>
            <a:ext cx="8209080" cy="6561000"/>
            <a:chOff x="395280" y="297000"/>
            <a:chExt cx="8209080" cy="65610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395280" y="297000"/>
              <a:ext cx="8209080" cy="615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" name=""/>
            <p:cNvGrpSpPr/>
            <p:nvPr/>
          </p:nvGrpSpPr>
          <p:grpSpPr>
            <a:xfrm>
              <a:off x="3780000" y="6093000"/>
              <a:ext cx="2117520" cy="765000"/>
              <a:chOff x="3780000" y="6093000"/>
              <a:chExt cx="2117520" cy="765000"/>
            </a:xfrm>
          </p:grpSpPr>
          <p:sp>
            <p:nvSpPr>
              <p:cNvPr id="44" name=""/>
              <p:cNvSpPr txBox="1"/>
              <p:nvPr/>
            </p:nvSpPr>
            <p:spPr>
              <a:xfrm>
                <a:off x="3780000" y="6093000"/>
                <a:ext cx="1724760" cy="76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Stop">
                  <a:avLst>
                    <a:gd name="adj" fmla="val 125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2600">
                      <a:solidFill>
                        <a:srgbClr val="000000"/>
                      </a:solidFill>
                      <a:miter/>
                    </a:ln>
                    <a:solidFill>
                      <a:srgbClr val="00cc66"/>
                    </a:solidFill>
                    <a:effectLst>
                      <a:outerShdw dist="40186" dir="1096358" blurRad="0" rotWithShape="0">
                        <a:srgbClr val="808080">
                          <a:alpha val="80000"/>
                        </a:srgbClr>
                      </a:outerShdw>
                    </a:effectLst>
                    <a:latin typeface="Bookman Old Style"/>
                  </a:rPr>
                  <a:t>Презенташки </a:t>
                </a:r>
                <a:endParaRPr b="1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cc66"/>
                  </a:solidFill>
                  <a:effectLst>
                    <a:outerShdw dist="40186" dir="1096358" blurRad="0" rotWithShape="0">
                      <a:srgbClr val="808080">
                        <a:alpha val="80000"/>
                      </a:srgbClr>
                    </a:outerShdw>
                  </a:effectLst>
                  <a:latin typeface="Bookman Old Style"/>
                  <a:ea typeface="Bookman Old Style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2600">
                      <a:solidFill>
                        <a:srgbClr val="000000"/>
                      </a:solidFill>
                      <a:miter/>
                    </a:ln>
                    <a:solidFill>
                      <a:srgbClr val="00cc66"/>
                    </a:solidFill>
                    <a:effectLst>
                      <a:outerShdw dist="40186" dir="1096358" blurRad="0" rotWithShape="0">
                        <a:srgbClr val="808080">
                          <a:alpha val="80000"/>
                        </a:srgbClr>
                      </a:outerShdw>
                    </a:effectLst>
                    <a:latin typeface="Bookman Old Style"/>
                  </a:rPr>
                  <a:t>от Наташки</a:t>
                </a:r>
                <a:endParaRPr b="1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cc66"/>
                  </a:solidFill>
                  <a:effectLst>
                    <a:outerShdw dist="40186" dir="1096358" blurRad="0" rotWithShape="0">
                      <a:srgbClr val="808080">
                        <a:alpha val="80000"/>
                      </a:srgbClr>
                    </a:outerShdw>
                  </a:effectLst>
                  <a:latin typeface="Bookman Old Style"/>
                  <a:ea typeface="Bookman Old Style"/>
                </a:endParaRPr>
              </a:p>
            </p:txBody>
          </p:sp>
          <p:pic>
            <p:nvPicPr>
              <p:cNvPr id="4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411520" y="6263280"/>
                <a:ext cx="486000" cy="476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" name=""/>
            <p:cNvSpPr/>
            <p:nvPr/>
          </p:nvSpPr>
          <p:spPr>
            <a:xfrm>
              <a:off x="3132000" y="333360"/>
              <a:ext cx="288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на русском язык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0" name="picture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81" name=""/>
            <p:cNvSpPr/>
            <p:nvPr/>
          </p:nvSpPr>
          <p:spPr>
            <a:xfrm>
              <a:off x="0" y="0"/>
              <a:ext cx="2484360" cy="165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НУЖНО БЫТЬ ВНИМАТЕЛЬНЫ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НА ШОССЕ С ДВУСТРОННИ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ДВИЖЕНИЕМ, ЖДАТ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НА ОСТРОВК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БЕЗОПАСНОСТИ, ЕСЛИ СРАЗ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НЕ ПЕРЕШЕЛ УЛИЦ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000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4" name="picture" descr=""/>
            <p:cNvPicPr/>
            <p:nvPr/>
          </p:nvPicPr>
          <p:blipFill>
            <a:blip r:embed="rId1">
              <a:lum contrast="40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85" name=""/>
            <p:cNvSpPr/>
            <p:nvPr/>
          </p:nvSpPr>
          <p:spPr>
            <a:xfrm>
              <a:off x="6588000" y="189000"/>
              <a:ext cx="2556000" cy="165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НУЖНО ВНИМАТЕЛЬН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ПРОХОДИТЬ ДОМА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В КОТОРЫХ ЕСТЬ ВЫЕЗ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ДЛЯ МАШИ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600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36360" y="0"/>
            <a:ext cx="9144000" cy="6858000"/>
            <a:chOff x="36360" y="0"/>
            <a:chExt cx="9144000" cy="6858000"/>
          </a:xfrm>
        </p:grpSpPr>
        <p:pic>
          <p:nvPicPr>
            <p:cNvPr id="88" name="picture" descr=""/>
            <p:cNvPicPr/>
            <p:nvPr/>
          </p:nvPicPr>
          <p:blipFill>
            <a:blip r:embed="rId1">
              <a:lum contrast="40000"/>
            </a:blip>
            <a:stretch/>
          </p:blipFill>
          <p:spPr>
            <a:xfrm>
              <a:off x="36360" y="0"/>
              <a:ext cx="9144000" cy="685800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89" name=""/>
            <p:cNvSpPr/>
            <p:nvPr/>
          </p:nvSpPr>
          <p:spPr>
            <a:xfrm>
              <a:off x="6551640" y="260280"/>
              <a:ext cx="2376360" cy="165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ПО ТРОТУАРУ ВСЕГДА НУЖН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ИДТИ С ПРАВОЙ СТОРО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0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2" name="picture" descr=""/>
            <p:cNvPicPr/>
            <p:nvPr/>
          </p:nvPicPr>
          <p:blipFill>
            <a:blip r:embed="rId1">
              <a:lum contrast="40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93" name=""/>
            <p:cNvSpPr/>
            <p:nvPr/>
          </p:nvSpPr>
          <p:spPr>
            <a:xfrm>
              <a:off x="0" y="333360"/>
              <a:ext cx="2411280" cy="165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ТАМ, ГДЕ НЕТ ПЕШЕХОД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ДОРОЖКИ, ПЕРЕБЕГАТЬ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УЛИЦУ НИКОГДА НЕЛЬЗЯ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НУЖНО ИДТИ СПОКОЙНО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СЛЕДИТЬ, НЕ ИДЕТ Л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МАШИНА – СЛЕВА ИЛИ СПРАВ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100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6" name="picture" descr=""/>
            <p:cNvPicPr/>
            <p:nvPr/>
          </p:nvPicPr>
          <p:blipFill>
            <a:blip r:embed="rId1">
              <a:lum contrast="40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97" name=""/>
            <p:cNvSpPr/>
            <p:nvPr/>
          </p:nvSpPr>
          <p:spPr>
            <a:xfrm>
              <a:off x="179280" y="404640"/>
              <a:ext cx="2232000" cy="165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НА УЛИЦЕ, ГДЕ ЕСТ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ПОДЗЕМНЫЙ ПЕРЕХОД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ПОЛЬЗУЮТСЯ НИМ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ИДЯ С ПРАВОЙ СТОРО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800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00" name=""/>
          <p:cNvSpPr/>
          <p:nvPr/>
        </p:nvSpPr>
        <p:spPr>
          <a:xfrm>
            <a:off x="34920" y="260280"/>
            <a:ext cx="2376360" cy="16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НЕОБХОДИМО ЗНАТЬ, Ч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ТРАМВАЙ СЛЕДУЕТ ОБХОД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СПЕРЕД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500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3" name="picture" descr=""/>
            <p:cNvPicPr/>
            <p:nvPr/>
          </p:nvPicPr>
          <p:blipFill>
            <a:blip r:embed="rId1">
              <a:lum contrast="40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104" name=""/>
            <p:cNvSpPr/>
            <p:nvPr/>
          </p:nvSpPr>
          <p:spPr>
            <a:xfrm>
              <a:off x="73080" y="189000"/>
              <a:ext cx="2411280" cy="79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УЛИЦУ ПЕРЕХОДЯ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ПО ПЕШЕХОДНЫМ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ДОРОЖКА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400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7" name="picture" descr=""/>
            <p:cNvPicPr/>
            <p:nvPr/>
          </p:nvPicPr>
          <p:blipFill>
            <a:blip r:embed="rId1">
              <a:lum contrast="40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108" name=""/>
            <p:cNvSpPr/>
            <p:nvPr/>
          </p:nvSpPr>
          <p:spPr>
            <a:xfrm>
              <a:off x="6588000" y="477720"/>
              <a:ext cx="2448000" cy="165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ГРУППА МАЛЫШЕЙ ДОЛЖ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ПЕРЕХОДИТЬ УЛИЦУ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ПОСТРОИВШИСЬ В КОЛОНУ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СПЕРЕДИ ИЛИ СЗАДИ Е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ИДУТ ВЗРОСЛЫЕ С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КРАСНЫМИ ФЛАЖК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1000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1" name="picture" descr=""/>
            <p:cNvPicPr/>
            <p:nvPr/>
          </p:nvPicPr>
          <p:blipFill>
            <a:blip r:embed="rId1">
              <a:lum contrast="40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112" name=""/>
            <p:cNvSpPr/>
            <p:nvPr/>
          </p:nvSpPr>
          <p:spPr>
            <a:xfrm>
              <a:off x="6516720" y="189000"/>
              <a:ext cx="2376360" cy="165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АВТОБУС И ТРОЛЛЕЙБУ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ОБХОДЯТ ТОЛЬКО СЗАД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5000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971640" y="0"/>
            <a:ext cx="7416720" cy="6858000"/>
            <a:chOff x="971640" y="0"/>
            <a:chExt cx="7416720" cy="685800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971640" y="1523880"/>
              <a:ext cx="741672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979640" y="246240"/>
              <a:ext cx="5472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8000" spc="-1" strike="noStrike">
                  <a:solidFill>
                    <a:srgbClr val="ff3300"/>
                  </a:solidFill>
                  <a:latin typeface="Arial Narrow"/>
                </a:rPr>
                <a:t>КО</a:t>
              </a:r>
              <a:r>
                <a:rPr b="1" lang="en-US" sz="8000" spc="-1" strike="noStrike">
                  <a:solidFill>
                    <a:srgbClr val="ffff00"/>
                  </a:solidFill>
                  <a:latin typeface="Arial Narrow"/>
                </a:rPr>
                <a:t>НЕ</a:t>
              </a:r>
              <a:r>
                <a:rPr b="1" lang="en-US" sz="8000" spc="-1" strike="noStrike">
                  <a:solidFill>
                    <a:srgbClr val="00cc66"/>
                  </a:solidFill>
                  <a:latin typeface="Arial Narrow"/>
                </a:rPr>
                <a:t>Ц!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92360" y="0"/>
              <a:ext cx="58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ы скачали эту презентацию на сайте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viki.rdf.r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71640" y="1628640"/>
              <a:ext cx="410544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 Old Style"/>
                </a:rPr>
                <a:t>Автор презентации</a:t>
              </a:r>
              <a:br>
                <a:rPr sz="2200"/>
              </a:b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Уставицкая </a:t>
              </a:r>
              <a:br>
                <a:rPr sz="2200"/>
              </a:b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</a:rPr>
                <a:t>Наталь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11280" y="1989000"/>
            <a:ext cx="583236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Дорогие де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Рассмотрите внимательно рисунки и расскажите, всегда ли придерживаются правил уличного движения  медвежонок, лисичка, заяц и еж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48360" y="2133720"/>
            <a:ext cx="1578240" cy="25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1440"/>
            <a:ext cx="9144000" cy="6856560"/>
            <a:chOff x="0" y="1440"/>
            <a:chExt cx="9144000" cy="6856560"/>
          </a:xfrm>
        </p:grpSpPr>
        <p:pic>
          <p:nvPicPr>
            <p:cNvPr id="52" name="picture" descr=""/>
            <p:cNvPicPr/>
            <p:nvPr/>
          </p:nvPicPr>
          <p:blipFill>
            <a:blip r:embed="rId1">
              <a:lum contrast="40000"/>
            </a:blip>
            <a:stretch/>
          </p:blipFill>
          <p:spPr>
            <a:xfrm>
              <a:off x="0" y="1440"/>
              <a:ext cx="9144000" cy="685656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53" name=""/>
            <p:cNvSpPr/>
            <p:nvPr/>
          </p:nvSpPr>
          <p:spPr>
            <a:xfrm>
              <a:off x="468360" y="333360"/>
              <a:ext cx="1800000" cy="165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АВТОБУС НИКОГ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НЕ ОБХОДЯТ СПЕРЕДИ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А ТО МОЖНО ПОПА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ПОД МАШИН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6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6" name="picture" descr=""/>
            <p:cNvPicPr/>
            <p:nvPr/>
          </p:nvPicPr>
          <p:blipFill>
            <a:blip r:embed="rId1">
              <a:lum contrast="46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57" name=""/>
            <p:cNvSpPr/>
            <p:nvPr/>
          </p:nvSpPr>
          <p:spPr>
            <a:xfrm>
              <a:off x="611280" y="189000"/>
              <a:ext cx="1800000" cy="165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КАЖДЫЙ ОБЯЗ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ПОМНИТЬ, ЧТО ЧЕРЕ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УЛИЦУ ЕСТЬ ПЕРЕХ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5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0" name="picture" descr=""/>
            <p:cNvPicPr/>
            <p:nvPr/>
          </p:nvPicPr>
          <p:blipFill>
            <a:blip r:embed="rId1">
              <a:lum contrast="52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61" name=""/>
            <p:cNvSpPr/>
            <p:nvPr/>
          </p:nvSpPr>
          <p:spPr>
            <a:xfrm>
              <a:off x="108000" y="333360"/>
              <a:ext cx="2233440" cy="10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НА КРАСНЫЙ СВЕТ УЛИЦ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ПЕРЕХОДИТЬ НЕЛЬЗ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4" name="picture" descr=""/>
            <p:cNvPicPr/>
            <p:nvPr/>
          </p:nvPicPr>
          <p:blipFill>
            <a:blip r:embed="rId1">
              <a:lum contrast="40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65" name=""/>
            <p:cNvSpPr/>
            <p:nvPr/>
          </p:nvSpPr>
          <p:spPr>
            <a:xfrm>
              <a:off x="6659640" y="476280"/>
              <a:ext cx="2160360" cy="10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ТРАМВАЙ НЕЛЬЗ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ОБХОДИТЬ СЗАД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ЭТО ОПАСНО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8" name="picture" descr=""/>
            <p:cNvPicPr/>
            <p:nvPr/>
          </p:nvPicPr>
          <p:blipFill>
            <a:blip r:embed="rId1">
              <a:lum contrast="40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69" name=""/>
            <p:cNvSpPr/>
            <p:nvPr/>
          </p:nvSpPr>
          <p:spPr>
            <a:xfrm>
              <a:off x="108000" y="476280"/>
              <a:ext cx="2303280" cy="9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НА ВЕЛОСИПЕДЕ МОЖН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КАТАТЬСЯ ТОЛЬКО ВО ДВО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5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2" name="picture" descr=""/>
            <p:cNvPicPr/>
            <p:nvPr/>
          </p:nvPicPr>
          <p:blipFill>
            <a:blip r:embed="rId1">
              <a:lum contrast="40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73" name=""/>
            <p:cNvSpPr/>
            <p:nvPr/>
          </p:nvSpPr>
          <p:spPr>
            <a:xfrm>
              <a:off x="250920" y="620640"/>
              <a:ext cx="2089080" cy="93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НЕЛЬЗЯ ИГРА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НА УЛИЦЕ, ЭТО ОПАСН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ДЛЯ ЖИЗН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6" name="picture" descr=""/>
            <p:cNvPicPr/>
            <p:nvPr/>
          </p:nvPicPr>
          <p:blipFill>
            <a:blip r:embed="rId1">
              <a:lum contrast="40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77" name=""/>
            <p:cNvSpPr/>
            <p:nvPr/>
          </p:nvSpPr>
          <p:spPr>
            <a:xfrm>
              <a:off x="324000" y="549360"/>
              <a:ext cx="180000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ТАКИЕ ВЫХОДКИ МОГУ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ПРИВЕСТИ К БЕДЕ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00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08:06:24Z</dcterms:created>
  <dc:creator>ДОМ</dc:creator>
  <dc:description/>
  <dc:language>en-US</dc:language>
  <cp:lastModifiedBy>AMBER</cp:lastModifiedBy>
  <dcterms:modified xsi:type="dcterms:W3CDTF">2007-05-12T16:13:35Z</dcterms:modified>
  <cp:revision>21</cp:revision>
  <dc:subject/>
  <dc:title>Слайд 1</dc:title>
</cp:coreProperties>
</file>