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0E154-7F67-4291-9822-3E7D80FB21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21A93-DF7E-46A6-A9AA-8F55A70104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8C61-CD60-4100-8C76-2DE49F95B7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6ABD3-CF9A-4E1D-9AD3-2DCD1048A9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F6C8F-ED18-4F8F-822B-3761AF3CDF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94472-C84F-459F-9D39-942CF97A892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8F08-21F4-47A0-8B93-3B68414E80E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6FE5E-9C05-48D7-BD0A-25F15AC1DF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9502F-4154-4358-88C7-09D2458513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D1602-E7D1-438A-9DB1-DDAB54CFE2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0EB8-A126-4D8C-9EDA-F3A0F55D174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A42D-5E31-412D-9E94-7BC4E35BBD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88F55-0E0E-41A2-A1F4-61D207087B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A4E80-572C-4244-AFAA-5AE3E4E304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F60B2-507E-4419-96FB-70B9F90522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FBD8-2989-4138-BF12-DBC9D47D7C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EE55-FC1A-4B9C-8108-EF0EF0BE10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6D4B9-2A46-4492-9DEE-F003CE3430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6C975-7F09-4F9F-B499-62D39F38902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70F8-7B87-4C26-9360-F94262A322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872D5-DE9B-4702-9640-DFE2CADBE3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7F97C-48D7-4EA7-8890-1D829C735F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7F481-E959-4479-98CB-0B5E77DBF2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2A186-EF1D-49A3-840C-A1B210A11B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FE45B-4DEB-4FB9-8F36-1C7B7D3DEF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C2C83-2FAD-4D80-B3B7-A211161BC3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E0D-30C9-4EDB-B5A4-B512B54E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1CB-8DE5-4478-AC6C-200E6C5B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6F8-DF5B-4FD2-89C3-6C366293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A7D-770C-4646-9DE3-366F5D5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4551-958A-488F-B4C4-5BE32B2A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D9B-3B79-461E-9A8B-E25493EE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05A-540E-445C-96F8-8118F59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A129-8F0A-4E4A-9129-1083919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27C-2A15-4FCA-8A85-56F2B30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8FAD-1539-441E-9D48-833CAAE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B636-BA12-4B74-809C-305C7FB6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DE1-9348-4E9C-AC20-E3BB650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4E53-458A-4404-9654-582FA6E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EAD-67F3-4E3C-B9EB-6B9AF69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C3B7-BD04-4C87-9CFE-94954BF1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8E6-1759-4312-A882-F2949FE4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FB22-1EA2-496B-A10D-604F0511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C38-B5D9-4D02-ABA4-CB48567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1A3-3A33-4CC5-A9D5-F3342E8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C2B-9CCD-470B-A8DB-A0618D1C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292-7B67-4AEF-ABA0-5056F5C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9F2-F844-4C49-867E-2A865BD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C53-D2FB-46E2-AB8C-FCD062AD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1A6-5F72-47EA-BBB3-EF7F9E2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152280" y="375840"/>
            <a:ext cx="1521000" cy="1224000"/>
            <a:chOff x="152280" y="375840"/>
            <a:chExt cx="1521000" cy="1224000"/>
          </a:xfrm>
        </p:grpSpPr>
        <p:grpSp>
          <p:nvGrpSpPr>
            <p:cNvPr id="2" name="Group 5"/>
            <p:cNvGrpSpPr/>
            <p:nvPr/>
          </p:nvGrpSpPr>
          <p:grpSpPr>
            <a:xfrm>
              <a:off x="238680" y="375840"/>
              <a:ext cx="1300680" cy="1224000"/>
              <a:chOff x="238680" y="375840"/>
              <a:chExt cx="1300680" cy="1224000"/>
            </a:xfrm>
          </p:grpSpPr>
          <p:sp>
            <p:nvSpPr>
              <p:cNvPr id="3" name="AutoShape 6"/>
              <p:cNvSpPr/>
              <p:nvPr/>
            </p:nvSpPr>
            <p:spPr>
              <a:xfrm flipH="1" rot="10800000">
                <a:off x="238320" y="375840"/>
                <a:ext cx="1300680" cy="1224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Rectangle 10"/>
            <p:cNvSpPr/>
            <p:nvPr/>
          </p:nvSpPr>
          <p:spPr>
            <a:xfrm>
              <a:off x="152280" y="1117440"/>
              <a:ext cx="152100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D48F7-97FC-4713-886B-E4691C9324A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133720" y="474480"/>
            <a:ext cx="4870080" cy="3487680"/>
            <a:chOff x="2133720" y="474480"/>
            <a:chExt cx="4870080" cy="3487680"/>
          </a:xfrm>
        </p:grpSpPr>
        <p:grpSp>
          <p:nvGrpSpPr>
            <p:cNvPr id="48" name="Group 5"/>
            <p:cNvGrpSpPr/>
            <p:nvPr/>
          </p:nvGrpSpPr>
          <p:grpSpPr>
            <a:xfrm>
              <a:off x="2494080" y="474480"/>
              <a:ext cx="4173480" cy="3487680"/>
              <a:chOff x="2494080" y="474480"/>
              <a:chExt cx="4173480" cy="3487680"/>
            </a:xfrm>
          </p:grpSpPr>
          <p:sp>
            <p:nvSpPr>
              <p:cNvPr id="49" name="AutoShape 6"/>
              <p:cNvSpPr/>
              <p:nvPr/>
            </p:nvSpPr>
            <p:spPr>
              <a:xfrm flipH="1" rot="10800000">
                <a:off x="2493720" y="474480"/>
                <a:ext cx="4173480" cy="34876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0"/>
            <p:cNvSpPr/>
            <p:nvPr/>
          </p:nvSpPr>
          <p:spPr>
            <a:xfrm>
              <a:off x="2133720" y="2589120"/>
              <a:ext cx="48700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414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440" y="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372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3CDF4A-08AA-465D-B46B-216A1D529B2F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0"/>
            <a:ext cx="190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DF71CF-4282-459D-BF05-028B97BD35A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360" y="2719440"/>
            <a:ext cx="8964720" cy="16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ема: «Управление научно-техническим прогрессом и роль государства при внедрении достижений НТП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4708080"/>
            <a:ext cx="640872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исциплина: «Экономика предприятия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319640" y="5717160"/>
            <a:ext cx="472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Дубровки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лександра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Николаев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05Мд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7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13D13-02B8-46FF-9FB9-668B9F6A863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54000"/>
            <a:ext cx="8380440" cy="17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Факторы, влияющие на ускорение НТП в зависимости от направленности воздействия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413000"/>
          <a:ext cx="8966160" cy="5607000"/>
        </p:xfrm>
        <a:graphic>
          <a:graphicData uri="http://schemas.openxmlformats.org/drawingml/2006/table">
            <a:tbl>
              <a:tblPr/>
              <a:tblGrid>
                <a:gridCol w="4516560"/>
                <a:gridCol w="4449600"/>
              </a:tblGrid>
              <a:tr h="563400"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зи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стрение экономиче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изиса в стр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налогового б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ля юридических 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изических л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утствие условий д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здоровой»конкур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ыделение государств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статочных средств 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дерального бюджета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витие науки и тех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ыш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лагоприя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нвестиционный климат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ане и субъектах РФ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транение государства 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правления НТП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7931B3-EF3C-406B-8D51-A91782A5A29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4480"/>
            <a:ext cx="7588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акторы, влияющие на ускорение НТП в зависимости от характера возникновения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880" y="227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 т. е. факторы, возникновение которых не связа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человеческой деятельность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226692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у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т. е. факторы, возникновение которых связано и обусловлено человеческой деятельностью, в частности управленческой и созидательн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1617480" y="1773360"/>
            <a:ext cx="273996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572000" y="1773360"/>
            <a:ext cx="223200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0ECA17-21DE-4A22-8456-8B7E7B7164D7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34640"/>
            <a:ext cx="759168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Факторы, влияющие на ускорение НТП, в зависимости от продолжительности време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3242880"/>
            <a:ext cx="4105080" cy="25621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Време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48240" y="3252960"/>
            <a:ext cx="4487760" cy="25603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Постоя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 flipV="1" rot="5400000">
            <a:off x="2700360" y="2265840"/>
            <a:ext cx="1366920" cy="522360"/>
          </a:xfrm>
          <a:prstGeom prst="rightArrow">
            <a:avLst>
              <a:gd name="adj1" fmla="val 50000"/>
              <a:gd name="adj2" fmla="val 65420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 flipV="1" rot="5400000">
            <a:off x="5940360" y="2275200"/>
            <a:ext cx="1366920" cy="503280"/>
          </a:xfrm>
          <a:prstGeom prst="rightArrow">
            <a:avLst>
              <a:gd name="adj1" fmla="val 50000"/>
              <a:gd name="adj2" fmla="val 67901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B1E71-0E82-4167-BB35-9C38C36EA9F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иды направлений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Heavy"/>
              </a:rPr>
              <a:t>Общегосударств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 которые на данном этапе и на перспективу являются приоритетными для страны или группы стран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4320" y="1905120"/>
            <a:ext cx="391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Franklin Gothic Heavy"/>
              </a:rPr>
              <a:t>Отраслев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торые являют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жнейшими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ритетным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отдельных отрас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родного хозяйства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мышленност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0E6160-2274-4093-A91C-60BDCB77DF8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я НТП как общегосударствен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-12600" y="560520"/>
            <a:ext cx="9655200" cy="7389000"/>
            <a:chOff x="-12600" y="560520"/>
            <a:chExt cx="9655200" cy="7389000"/>
          </a:xfrm>
        </p:grpSpPr>
        <p:sp>
          <p:nvSpPr>
            <p:cNvPr id="178" name="AutoShape 3"/>
            <p:cNvSpPr/>
            <p:nvPr/>
          </p:nvSpPr>
          <p:spPr>
            <a:xfrm>
              <a:off x="357120" y="1065240"/>
              <a:ext cx="8791200" cy="62463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1517040" y="1291320"/>
              <a:ext cx="6590880" cy="4278960"/>
            </a:xfrm>
            <a:custGeom>
              <a:avLst/>
              <a:gdLst>
                <a:gd name="textAreaLeft" fmla="*/ 965520 w 6590880"/>
                <a:gd name="textAreaRight" fmla="*/ 5625360 w 6590880"/>
                <a:gd name="textAreaTop" fmla="*/ 626400 h 4278960"/>
                <a:gd name="textAreaBottom" fmla="*/ 3652560 h 427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12" y="2010"/>
                  </a:moveTo>
                  <a:cubicBezTo>
                    <a:pt x="12358" y="1811"/>
                    <a:pt x="11580" y="1711"/>
                    <a:pt x="10800" y="1711"/>
                  </a:cubicBezTo>
                  <a:cubicBezTo>
                    <a:pt x="8663" y="1710"/>
                    <a:pt x="6594" y="2463"/>
                    <a:pt x="4957" y="3837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727" y="0"/>
                    <a:pt x="12651" y="119"/>
                    <a:pt x="13548" y="355"/>
                  </a:cubicBezTo>
                  <a:lnTo>
                    <a:pt x="14235" y="-2256"/>
                  </a:lnTo>
                  <a:lnTo>
                    <a:pt x="16769" y="2087"/>
                  </a:lnTo>
                  <a:lnTo>
                    <a:pt x="12425" y="4621"/>
                  </a:lnTo>
                  <a:lnTo>
                    <a:pt x="13112" y="201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 rot="7200000">
              <a:off x="3577680" y="766800"/>
              <a:ext cx="4281120" cy="659052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520"/>
                <a:gd name="textAreaBottom" fmla="*/ 5625000 h 65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97" y="3395"/>
                  </a:moveTo>
                  <a:cubicBezTo>
                    <a:pt x="15100" y="2020"/>
                    <a:pt x="12983" y="1271"/>
                    <a:pt x="10800" y="1271"/>
                  </a:cubicBezTo>
                  <a:cubicBezTo>
                    <a:pt x="8638" y="1270"/>
                    <a:pt x="6540" y="2006"/>
                    <a:pt x="4851" y="3355"/>
                  </a:cubicBezTo>
                  <a:lnTo>
                    <a:pt x="4057" y="2362"/>
                  </a:lnTo>
                  <a:cubicBezTo>
                    <a:pt x="5972" y="833"/>
                    <a:pt x="8349" y="-1"/>
                    <a:pt x="10800" y="0"/>
                  </a:cubicBezTo>
                  <a:cubicBezTo>
                    <a:pt x="13274" y="0"/>
                    <a:pt x="15674" y="849"/>
                    <a:pt x="17597" y="2407"/>
                  </a:cubicBezTo>
                  <a:lnTo>
                    <a:pt x="19297" y="309"/>
                  </a:lnTo>
                  <a:lnTo>
                    <a:pt x="19790" y="5001"/>
                  </a:lnTo>
                  <a:lnTo>
                    <a:pt x="15098" y="5493"/>
                  </a:lnTo>
                  <a:lnTo>
                    <a:pt x="16797" y="3395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6"/>
            <p:cNvSpPr/>
            <p:nvPr/>
          </p:nvSpPr>
          <p:spPr>
            <a:xfrm rot="14400000">
              <a:off x="1770840" y="1152360"/>
              <a:ext cx="4281120" cy="659088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880"/>
                <a:gd name="textAreaBottom" fmla="*/ 5625360 h 659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58" y="2674"/>
                  </a:moveTo>
                  <a:cubicBezTo>
                    <a:pt x="14492" y="1660"/>
                    <a:pt x="12666" y="1121"/>
                    <a:pt x="10800" y="1121"/>
                  </a:cubicBezTo>
                  <a:cubicBezTo>
                    <a:pt x="8463" y="1120"/>
                    <a:pt x="6206" y="1966"/>
                    <a:pt x="4444" y="3500"/>
                  </a:cubicBezTo>
                  <a:lnTo>
                    <a:pt x="3708" y="2654"/>
                  </a:lnTo>
                  <a:cubicBezTo>
                    <a:pt x="5674" y="942"/>
                    <a:pt x="8193" y="-1"/>
                    <a:pt x="10800" y="0"/>
                  </a:cubicBezTo>
                  <a:cubicBezTo>
                    <a:pt x="12882" y="0"/>
                    <a:pt x="14919" y="601"/>
                    <a:pt x="16667" y="1733"/>
                  </a:cubicBezTo>
                  <a:lnTo>
                    <a:pt x="18134" y="-534"/>
                  </a:lnTo>
                  <a:lnTo>
                    <a:pt x="19100" y="3975"/>
                  </a:lnTo>
                  <a:lnTo>
                    <a:pt x="14591" y="4940"/>
                  </a:lnTo>
                  <a:lnTo>
                    <a:pt x="16058" y="2674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5830560" y="2395800"/>
              <a:ext cx="2646360" cy="17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Комплексн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механизация 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автоматиз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342240" y="5532480"/>
              <a:ext cx="264456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имиз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471960" y="2389320"/>
              <a:ext cx="2644200" cy="17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электрифик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народног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озяй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9579FA-328A-4B71-A219-9B66BFBE26A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84240"/>
            <a:ext cx="7086600" cy="17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оритетными направлениями НТП на современном этапе являются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212256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иотехнология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ктронизация народного хозяйств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мплексная автоматизация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скоренное развитие атомной энергетики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и внедрение новых материалов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своение принципиально новых технологи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нотехнолог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1D155-97EE-4032-B690-8CB603B27249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179280" y="260280"/>
            <a:ext cx="8891640" cy="6596280"/>
            <a:chOff x="179280" y="260280"/>
            <a:chExt cx="8891640" cy="6596280"/>
          </a:xfrm>
        </p:grpSpPr>
        <p:sp>
          <p:nvSpPr>
            <p:cNvPr id="190" name="AutoShape 2"/>
            <p:cNvSpPr/>
            <p:nvPr/>
          </p:nvSpPr>
          <p:spPr>
            <a:xfrm>
              <a:off x="179280" y="260280"/>
              <a:ext cx="8891640" cy="65962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"/>
            <p:cNvSpPr/>
            <p:nvPr/>
          </p:nvSpPr>
          <p:spPr>
            <a:xfrm flipH="1">
              <a:off x="2402280" y="3558600"/>
              <a:ext cx="11127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4"/>
            <p:cNvSpPr/>
            <p:nvPr/>
          </p:nvSpPr>
          <p:spPr>
            <a:xfrm>
              <a:off x="179280" y="2598120"/>
              <a:ext cx="243288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Социальный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4626360" y="4321800"/>
              <a:ext cx="1440" cy="763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3207600" y="4723200"/>
              <a:ext cx="2875680" cy="1944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Техн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5735880" y="3558600"/>
              <a:ext cx="11091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6586560" y="2537640"/>
              <a:ext cx="2484000" cy="2079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Ресурсны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 flipV="1">
              <a:off x="4626360" y="2029320"/>
              <a:ext cx="1440" cy="7664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3144240" y="409320"/>
              <a:ext cx="289800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коном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2915640" y="2716920"/>
              <a:ext cx="3407400" cy="17107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Виды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эффектов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 </a:t>
              </a: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НТП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F3821F-871C-453C-A43B-ED5B30DE14F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0" y="260280"/>
            <a:ext cx="3478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11240"/>
          <a:ext cx="8993160" cy="6413400"/>
        </p:xfrm>
        <a:graphic>
          <a:graphicData uri="http://schemas.openxmlformats.org/drawingml/2006/table">
            <a:tbl>
              <a:tblPr/>
              <a:tblGrid>
                <a:gridCol w="1592280"/>
                <a:gridCol w="7400880"/>
              </a:tblGrid>
              <a:tr h="55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Franklin Gothic Heavy"/>
                        </a:rPr>
                        <a:t>Виды эффектов от ускорения НТ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03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Эконом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рост производительности труда   и   снижение   трудоемкости, снижение материалоемкости   и себестоимости продукции, рост прибыли и рентаб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948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есурс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высвобождение ресурсов на предприятии: материальных, трудовых и финансовых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6864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Техн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явление новой техники и технологии, открытий, изобретений и рационализаторских предложений, ноу-хау и других нововвед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50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оциаль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вышение материального и культурного уровня жизни граждан, более полное удовлетворение их потребностей в товарах и услуг, улучшение условий и техники безопасности труда, снижение доли тяжелого ручного труда и др.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424127-4FCB-4907-843F-C088793C90C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Научно-технический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прогноз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78120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eaeaea"/>
                </a:solidFill>
                <a:latin typeface="Franklin Gothic Heavy"/>
              </a:rPr>
              <a:t>обоснованная вероятностная оценка перспектив развития определенных областей науки, техники и технологии, а также требуемых для этого ресурсов и организационных мер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C5CD99-1CA0-4B99-A24F-1DC28442DDB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250920" y="462600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"/>
          <p:cNvSpPr/>
          <p:nvPr/>
        </p:nvSpPr>
        <p:spPr>
          <a:xfrm flipV="1">
            <a:off x="3102120" y="4248000"/>
            <a:ext cx="936360" cy="6508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3116160" y="5099040"/>
            <a:ext cx="107964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16160" y="5243400"/>
            <a:ext cx="1079640" cy="6476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432320" y="41781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раткосрочные (до 2-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30880" y="487368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реднесрочные (до 5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456080" y="56466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долгосрочные (до 15-20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481640" y="446040"/>
            <a:ext cx="4411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принципи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ых открытий и изобре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500720" y="1454040"/>
            <a:ext cx="35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ластей использ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же сделанных откры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13240" y="2421000"/>
            <a:ext cx="46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новых конструкц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шин, технологий  и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спространение в производ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79280" y="170028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содержанию  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419640" y="1193400"/>
            <a:ext cx="936360" cy="6526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490920" y="2060640"/>
            <a:ext cx="71928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19640" y="2276640"/>
            <a:ext cx="865080" cy="57600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B4ADF-9EE6-4171-8D1B-B95E8A10A09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аучно-технический прогресс (НТП)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712944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то процесс взаимосвязанного, прогрессивного развития науки и техники, обусловленный нуждами материального производства, ростом и усложнением потребностей общест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FC173-6A2D-4075-9B52-6D505344F0B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етоды разработки прогноз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траполяции;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пертных оценок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моделирования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09B14A-46FB-4DEF-903B-03012731032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8000" y="46080"/>
          <a:ext cx="8966160" cy="5962680"/>
        </p:xfrm>
        <a:graphic>
          <a:graphicData uri="http://schemas.openxmlformats.org/drawingml/2006/table">
            <a:tbl>
              <a:tblPr/>
              <a:tblGrid>
                <a:gridCol w="1584360"/>
                <a:gridCol w="7381800"/>
              </a:tblGrid>
              <a:tr h="581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Franklin Gothic Heavy"/>
                        </a:rPr>
                        <a:t>Методы разработки прогно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 экстраполя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стоит в распространении закономерностей, сложившихся в науке и технике в предпрогнозный период, на будуще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996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снованы на статистической обработке прогнозных оценок, полеченных путем опроса высококвалифицированных специалистов в соответствующих областя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5861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моделир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, информационные и математико-статистическ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6E9B7F-1C5E-4B14-988B-9FCC046DFE6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нципы планирования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иоритетность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прерывность планирования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квозное планирование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комплексность планирования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A1C8FB-5FB0-45DD-B42B-D56B62D31A1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"/>
          <p:cNvGrpSpPr/>
          <p:nvPr/>
        </p:nvGrpSpPr>
        <p:grpSpPr>
          <a:xfrm>
            <a:off x="179280" y="189000"/>
            <a:ext cx="8963280" cy="6440400"/>
            <a:chOff x="179280" y="189000"/>
            <a:chExt cx="8963280" cy="6440400"/>
          </a:xfrm>
        </p:grpSpPr>
        <p:sp>
          <p:nvSpPr>
            <p:cNvPr id="231" name="AutoShape 2"/>
            <p:cNvSpPr/>
            <p:nvPr/>
          </p:nvSpPr>
          <p:spPr>
            <a:xfrm>
              <a:off x="179280" y="189000"/>
              <a:ext cx="8963280" cy="64404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3"/>
            <p:cNvSpPr/>
            <p:nvPr/>
          </p:nvSpPr>
          <p:spPr>
            <a:xfrm>
              <a:off x="3260160" y="189000"/>
              <a:ext cx="3182040" cy="22312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3945960" y="961560"/>
              <a:ext cx="17884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Сквозно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5"/>
            <p:cNvSpPr/>
            <p:nvPr/>
          </p:nvSpPr>
          <p:spPr>
            <a:xfrm>
              <a:off x="6226560" y="2226600"/>
              <a:ext cx="2880720" cy="2401200"/>
            </a:xfrm>
            <a:prstGeom prst="ellipse">
              <a:avLst/>
            </a:prstGeom>
            <a:solidFill>
              <a:srgbClr val="cc3300">
                <a:alpha val="50000"/>
              </a:srgbClr>
            </a:solidFill>
            <a:ln w="46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41412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Непрерыв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7"/>
            <p:cNvSpPr/>
            <p:nvPr/>
          </p:nvSpPr>
          <p:spPr>
            <a:xfrm>
              <a:off x="3270960" y="4364640"/>
              <a:ext cx="3099960" cy="2264400"/>
            </a:xfrm>
            <a:prstGeom prst="ellipse">
              <a:avLst/>
            </a:prstGeom>
            <a:solidFill>
              <a:srgbClr val="71bb96">
                <a:alpha val="50000"/>
              </a:srgbClr>
            </a:solidFill>
            <a:ln w="4680">
              <a:solidFill>
                <a:srgbClr val="71bb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91960" y="5078520"/>
              <a:ext cx="17902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Комплекс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179280" y="2187000"/>
              <a:ext cx="2790360" cy="23994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70920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риоритет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3048840" y="2480400"/>
              <a:ext cx="3322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ринци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ланирования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НТ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E0AF4-FD30-4463-B799-28C781A9F40B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87120" y="130320"/>
            <a:ext cx="70772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тимулирование научно-технического прогресс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2347560"/>
            <a:ext cx="7870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преимуществ в удовлетворении экономических и социальных интересов организаций и предприятий, разрабатывающих и осваивающих новую высокоэффективную технику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358C9C-5839-46C4-96E9-1FE8F267EF8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еханизм экономического стимулирования НТП включае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Franklin Gothic Medium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Основные принципы</a:t>
            </a: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омплексность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перспектив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ормативный характер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глас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67280" y="1628280"/>
            <a:ext cx="54734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01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Форм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алогообложе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фондообразование и финансир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редит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установление цен и других экономических нормативов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организация оплаты труда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экономическая ответствен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страхование риск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AB1BE3-F974-40B2-9380-8772A6CE68E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знаки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81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развитие качественно новых технологий производства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разработка и использование принципиально новых машин и систем машин, работающих в автоматическом режиме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открытие и использование новых видов и источников энерги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широкое использование новых видов материалов с заранее заданными свойствам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широкое развитие автоматизации производственных процессов, автоматических линий, промышленных роботов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внедрение новых форм организации труда и производст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037D0-B284-48FD-8BB1-980A9E17579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ве формы научно-технического прогресс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1639800"/>
          <a:ext cx="8966160" cy="4741920"/>
        </p:xfrm>
        <a:graphic>
          <a:graphicData uri="http://schemas.openxmlformats.org/drawingml/2006/table">
            <a:tbl>
              <a:tblPr/>
              <a:tblGrid>
                <a:gridCol w="1747800"/>
                <a:gridCol w="7218360"/>
              </a:tblGrid>
              <a:tr h="17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Эволюционная форма НТ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едставляет собой сравнительно медленное совершенствование традиционных научно-технических основ производств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9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Научно-техническая револю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это коренные преобразования в системе научного знания и в технике, совокупность взаимосвязанных переворотов в различных отраслях материального производства, основанных на переходе на новые научно-технические принцип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DE13C0-F790-4AFF-8C8B-07FE4854607A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250920" y="259920"/>
            <a:ext cx="8891640" cy="6392880"/>
            <a:chOff x="250920" y="259920"/>
            <a:chExt cx="8891640" cy="6392880"/>
          </a:xfrm>
        </p:grpSpPr>
        <p:sp>
          <p:nvSpPr>
            <p:cNvPr id="116" name="AutoShape 2"/>
            <p:cNvSpPr/>
            <p:nvPr/>
          </p:nvSpPr>
          <p:spPr>
            <a:xfrm>
              <a:off x="250920" y="1094760"/>
              <a:ext cx="8891640" cy="55580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" name="AutoShape 3"/>
            <p:cNvCxnSpPr>
              <a:stCxn id="118" idx="0"/>
              <a:endCxn id="119" idx="2"/>
            </p:cNvCxnSpPr>
            <p:nvPr/>
          </p:nvCxnSpPr>
          <p:spPr>
            <a:xfrm rot="10800000">
              <a:off x="4735440" y="507960"/>
              <a:ext cx="812880" cy="2502360"/>
            </a:xfrm>
            <a:prstGeom prst="bentConnector3">
              <a:avLst>
                <a:gd name="adj1" fmla="val 4997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AutoShape 4"/>
            <p:cNvCxnSpPr>
              <a:endCxn id="119" idx="2"/>
            </p:cNvCxnSpPr>
            <p:nvPr/>
          </p:nvCxnSpPr>
          <p:spPr>
            <a:xfrm flipV="1">
              <a:off x="4730760" y="3005280"/>
              <a:ext cx="13244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1" name="AutoShape 5"/>
            <p:cNvCxnSpPr>
              <a:stCxn id="122" idx="0"/>
              <a:endCxn id="119" idx="2"/>
            </p:cNvCxnSpPr>
            <p:nvPr/>
          </p:nvCxnSpPr>
          <p:spPr>
            <a:xfrm flipV="1">
              <a:off x="1573920" y="259920"/>
              <a:ext cx="813240" cy="2748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AutoShape 6"/>
            <p:cNvSpPr/>
            <p:nvPr/>
          </p:nvSpPr>
          <p:spPr>
            <a:xfrm>
              <a:off x="1426680" y="1094760"/>
              <a:ext cx="6617160" cy="191340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Этапы развития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научно-технической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революции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"/>
            <p:cNvSpPr/>
            <p:nvPr/>
          </p:nvSpPr>
          <p:spPr>
            <a:xfrm>
              <a:off x="250920" y="3715200"/>
              <a:ext cx="264564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учный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одготовительный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056760" y="4097520"/>
              <a:ext cx="2913840" cy="222264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овременны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(перестройка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техническ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и отраслев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труктуры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циональ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хозяйства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9"/>
            <p:cNvSpPr/>
            <p:nvPr/>
          </p:nvSpPr>
          <p:spPr>
            <a:xfrm>
              <a:off x="6083640" y="3715200"/>
              <a:ext cx="305856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круп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втоматизирован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машин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52957C-9C83-4146-A727-D08FBEC4E4F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228600"/>
            <a:ext cx="765972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ипы экономического рост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684360" y="1866960"/>
            <a:ext cx="3386160" cy="77004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Экс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148360" y="1844640"/>
            <a:ext cx="3384360" cy="79236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Ин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8460000">
            <a:off x="2576520" y="1267560"/>
            <a:ext cx="735120" cy="505080"/>
          </a:xfrm>
          <a:prstGeom prst="rightArrow">
            <a:avLst>
              <a:gd name="adj1" fmla="val 50000"/>
              <a:gd name="adj2" fmla="val 3638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 rot="2400000">
            <a:off x="5940000" y="1266840"/>
            <a:ext cx="776520" cy="514440"/>
          </a:xfrm>
          <a:prstGeom prst="rightArrow">
            <a:avLst>
              <a:gd name="adj1" fmla="val 50000"/>
              <a:gd name="adj2" fmla="val 3773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17440" y="2881440"/>
            <a:ext cx="421164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едполагает, что 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объема произво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материальных благ и 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достигается за счет 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большего количества факто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ем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ырья, оборудования, рабоч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илы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572000" y="2881440"/>
            <a:ext cx="453708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экономического роста имеет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тогда, когда прирост объема все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видов продукции обеспечивается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чет применения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овершенных 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а с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использования достижений Н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226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694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C7A068-DB56-4089-ADD1-77B8FA4FAE0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395280" y="333000"/>
            <a:ext cx="8350200" cy="5902560"/>
            <a:chOff x="395280" y="333000"/>
            <a:chExt cx="8350200" cy="5902560"/>
          </a:xfrm>
        </p:grpSpPr>
        <p:sp>
          <p:nvSpPr>
            <p:cNvPr id="136" name="AutoShape 2"/>
            <p:cNvSpPr/>
            <p:nvPr/>
          </p:nvSpPr>
          <p:spPr>
            <a:xfrm>
              <a:off x="395280" y="2097720"/>
              <a:ext cx="8350200" cy="41374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7" name="AutoShape 3"/>
            <p:cNvCxnSpPr>
              <a:stCxn id="138" idx="1"/>
              <a:endCxn id="139" idx="2"/>
            </p:cNvCxnSpPr>
            <p:nvPr/>
          </p:nvCxnSpPr>
          <p:spPr>
            <a:xfrm rot="10800000">
              <a:off x="2957760" y="332640"/>
              <a:ext cx="389160" cy="276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AutoShape 4"/>
            <p:cNvCxnSpPr>
              <a:stCxn id="141" idx="1"/>
              <a:endCxn id="139" idx="2"/>
            </p:cNvCxnSpPr>
            <p:nvPr/>
          </p:nvCxnSpPr>
          <p:spPr>
            <a:xfrm rot="10800000">
              <a:off x="2957760" y="1462680"/>
              <a:ext cx="389160" cy="163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AutoShape 5"/>
            <p:cNvCxnSpPr>
              <a:stCxn id="143" idx="1"/>
              <a:endCxn id="139" idx="2"/>
            </p:cNvCxnSpPr>
            <p:nvPr/>
          </p:nvCxnSpPr>
          <p:spPr>
            <a:xfrm rot="10800000">
              <a:off x="2982960" y="2577600"/>
              <a:ext cx="362520" cy="519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9" name="AutoShape 6"/>
            <p:cNvSpPr/>
            <p:nvPr/>
          </p:nvSpPr>
          <p:spPr>
            <a:xfrm>
              <a:off x="466200" y="2097720"/>
              <a:ext cx="5758200" cy="99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ПРАВЛ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ОДЕЛИРОВАН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КОНОМИЧЕСКОГО РО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707640" y="3238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ЕЙНСИ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8"/>
            <p:cNvSpPr/>
            <p:nvPr/>
          </p:nvSpPr>
          <p:spPr>
            <a:xfrm>
              <a:off x="3734640" y="4354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ЛАСС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3734640" y="548352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ИСТОРИКО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СОЦИОЛОГ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8F9C47-0FE1-406C-AD35-4143E22E8429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95400"/>
            <a:ext cx="73724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Franklin Gothic Heavy"/>
              </a:rPr>
              <a:t>Классификация факторов, влияющих на ускорение НТП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055520"/>
          <a:ext cx="8715240" cy="5253120"/>
        </p:xfrm>
        <a:graphic>
          <a:graphicData uri="http://schemas.openxmlformats.org/drawingml/2006/table">
            <a:tbl>
              <a:tblPr/>
              <a:tblGrid>
                <a:gridCol w="4579920"/>
                <a:gridCol w="4135320"/>
              </a:tblGrid>
              <a:tr h="446400">
                <a:tc gridSpan="2">
                  <a:txBody>
                    <a:bodyPr lIns="90000" rIns="90000" tIns="140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кторы, влияющие на ускорение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масштаб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акроуровень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траслевой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егиональный;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икроуровен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и 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ременно действующи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стоянно действующ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54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тепени 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енее 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лабое влия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характе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бъек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бъек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направлен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зи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7DE6F2-D130-4041-BCB0-DD373111CEC9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8023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Факторы, влияющие на ускорение НТП в зависимости от масштаб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0" y="1184400"/>
            <a:ext cx="9142560" cy="5627520"/>
            <a:chOff x="0" y="1184400"/>
            <a:chExt cx="9142560" cy="5627520"/>
          </a:xfrm>
        </p:grpSpPr>
        <p:sp>
          <p:nvSpPr>
            <p:cNvPr id="150" name="AutoShape 3"/>
            <p:cNvSpPr/>
            <p:nvPr/>
          </p:nvSpPr>
          <p:spPr>
            <a:xfrm>
              <a:off x="0" y="1184400"/>
              <a:ext cx="9142560" cy="562752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 flipV="1">
              <a:off x="3687120" y="1266840"/>
              <a:ext cx="1812600" cy="9838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Т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 flipV="1">
              <a:off x="2628360" y="2419200"/>
              <a:ext cx="3886920" cy="7916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1.макро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6"/>
            <p:cNvSpPr/>
            <p:nvPr/>
          </p:nvSpPr>
          <p:spPr>
            <a:xfrm flipV="1">
              <a:off x="1834920" y="3341520"/>
              <a:ext cx="5615280" cy="8046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2. отраслево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 flipV="1">
              <a:off x="899640" y="4290480"/>
              <a:ext cx="7415640" cy="8600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3. региональны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flipV="1">
              <a:off x="118800" y="5320440"/>
              <a:ext cx="9023400" cy="8154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4. уровень предприят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52:42Z</dcterms:created>
  <dc:creator>Татьяна</dc:creator>
  <dc:description/>
  <dc:language>en-US</dc:language>
  <cp:lastModifiedBy>Owner</cp:lastModifiedBy>
  <dcterms:modified xsi:type="dcterms:W3CDTF">2011-05-31T09:11:35Z</dcterms:modified>
  <cp:revision>68</cp:revision>
  <dc:subject/>
  <dc:title>Тема: «Научно-технический прогресс и его роль в развитии мирового хозяйства»</dc:title>
</cp:coreProperties>
</file>