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CAB66-9364-4EAA-9A6F-65DFC93FFBC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B5EFE-F691-47DF-A3D4-9EF3FEC3A06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F60DF-CDD6-4CFE-9DA7-51EEF70A3A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DE0AE-CECA-4F32-83AD-E5F874831DE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087B4-CB2B-49F7-9EFF-2E6002639C3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D6A7D-7220-44AF-9D41-78D7EB927F1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D46AA-E651-4BEE-A6F9-FECF6258F8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046C2-1AD0-43EA-AADB-E8888A0663A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D1651-7C7B-4900-BD73-FBF5CD7F9EB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81C03-FEC0-44EF-905C-4F45FC3CCC4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1A15A-62E9-4FE0-9997-1649DA7E0CC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19E52-EEBC-4616-B2E0-14502603149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C8D92-5F18-4F38-9221-229445AEAD2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C407B-1049-42F1-BB28-867507C0C5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B03D9-E715-46EE-8009-C8F276DAC7F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78107-08A4-44B6-9F94-1EDC0DBF6D1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ED2F0-8759-4EF3-84F8-0175C158E6C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A08E9-8ACC-4F8E-AB85-F7D626A774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CAC07-0B1A-4098-A781-4F9D1C9F735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469CE-07C8-4D75-8B74-98B336090BA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1C0E3-99B5-4F59-A1BB-EDCDF71895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FEFAC-AB72-485E-8743-E734C7B26C3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F1926-2D59-4D84-8597-3CCD2793873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0B37D-233B-4281-877E-CD12310E868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5EC87-8870-42E8-8E1D-0ED1BC9CBDC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442D6-CB38-46AA-AAAD-0F144B88302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9B7-48E0-48CF-B934-63D35BE8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47A-F9F9-4C65-A099-0317384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78F-69A7-4AE2-AE61-75AF1F0C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0C8-22D0-4F10-8DEF-212B6C56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9D1C-5403-4E56-8215-5AB5C3B2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226B-EEB0-43F8-8BB5-D5DFB988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41D3-2594-47D8-A329-0E6A7D63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9DA4-9E40-4D50-BC2E-E1CC9B0D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F0EC-1356-4ADB-9F04-D1922C90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1FD6-30C4-4069-ACB2-DA2BB78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194B-39A5-422B-970E-8AB5626F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3AA-158F-4417-966E-598B952B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A076-0E6E-4615-BF37-9981B8A9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FB7F-9604-4867-A23C-BF7E7490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6427-658A-49DF-8B34-7E7E3B1C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A858-08ED-4276-ABCA-90FF7120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B9DA-C9B5-402D-B8ED-C65A510E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289-4AD7-499A-BF1B-5DAE8622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943-67F6-4F8F-A5A5-DC971F7D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A44-6A72-4752-A5C7-CC041852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B1A-C149-4058-AD38-53DDF8EA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BAA-78F1-40EA-B808-F71EA642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8E0-945B-47C8-88D5-76ECD6D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BD4-E723-4303-96CB-BE7E9050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152280" y="375840"/>
            <a:ext cx="1521000" cy="1224000"/>
            <a:chOff x="152280" y="375840"/>
            <a:chExt cx="1521000" cy="1224000"/>
          </a:xfrm>
        </p:grpSpPr>
        <p:grpSp>
          <p:nvGrpSpPr>
            <p:cNvPr id="2" name="Group 5"/>
            <p:cNvGrpSpPr/>
            <p:nvPr/>
          </p:nvGrpSpPr>
          <p:grpSpPr>
            <a:xfrm>
              <a:off x="238680" y="375840"/>
              <a:ext cx="1300680" cy="1224000"/>
              <a:chOff x="238680" y="375840"/>
              <a:chExt cx="1300680" cy="1224000"/>
            </a:xfrm>
          </p:grpSpPr>
          <p:sp>
            <p:nvSpPr>
              <p:cNvPr id="3" name="AutoShape 6"/>
              <p:cNvSpPr/>
              <p:nvPr/>
            </p:nvSpPr>
            <p:spPr>
              <a:xfrm flipH="1" rot="10800000">
                <a:off x="238320" y="375840"/>
                <a:ext cx="1300680" cy="122400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" name="Rectangle 10"/>
            <p:cNvSpPr/>
            <p:nvPr/>
          </p:nvSpPr>
          <p:spPr>
            <a:xfrm>
              <a:off x="152280" y="1117440"/>
              <a:ext cx="152100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44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3720" y="639900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4D93A3-0671-4E5C-87B4-D3079EB7AB4C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2133720" y="474480"/>
            <a:ext cx="4870080" cy="3487680"/>
            <a:chOff x="2133720" y="474480"/>
            <a:chExt cx="4870080" cy="3487680"/>
          </a:xfrm>
        </p:grpSpPr>
        <p:grpSp>
          <p:nvGrpSpPr>
            <p:cNvPr id="48" name="Group 5"/>
            <p:cNvGrpSpPr/>
            <p:nvPr/>
          </p:nvGrpSpPr>
          <p:grpSpPr>
            <a:xfrm>
              <a:off x="2494080" y="474480"/>
              <a:ext cx="4173480" cy="3487680"/>
              <a:chOff x="2494080" y="474480"/>
              <a:chExt cx="4173480" cy="3487680"/>
            </a:xfrm>
          </p:grpSpPr>
          <p:sp>
            <p:nvSpPr>
              <p:cNvPr id="49" name="AutoShape 6"/>
              <p:cNvSpPr/>
              <p:nvPr/>
            </p:nvSpPr>
            <p:spPr>
              <a:xfrm flipH="1" rot="10800000">
                <a:off x="2493720" y="474480"/>
                <a:ext cx="4173480" cy="34876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0"/>
            <p:cNvSpPr/>
            <p:nvPr/>
          </p:nvSpPr>
          <p:spPr>
            <a:xfrm>
              <a:off x="2133720" y="2589120"/>
              <a:ext cx="48700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7414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440" y="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3720" y="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360864-B0F1-4CE5-A114-FE881B7DA801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0"/>
            <a:ext cx="1903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442E84-86EE-459A-8593-F6C4632A900B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360" y="2719440"/>
            <a:ext cx="8964720" cy="16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ема: «Управление научно-техническим прогрессом и роль государства при внедрении достижений НТП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4708080"/>
            <a:ext cx="640872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исциплина: «Экономика предприятия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319640" y="5717160"/>
            <a:ext cx="4725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Дубровкина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Александра 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Николаевна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05Мд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7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BF2380-C4B5-429E-951A-B74DB31BD30F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54000"/>
            <a:ext cx="8380440" cy="17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Факторы, влияющие на ускорение НТП в зависимости от направленности воздействия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413000"/>
          <a:ext cx="8966160" cy="5607000"/>
        </p:xfrm>
        <a:graphic>
          <a:graphicData uri="http://schemas.openxmlformats.org/drawingml/2006/table">
            <a:tbl>
              <a:tblPr/>
              <a:tblGrid>
                <a:gridCol w="4516560"/>
                <a:gridCol w="4449600"/>
              </a:tblGrid>
              <a:tr h="563400"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зитив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гатив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нижение уровня инф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стрение экономическ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изиса в стра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нижение налогового б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ля юридических 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изических ли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сутствие условий д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«здоровой»конкурен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ыделение государств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статочных средств 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едерального бюджета 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звитие науки и тех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ышение уровня инф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лагоприя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инвестиционный климат 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тране и субъектах РФ и 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странение государства 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правления НТП и 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A82C47-15D0-4D22-8394-3A390C520E82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14480"/>
            <a:ext cx="75880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акторы, влияющие на ускорение НТП в зависимости от характера возникновения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880" y="2278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бъективны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   т. е. факторы, возникновение которых не связа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 человеческой деятельность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226692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субъективны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  т. е. факторы, возникновение которых связано и обусловлено человеческой деятельностью, в частности управленческой и созидательно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 flipH="1">
            <a:off x="1617480" y="1773360"/>
            <a:ext cx="2739960" cy="50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572000" y="1773360"/>
            <a:ext cx="2232000" cy="50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888954-105E-4F80-A514-3ADFECF2D3F4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134640"/>
            <a:ext cx="759168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Факторы, влияющие на ускорение НТП, в зависимости от продолжительности времен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3242880"/>
            <a:ext cx="4105080" cy="2562120"/>
          </a:xfrm>
          <a:prstGeom prst="rect">
            <a:avLst/>
          </a:prstGeom>
          <a:solidFill>
            <a:srgbClr val="ccffff"/>
          </a:solidFill>
          <a:ln w="76320">
            <a:solidFill>
              <a:srgbClr val="cc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Временно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действующие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48240" y="3252960"/>
            <a:ext cx="4487760" cy="2560320"/>
          </a:xfrm>
          <a:prstGeom prst="rect">
            <a:avLst/>
          </a:prstGeom>
          <a:solidFill>
            <a:srgbClr val="ccffff"/>
          </a:solidFill>
          <a:ln w="76320">
            <a:solidFill>
              <a:srgbClr val="cc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Постоянно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действующие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 flipV="1" rot="5400000">
            <a:off x="2700360" y="2265840"/>
            <a:ext cx="1366920" cy="522360"/>
          </a:xfrm>
          <a:prstGeom prst="rightArrow">
            <a:avLst>
              <a:gd name="adj1" fmla="val 50000"/>
              <a:gd name="adj2" fmla="val 65420"/>
            </a:avLst>
          </a:prstGeom>
          <a:solidFill>
            <a:srgbClr val="cc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 flipV="1" rot="5400000">
            <a:off x="5940360" y="2275200"/>
            <a:ext cx="1366920" cy="503280"/>
          </a:xfrm>
          <a:prstGeom prst="rightArrow">
            <a:avLst>
              <a:gd name="adj1" fmla="val 50000"/>
              <a:gd name="adj2" fmla="val 67901"/>
            </a:avLst>
          </a:prstGeom>
          <a:solidFill>
            <a:srgbClr val="cc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916CA5-D837-4345-AF99-DF37E235ECC1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иды направлений НТ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00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Franklin Gothic Heavy"/>
              </a:rPr>
              <a:t>Общегосударственны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направления НТП, которые на данном этапе и на перспективу являются приоритетными для страны или группы стран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4320" y="1905120"/>
            <a:ext cx="391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Franklin Gothic Heavy"/>
              </a:rPr>
              <a:t>Отраслев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направления НТП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торые являютс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ажнейшими 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ритетным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ля отдельных отрасл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родного хозяйства 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мышленност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4DDEC4-3698-472E-9A0B-8C9552605C88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правления НТП как общегосударствен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2"/>
          <p:cNvGrpSpPr/>
          <p:nvPr/>
        </p:nvGrpSpPr>
        <p:grpSpPr>
          <a:xfrm>
            <a:off x="-12600" y="560520"/>
            <a:ext cx="9655200" cy="7389000"/>
            <a:chOff x="-12600" y="560520"/>
            <a:chExt cx="9655200" cy="7389000"/>
          </a:xfrm>
        </p:grpSpPr>
        <p:sp>
          <p:nvSpPr>
            <p:cNvPr id="178" name="AutoShape 3"/>
            <p:cNvSpPr/>
            <p:nvPr/>
          </p:nvSpPr>
          <p:spPr>
            <a:xfrm>
              <a:off x="357120" y="1065240"/>
              <a:ext cx="8791200" cy="624636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1517040" y="1291320"/>
              <a:ext cx="6590880" cy="4278960"/>
            </a:xfrm>
            <a:custGeom>
              <a:avLst/>
              <a:gdLst>
                <a:gd name="textAreaLeft" fmla="*/ 965520 w 6590880"/>
                <a:gd name="textAreaRight" fmla="*/ 5625360 w 6590880"/>
                <a:gd name="textAreaTop" fmla="*/ 626400 h 4278960"/>
                <a:gd name="textAreaBottom" fmla="*/ 3652560 h 427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12" y="2010"/>
                  </a:moveTo>
                  <a:cubicBezTo>
                    <a:pt x="12358" y="1811"/>
                    <a:pt x="11580" y="1711"/>
                    <a:pt x="10800" y="1711"/>
                  </a:cubicBezTo>
                  <a:cubicBezTo>
                    <a:pt x="8663" y="1710"/>
                    <a:pt x="6594" y="2463"/>
                    <a:pt x="4957" y="3837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727" y="0"/>
                    <a:pt x="12651" y="119"/>
                    <a:pt x="13548" y="355"/>
                  </a:cubicBezTo>
                  <a:lnTo>
                    <a:pt x="14235" y="-2256"/>
                  </a:lnTo>
                  <a:lnTo>
                    <a:pt x="16769" y="2087"/>
                  </a:lnTo>
                  <a:lnTo>
                    <a:pt x="12425" y="4621"/>
                  </a:lnTo>
                  <a:lnTo>
                    <a:pt x="13112" y="2010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 rot="7200000">
              <a:off x="3577680" y="766800"/>
              <a:ext cx="4281120" cy="6590520"/>
            </a:xfrm>
            <a:custGeom>
              <a:avLst/>
              <a:gdLst>
                <a:gd name="textAreaLeft" fmla="*/ 626400 w 4281120"/>
                <a:gd name="textAreaRight" fmla="*/ 3654720 w 4281120"/>
                <a:gd name="textAreaTop" fmla="*/ 965520 h 6590520"/>
                <a:gd name="textAreaBottom" fmla="*/ 5625000 h 65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97" y="3395"/>
                  </a:moveTo>
                  <a:cubicBezTo>
                    <a:pt x="15100" y="2020"/>
                    <a:pt x="12983" y="1271"/>
                    <a:pt x="10800" y="1271"/>
                  </a:cubicBezTo>
                  <a:cubicBezTo>
                    <a:pt x="8638" y="1270"/>
                    <a:pt x="6540" y="2006"/>
                    <a:pt x="4851" y="3355"/>
                  </a:cubicBezTo>
                  <a:lnTo>
                    <a:pt x="4057" y="2362"/>
                  </a:lnTo>
                  <a:cubicBezTo>
                    <a:pt x="5972" y="833"/>
                    <a:pt x="8349" y="-1"/>
                    <a:pt x="10800" y="0"/>
                  </a:cubicBezTo>
                  <a:cubicBezTo>
                    <a:pt x="13274" y="0"/>
                    <a:pt x="15674" y="849"/>
                    <a:pt x="17597" y="2407"/>
                  </a:cubicBezTo>
                  <a:lnTo>
                    <a:pt x="19297" y="309"/>
                  </a:lnTo>
                  <a:lnTo>
                    <a:pt x="19790" y="5001"/>
                  </a:lnTo>
                  <a:lnTo>
                    <a:pt x="15098" y="5493"/>
                  </a:lnTo>
                  <a:lnTo>
                    <a:pt x="16797" y="3395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6"/>
            <p:cNvSpPr/>
            <p:nvPr/>
          </p:nvSpPr>
          <p:spPr>
            <a:xfrm rot="14400000">
              <a:off x="1770840" y="1152360"/>
              <a:ext cx="4281120" cy="6590880"/>
            </a:xfrm>
            <a:custGeom>
              <a:avLst/>
              <a:gdLst>
                <a:gd name="textAreaLeft" fmla="*/ 626400 w 4281120"/>
                <a:gd name="textAreaRight" fmla="*/ 3654720 w 4281120"/>
                <a:gd name="textAreaTop" fmla="*/ 965520 h 6590880"/>
                <a:gd name="textAreaBottom" fmla="*/ 5625360 h 659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58" y="2674"/>
                  </a:moveTo>
                  <a:cubicBezTo>
                    <a:pt x="14492" y="1660"/>
                    <a:pt x="12666" y="1121"/>
                    <a:pt x="10800" y="1121"/>
                  </a:cubicBezTo>
                  <a:cubicBezTo>
                    <a:pt x="8463" y="1120"/>
                    <a:pt x="6206" y="1966"/>
                    <a:pt x="4444" y="3500"/>
                  </a:cubicBezTo>
                  <a:lnTo>
                    <a:pt x="3708" y="2654"/>
                  </a:lnTo>
                  <a:cubicBezTo>
                    <a:pt x="5674" y="942"/>
                    <a:pt x="8193" y="-1"/>
                    <a:pt x="10800" y="0"/>
                  </a:cubicBezTo>
                  <a:cubicBezTo>
                    <a:pt x="12882" y="0"/>
                    <a:pt x="14919" y="601"/>
                    <a:pt x="16667" y="1733"/>
                  </a:cubicBezTo>
                  <a:lnTo>
                    <a:pt x="18134" y="-534"/>
                  </a:lnTo>
                  <a:lnTo>
                    <a:pt x="19100" y="3975"/>
                  </a:lnTo>
                  <a:lnTo>
                    <a:pt x="14591" y="4940"/>
                  </a:lnTo>
                  <a:lnTo>
                    <a:pt x="16058" y="2674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5830560" y="2395800"/>
              <a:ext cx="2646360" cy="17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Комплексна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механизация 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автоматизац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производств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342240" y="5532480"/>
              <a:ext cx="264456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химизац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производств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471960" y="2389320"/>
              <a:ext cx="2644200" cy="17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электрификац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народного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хозяйств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E5B19C-10D6-4798-BF42-1C67AE55C75C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84240"/>
            <a:ext cx="7086600" cy="17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иоритетными направлениями НТП на современном этапе являются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212256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иотехнология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лектронизация народного хозяйств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мплексная автоматизация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скоренное развитие атомной энергетики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оздание и внедрение новых материалов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своение принципиально новых технологи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нотехнолог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82312D-AE0D-4810-817E-751FB308B50A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179280" y="260280"/>
            <a:ext cx="8891640" cy="6596280"/>
            <a:chOff x="179280" y="260280"/>
            <a:chExt cx="8891640" cy="6596280"/>
          </a:xfrm>
        </p:grpSpPr>
        <p:sp>
          <p:nvSpPr>
            <p:cNvPr id="190" name="AutoShape 2"/>
            <p:cNvSpPr/>
            <p:nvPr/>
          </p:nvSpPr>
          <p:spPr>
            <a:xfrm>
              <a:off x="179280" y="260280"/>
              <a:ext cx="8891640" cy="659628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"/>
            <p:cNvSpPr/>
            <p:nvPr/>
          </p:nvSpPr>
          <p:spPr>
            <a:xfrm flipH="1">
              <a:off x="2402280" y="3558600"/>
              <a:ext cx="1112760" cy="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4"/>
            <p:cNvSpPr/>
            <p:nvPr/>
          </p:nvSpPr>
          <p:spPr>
            <a:xfrm>
              <a:off x="179280" y="2598120"/>
              <a:ext cx="2432880" cy="19342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Социальный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4626360" y="4321800"/>
              <a:ext cx="1440" cy="7632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3207600" y="4723200"/>
              <a:ext cx="2875680" cy="19440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Технически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5735880" y="3558600"/>
              <a:ext cx="1109160" cy="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6586560" y="2537640"/>
              <a:ext cx="2484000" cy="20790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Ресурсны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 flipV="1">
              <a:off x="4626360" y="2029320"/>
              <a:ext cx="1440" cy="7664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10"/>
            <p:cNvSpPr/>
            <p:nvPr/>
          </p:nvSpPr>
          <p:spPr>
            <a:xfrm>
              <a:off x="3144240" y="409320"/>
              <a:ext cx="2898000" cy="19342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кономически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2915640" y="2716920"/>
              <a:ext cx="3407400" cy="17107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Виды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эффектов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 </a:t>
              </a: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НТП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A4EACF-854F-4EA9-8C7B-2A9233BFA01B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0" y="260280"/>
            <a:ext cx="34783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280" y="111240"/>
          <a:ext cx="8993160" cy="6413400"/>
        </p:xfrm>
        <a:graphic>
          <a:graphicData uri="http://schemas.openxmlformats.org/drawingml/2006/table">
            <a:tbl>
              <a:tblPr/>
              <a:tblGrid>
                <a:gridCol w="1592280"/>
                <a:gridCol w="7400880"/>
              </a:tblGrid>
              <a:tr h="55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Franklin Gothic Heavy"/>
                        </a:rPr>
                        <a:t>Виды эффектов от ускорения НТ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032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Экономически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рост производительности труда   и   снижение   трудоемкости, снижение материалоемкости   и себестоимости продукции, рост прибыли и рентабельн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948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есурсны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высвобождение ресурсов на предприятии: материальных, трудовых и финансовых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6864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Технически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появление новой техники и технологии, открытий, изобретений и рационализаторских предложений, ноу-хау и других нововведен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5092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оциальны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повышение материального и культурного уровня жизни граждан, более полное удовлетворение их потребностей в товарах и услуг, улучшение условий и техники безопасности труда, снижение доли тяжелого ручного труда и др. 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C0DA77-4605-480B-9054-89AF08C5F759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Franklin Gothic Heavy"/>
              </a:rPr>
              <a:t>Научно-технический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Franklin Gothic Heavy"/>
              </a:rPr>
              <a:t>прогноз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1280" y="1904760"/>
            <a:ext cx="78120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eaeaea"/>
                </a:solidFill>
                <a:latin typeface="Franklin Gothic Heavy"/>
              </a:rPr>
              <a:t>обоснованная вероятностная оценка перспектив развития определенных областей науки, техники и технологии, а также требуемых для этого ресурсов и организационных мер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AD0E19-79CA-43E7-BBF3-AAECB41A901A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250920" y="4626000"/>
            <a:ext cx="33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По 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прогн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"/>
          <p:cNvSpPr/>
          <p:nvPr/>
        </p:nvSpPr>
        <p:spPr>
          <a:xfrm flipV="1">
            <a:off x="3102120" y="4248000"/>
            <a:ext cx="936360" cy="6508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3116160" y="5099040"/>
            <a:ext cx="1079640" cy="14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16160" y="5243400"/>
            <a:ext cx="1079640" cy="6476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432320" y="417816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раткосрочные (до 2-3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430880" y="4873680"/>
            <a:ext cx="44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среднесрочные (до 5-7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456080" y="5646600"/>
            <a:ext cx="46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долгосрочные (до 15-20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481640" y="446040"/>
            <a:ext cx="44114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явление принципи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вых открытий и изобре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500720" y="1454040"/>
            <a:ext cx="35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бластей использ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же сделанных откры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413240" y="2421000"/>
            <a:ext cx="46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явление новых конструкц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шин, технологий  и 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спространение в производ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79280" y="170028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По содержанию  прогн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419640" y="1193400"/>
            <a:ext cx="936360" cy="6526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490920" y="2060640"/>
            <a:ext cx="719280" cy="14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419640" y="2276640"/>
            <a:ext cx="865080" cy="57600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F28626-C53B-4463-B33E-31A8AD5F3C8C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Научно-технический прогресс (НТП)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7129440" cy="44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то процесс взаимосвязанного, прогрессивного развития науки и техники, обусловленный нуждами материального производства, ростом и усложнением потребностей обществ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E5BA59-9B02-442F-A00B-581599FDCE52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етоды разработки прогноз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200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етоды экстраполяции;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етоды экспертных оценок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етоды моделирования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FBAF25-1A84-4E83-B20A-42693AB22250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8000" y="46080"/>
          <a:ext cx="8966160" cy="5962680"/>
        </p:xfrm>
        <a:graphic>
          <a:graphicData uri="http://schemas.openxmlformats.org/drawingml/2006/table">
            <a:tbl>
              <a:tblPr/>
              <a:tblGrid>
                <a:gridCol w="1584360"/>
                <a:gridCol w="7381800"/>
              </a:tblGrid>
              <a:tr h="581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80808"/>
                          </a:solidFill>
                          <a:latin typeface="Franklin Gothic Heavy"/>
                        </a:rPr>
                        <a:t>Методы разработки прогно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56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тод экстраполя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стоит в распространении закономерностей, сложившихся в науке и технике в предпрогнозный период, на будуще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99692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тоды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снованы на статистической обработке прогнозных оценок, полеченных путем опроса высококвалифицированных специалистов в соответствующих областях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58616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тоды моделир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логические, информационные и математико-статистическ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7476CF-2D4A-4632-9A37-394F0B377281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нципы планирования НТ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964720" cy="44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иоритетность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епрерывность планирования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квозное планирование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комплексность планирования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E0BEE5-D4FD-45F9-930F-37D34F36E1F4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"/>
          <p:cNvGrpSpPr/>
          <p:nvPr/>
        </p:nvGrpSpPr>
        <p:grpSpPr>
          <a:xfrm>
            <a:off x="179280" y="189000"/>
            <a:ext cx="8963280" cy="6440400"/>
            <a:chOff x="179280" y="189000"/>
            <a:chExt cx="8963280" cy="6440400"/>
          </a:xfrm>
        </p:grpSpPr>
        <p:sp>
          <p:nvSpPr>
            <p:cNvPr id="231" name="AutoShape 2"/>
            <p:cNvSpPr/>
            <p:nvPr/>
          </p:nvSpPr>
          <p:spPr>
            <a:xfrm>
              <a:off x="179280" y="189000"/>
              <a:ext cx="8963280" cy="644040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3"/>
            <p:cNvSpPr/>
            <p:nvPr/>
          </p:nvSpPr>
          <p:spPr>
            <a:xfrm>
              <a:off x="3260160" y="189000"/>
              <a:ext cx="3182040" cy="223128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4"/>
            <p:cNvSpPr/>
            <p:nvPr/>
          </p:nvSpPr>
          <p:spPr>
            <a:xfrm>
              <a:off x="3945960" y="961560"/>
              <a:ext cx="17884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Сквозно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ланировани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5"/>
            <p:cNvSpPr/>
            <p:nvPr/>
          </p:nvSpPr>
          <p:spPr>
            <a:xfrm>
              <a:off x="6226560" y="2226600"/>
              <a:ext cx="2880720" cy="2401200"/>
            </a:xfrm>
            <a:prstGeom prst="ellipse">
              <a:avLst/>
            </a:prstGeom>
            <a:solidFill>
              <a:srgbClr val="cc3300">
                <a:alpha val="50000"/>
              </a:srgbClr>
            </a:solidFill>
            <a:ln w="46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6414120" y="3087000"/>
              <a:ext cx="1790280" cy="5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         </a:t>
              </a: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Непрерывност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       </a:t>
              </a: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ланировани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7"/>
            <p:cNvSpPr/>
            <p:nvPr/>
          </p:nvSpPr>
          <p:spPr>
            <a:xfrm>
              <a:off x="3270960" y="4364640"/>
              <a:ext cx="3099960" cy="2264400"/>
            </a:xfrm>
            <a:prstGeom prst="ellipse">
              <a:avLst/>
            </a:prstGeom>
            <a:solidFill>
              <a:srgbClr val="71bb96">
                <a:alpha val="50000"/>
              </a:srgbClr>
            </a:solidFill>
            <a:ln w="4680">
              <a:solidFill>
                <a:srgbClr val="71bb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3891960" y="5078520"/>
              <a:ext cx="17902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Комплексност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ланировани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9"/>
            <p:cNvSpPr/>
            <p:nvPr/>
          </p:nvSpPr>
          <p:spPr>
            <a:xfrm>
              <a:off x="179280" y="2187000"/>
              <a:ext cx="2790360" cy="23994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709200" y="3087000"/>
              <a:ext cx="1790280" cy="5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риоритетност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3048840" y="2480400"/>
              <a:ext cx="3322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Принципы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планирования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НТ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C384ED-D849-466E-9446-0FC219287776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87120" y="130320"/>
            <a:ext cx="70772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тимулирование научно-технического прогресс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280" y="2347560"/>
            <a:ext cx="787068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оздание преимуществ в удовлетворении экономических и социальных интересов организаций и предприятий, разрабатывающих и осваивающих новую высокоэффективную технику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CBD879-81F2-41B6-BCE2-F875F746BE20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Механизм экономического стимулирования НТП включае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Franklin Gothic Medium"/>
              </a:rPr>
              <a:t>   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Основные принципы</a:t>
            </a: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комплексность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перспективность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нормативный характер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глас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67280" y="1628280"/>
            <a:ext cx="54734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01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Форм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налогообложение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фондообразование и финансирование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кредитование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установление цен и других экономических нормативов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организация оплаты труда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экономическая ответственность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страхование риска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3F140B-20E6-4959-A6F6-DF14F294A393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знаки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НТ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81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создание и развитие качественно новых технологий производства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разработка и использование принципиально новых машин и систем машин, работающих в автоматическом режиме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открытие и использование новых видов и источников энергии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создание и широкое использование новых видов материалов с заранее заданными свойствами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широкое развитие автоматизации производственных процессов, автоматических линий, промышленных роботов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внедрение новых форм организации труда и производст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E8B517-9D61-4D99-8FC0-A100BD187DE1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ве формы научно-технического прогресс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1639800"/>
          <a:ext cx="8966160" cy="4741920"/>
        </p:xfrm>
        <a:graphic>
          <a:graphicData uri="http://schemas.openxmlformats.org/drawingml/2006/table">
            <a:tbl>
              <a:tblPr/>
              <a:tblGrid>
                <a:gridCol w="1747800"/>
                <a:gridCol w="7218360"/>
              </a:tblGrid>
              <a:tr h="179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ffcc"/>
                          </a:solidFill>
                          <a:latin typeface="Franklin Gothic Heavy"/>
                        </a:rPr>
                        <a:t>Эволюционная форма НТ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едставляет собой сравнительно медленное совершенствование традиционных научно-технических основ производств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94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ffcc"/>
                          </a:solidFill>
                          <a:latin typeface="Franklin Gothic Heavy"/>
                        </a:rPr>
                        <a:t>Научно-техническая револю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это коренные преобразования в системе научного знания и в технике, совокупность взаимосвязанных переворотов в различных отраслях материального производства, основанных на переходе на новые научно-технические принцип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297F0C-5A92-4D62-A4CA-0DA2889914A6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"/>
          <p:cNvGrpSpPr/>
          <p:nvPr/>
        </p:nvGrpSpPr>
        <p:grpSpPr>
          <a:xfrm>
            <a:off x="250920" y="259920"/>
            <a:ext cx="8891640" cy="6392880"/>
            <a:chOff x="250920" y="259920"/>
            <a:chExt cx="8891640" cy="6392880"/>
          </a:xfrm>
        </p:grpSpPr>
        <p:sp>
          <p:nvSpPr>
            <p:cNvPr id="116" name="AutoShape 2"/>
            <p:cNvSpPr/>
            <p:nvPr/>
          </p:nvSpPr>
          <p:spPr>
            <a:xfrm>
              <a:off x="250920" y="1094760"/>
              <a:ext cx="8891640" cy="555804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7" name="AutoShape 3"/>
            <p:cNvCxnSpPr>
              <a:stCxn id="118" idx="0"/>
              <a:endCxn id="119" idx="2"/>
            </p:cNvCxnSpPr>
            <p:nvPr/>
          </p:nvCxnSpPr>
          <p:spPr>
            <a:xfrm rot="10800000">
              <a:off x="4735440" y="507960"/>
              <a:ext cx="812880" cy="2502360"/>
            </a:xfrm>
            <a:prstGeom prst="bentConnector3">
              <a:avLst>
                <a:gd name="adj1" fmla="val 4997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0" name="AutoShape 4"/>
            <p:cNvCxnSpPr>
              <a:endCxn id="119" idx="2"/>
            </p:cNvCxnSpPr>
            <p:nvPr/>
          </p:nvCxnSpPr>
          <p:spPr>
            <a:xfrm flipV="1">
              <a:off x="4730760" y="3005280"/>
              <a:ext cx="1324440" cy="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1" name="AutoShape 5"/>
            <p:cNvCxnSpPr>
              <a:stCxn id="122" idx="0"/>
              <a:endCxn id="119" idx="2"/>
            </p:cNvCxnSpPr>
            <p:nvPr/>
          </p:nvCxnSpPr>
          <p:spPr>
            <a:xfrm flipV="1">
              <a:off x="1573920" y="259920"/>
              <a:ext cx="813240" cy="2748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19" name="AutoShape 6"/>
            <p:cNvSpPr/>
            <p:nvPr/>
          </p:nvSpPr>
          <p:spPr>
            <a:xfrm>
              <a:off x="1426680" y="1094760"/>
              <a:ext cx="6617160" cy="191340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Этапы развития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научно-технической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революции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7"/>
            <p:cNvSpPr/>
            <p:nvPr/>
          </p:nvSpPr>
          <p:spPr>
            <a:xfrm>
              <a:off x="250920" y="3715200"/>
              <a:ext cx="2645640" cy="222156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научный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подготовительный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056760" y="4097520"/>
              <a:ext cx="2913840" cy="222264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современный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(перестройка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технической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и отраслевой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структуры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национальног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хозяйства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9"/>
            <p:cNvSpPr/>
            <p:nvPr/>
          </p:nvSpPr>
          <p:spPr>
            <a:xfrm>
              <a:off x="6083640" y="3715200"/>
              <a:ext cx="3058560" cy="222156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крупн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автоматизированн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машинног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6C1529-959A-40E5-9D15-88372DEA0646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1640" y="228600"/>
            <a:ext cx="765972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ипы экономического роста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684360" y="1866960"/>
            <a:ext cx="3386160" cy="770040"/>
          </a:xfrm>
          <a:prstGeom prst="flowChartProcess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Экстенсив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148360" y="1844640"/>
            <a:ext cx="3384360" cy="792360"/>
          </a:xfrm>
          <a:prstGeom prst="flowChartProcess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Интенсив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8460000">
            <a:off x="2576520" y="1267560"/>
            <a:ext cx="735120" cy="505080"/>
          </a:xfrm>
          <a:prstGeom prst="rightArrow">
            <a:avLst>
              <a:gd name="adj1" fmla="val 50000"/>
              <a:gd name="adj2" fmla="val 36386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 rot="2400000">
            <a:off x="5940000" y="1266840"/>
            <a:ext cx="776520" cy="514440"/>
          </a:xfrm>
          <a:prstGeom prst="rightArrow">
            <a:avLst>
              <a:gd name="adj1" fmla="val 50000"/>
              <a:gd name="adj2" fmla="val 37736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17440" y="2881440"/>
            <a:ext cx="4211640" cy="3500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предполагает, что увели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объема производ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материальных благ и 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достигается за счет ис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большего количества факто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производства, т.е. зем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ырья, оборудования, рабоч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илы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572000" y="2881440"/>
            <a:ext cx="4537080" cy="3500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экономического роста имеет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тогда, когда прирост объема все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видов продукции обеспечивается 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чет применения бол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овершенных 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производства, т.е. за сч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использования достижений НТ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2266920" y="2635200"/>
            <a:ext cx="1440" cy="2174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6946920" y="2635200"/>
            <a:ext cx="1440" cy="2174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845928-21B5-4F90-9041-CF7B5BB8A87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1"/>
          <p:cNvGrpSpPr/>
          <p:nvPr/>
        </p:nvGrpSpPr>
        <p:grpSpPr>
          <a:xfrm>
            <a:off x="395280" y="333000"/>
            <a:ext cx="8350200" cy="5902560"/>
            <a:chOff x="395280" y="333000"/>
            <a:chExt cx="8350200" cy="5902560"/>
          </a:xfrm>
        </p:grpSpPr>
        <p:sp>
          <p:nvSpPr>
            <p:cNvPr id="136" name="AutoShape 2"/>
            <p:cNvSpPr/>
            <p:nvPr/>
          </p:nvSpPr>
          <p:spPr>
            <a:xfrm>
              <a:off x="395280" y="2097720"/>
              <a:ext cx="8350200" cy="413748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7" name="AutoShape 3"/>
            <p:cNvCxnSpPr>
              <a:stCxn id="138" idx="1"/>
              <a:endCxn id="139" idx="2"/>
            </p:cNvCxnSpPr>
            <p:nvPr/>
          </p:nvCxnSpPr>
          <p:spPr>
            <a:xfrm rot="10800000">
              <a:off x="2957760" y="332640"/>
              <a:ext cx="389160" cy="2764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0" name="AutoShape 4"/>
            <p:cNvCxnSpPr>
              <a:stCxn id="141" idx="1"/>
              <a:endCxn id="139" idx="2"/>
            </p:cNvCxnSpPr>
            <p:nvPr/>
          </p:nvCxnSpPr>
          <p:spPr>
            <a:xfrm rot="10800000">
              <a:off x="2957760" y="1462680"/>
              <a:ext cx="389160" cy="163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2" name="AutoShape 5"/>
            <p:cNvCxnSpPr>
              <a:stCxn id="143" idx="1"/>
              <a:endCxn id="139" idx="2"/>
            </p:cNvCxnSpPr>
            <p:nvPr/>
          </p:nvCxnSpPr>
          <p:spPr>
            <a:xfrm rot="10800000">
              <a:off x="2982960" y="2577600"/>
              <a:ext cx="362520" cy="519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9" name="AutoShape 6"/>
            <p:cNvSpPr/>
            <p:nvPr/>
          </p:nvSpPr>
          <p:spPr>
            <a:xfrm>
              <a:off x="466200" y="2097720"/>
              <a:ext cx="5758200" cy="997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АПРАВЛ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ОДЕЛИРОВАН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ЭКОНОМИЧЕСКОГО РОС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707640" y="3238200"/>
              <a:ext cx="5010480" cy="752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НЕОКЕЙНСИАН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8"/>
            <p:cNvSpPr/>
            <p:nvPr/>
          </p:nvSpPr>
          <p:spPr>
            <a:xfrm>
              <a:off x="3734640" y="4354200"/>
              <a:ext cx="5010480" cy="752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НЕОКЛАССИЧЕ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3734640" y="5483520"/>
              <a:ext cx="5010480" cy="752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ИСТОРИКО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СОЦИОЛОГИЧЕ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A9F204-4D1C-44BB-A4D4-249AB487CAD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95400"/>
            <a:ext cx="73724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Franklin Gothic Heavy"/>
              </a:rPr>
              <a:t>Классификация факторов, влияющих на ускорение НТП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055520"/>
          <a:ext cx="8715240" cy="5253120"/>
        </p:xfrm>
        <a:graphic>
          <a:graphicData uri="http://schemas.openxmlformats.org/drawingml/2006/table">
            <a:tbl>
              <a:tblPr/>
              <a:tblGrid>
                <a:gridCol w="4579920"/>
                <a:gridCol w="4135320"/>
              </a:tblGrid>
              <a:tr h="446400">
                <a:tc gridSpan="2">
                  <a:txBody>
                    <a:bodyPr lIns="90000" rIns="90000" tIns="1404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акторы, влияющие на ускорение НТ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 масштаб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акроуровень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отраслевой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региональный;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икроуровен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и воз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ременно действующи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стоянно действующ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548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тепени влия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Т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ущественно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енее существенно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лабое влия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 характе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нов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объективны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убъективны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 направлен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зитивны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негативны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0658BE-0382-440D-8E92-7B792BAB148E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8023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Факторы, влияющие на ускорение НТП в зависимости от масштабност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0" y="1184400"/>
            <a:ext cx="9142560" cy="5627520"/>
            <a:chOff x="0" y="1184400"/>
            <a:chExt cx="9142560" cy="5627520"/>
          </a:xfrm>
        </p:grpSpPr>
        <p:sp>
          <p:nvSpPr>
            <p:cNvPr id="150" name="AutoShape 3"/>
            <p:cNvSpPr/>
            <p:nvPr/>
          </p:nvSpPr>
          <p:spPr>
            <a:xfrm>
              <a:off x="0" y="1184400"/>
              <a:ext cx="9142560" cy="562752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4"/>
            <p:cNvSpPr/>
            <p:nvPr/>
          </p:nvSpPr>
          <p:spPr>
            <a:xfrm flipV="1">
              <a:off x="3687120" y="1266840"/>
              <a:ext cx="1812600" cy="98388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Т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 flipV="1">
              <a:off x="2628360" y="2419200"/>
              <a:ext cx="3886920" cy="79164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1.макроуров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6"/>
            <p:cNvSpPr/>
            <p:nvPr/>
          </p:nvSpPr>
          <p:spPr>
            <a:xfrm flipV="1">
              <a:off x="1834920" y="3341520"/>
              <a:ext cx="5615280" cy="80460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2. отраслевой уров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7"/>
            <p:cNvSpPr/>
            <p:nvPr/>
          </p:nvSpPr>
          <p:spPr>
            <a:xfrm flipV="1">
              <a:off x="899640" y="4290480"/>
              <a:ext cx="7415640" cy="86004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3. региональный уров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 flipV="1">
              <a:off x="118800" y="5320440"/>
              <a:ext cx="9023400" cy="81540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4. уровень предприят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7:52:42Z</dcterms:created>
  <dc:creator>Татьяна</dc:creator>
  <dc:description/>
  <dc:language>en-US</dc:language>
  <cp:lastModifiedBy>Owner</cp:lastModifiedBy>
  <dcterms:modified xsi:type="dcterms:W3CDTF">2011-05-31T09:11:35Z</dcterms:modified>
  <cp:revision>68</cp:revision>
  <dc:subject/>
  <dc:title>Тема: «Научно-технический прогресс и его роль в развитии мирового хозяйства»</dc:title>
</cp:coreProperties>
</file>