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3.png" ContentType="image/png"/>
  <Override PartName="/ppt/media/image17.jpeg" ContentType="image/jpeg"/>
  <Override PartName="/ppt/media/image9.jpeg" ContentType="image/jpeg"/>
  <Override PartName="/ppt/media/image23.wmf" ContentType="image/x-wmf"/>
  <Override PartName="/ppt/media/image10.wmf" ContentType="image/x-wmf"/>
  <Override PartName="/ppt/media/image7.jpeg" ContentType="image/jpeg"/>
  <Override PartName="/ppt/media/image12.wmf" ContentType="image/x-wmf"/>
  <Override PartName="/ppt/media/image8.png" ContentType="image/png"/>
  <Override PartName="/ppt/media/image6.jpeg" ContentType="image/jpeg"/>
  <Override PartName="/ppt/media/image5.jpeg" ContentType="image/jpeg"/>
  <Override PartName="/ppt/media/image24.wmf" ContentType="image/x-wmf"/>
  <Override PartName="/ppt/media/image22.wmf" ContentType="image/x-wmf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16.jpeg" ContentType="image/jpeg"/>
  <Override PartName="/ppt/media/image14.wmf" ContentType="image/x-wmf"/>
  <Override PartName="/ppt/media/image1.png" ContentType="image/png"/>
  <Override PartName="/ppt/media/image25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5A37-4767-44E0-A93E-71DC57317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42F1-3632-483E-9752-E379B188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1AB9-A7BE-4A7F-BF7B-7A3B5AA86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37B3-8412-4520-8EF4-80FFC77D2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0B7A-4234-4463-82FB-2BA1C1171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DA64-FA2A-47FE-BF94-F45020E6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9920-7CAB-487B-97BC-46EC0C02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7F38-B7FB-41E9-A7A9-F0695462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5481-CBAF-4776-A9EB-D664D2DD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4EAB-0496-4835-B921-DC603B3E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CC0A-36CA-412E-A11D-2E84317B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8366-3D08-49CA-A789-AE548837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5A63-23A8-4F42-B67B-7133B4A5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E2A0-BC5D-40E6-B451-1F149156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B67A-E00C-4AFA-B6A9-633AA035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DC29-2ACB-4ED6-9AA0-AC08652F8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F65F-C821-45C9-A894-1918611FE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B26B-8B07-4684-8361-1FA7759A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D4C7-8F0A-437D-ACB9-3ED4CEA4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A40C-7427-40A9-86BD-3CB245D6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B7B1-AD86-4878-9139-E6C24FE2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61C6-39C1-4030-BC8F-F1A2FDE0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67F4-F234-4AE4-8393-8668334C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C856-6ED1-466A-90E9-A06E389A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DB44-B073-4974-83EE-C2AAB0E12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CE9B-967D-44C1-BC85-9ECF4A9382E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ПСИХИКА, СОЗНАНИЕ, БЕССОЗНАТЕЛЬНОЕ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611280" y="1989000"/>
            <a:ext cx="795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РАЗВИТИЕ ПСИХИКИ ЖИВЫХ СУЩЕСТВ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ПРОИСХОЖДЕНИЕ И РАЗВИТИЕ СОЗНАН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ПРИХОЛОГИЧЕСКИЕ ХАРАКТЕРИСТИКИ СОЗНАН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БЕССОЗНАТЕЛЬНО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ТРИ КЛАССА НЕОСОЗНАВАЕМЫХ ПСИХИЧЕСКИХ ЯВЛЕНИЙ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7524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Обезьяны и др. высшие позвоночные (собаки, дельфины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Развитие исследовательских форм поведения с использованием ранее приобретенных знания и умени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Мышление (выделение причинно-следственных связей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0" name="Picture 4" descr="dog"/>
          <p:cNvPicPr/>
          <p:nvPr/>
        </p:nvPicPr>
        <p:blipFill>
          <a:blip r:embed="rId1"/>
          <a:stretch/>
        </p:blipFill>
        <p:spPr>
          <a:xfrm>
            <a:off x="5508720" y="4121280"/>
            <a:ext cx="3276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34920" y="228240"/>
            <a:ext cx="7156440" cy="284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Дальнейшее развитие психики идет за счет совершенствования высших психических функций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123640" y="3284280"/>
            <a:ext cx="4799160" cy="29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Память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Речь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Мышление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34920" y="228240"/>
            <a:ext cx="715644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Возникновение и развитие сознания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24000" y="1700280"/>
            <a:ext cx="7020000" cy="45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Сознание можно определить как единство высших психических функций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Его возникновению и развитию способствовала совместная    орудийная деятельность людей опосредованная речью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5" name="Picture 4" descr="mis114"/>
          <p:cNvPicPr/>
          <p:nvPr/>
        </p:nvPicPr>
        <p:blipFill>
          <a:blip r:embed="rId1"/>
          <a:stretch/>
        </p:blipFill>
        <p:spPr>
          <a:xfrm>
            <a:off x="0" y="1916280"/>
            <a:ext cx="31417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34920" y="228240"/>
            <a:ext cx="715644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Возникновение и развитие сознания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124000" y="1700280"/>
            <a:ext cx="7020000" cy="45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Орудия труда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Трудовая деятельность и общение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Речь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8" name="Picture 5" descr="iCAKUKNJ6"/>
          <p:cNvPicPr/>
          <p:nvPr/>
        </p:nvPicPr>
        <p:blipFill>
          <a:blip r:embed="rId1"/>
          <a:stretch/>
        </p:blipFill>
        <p:spPr>
          <a:xfrm>
            <a:off x="250920" y="1989000"/>
            <a:ext cx="1657080" cy="1657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iCA8O4ZB6"/>
          <p:cNvPicPr/>
          <p:nvPr/>
        </p:nvPicPr>
        <p:blipFill>
          <a:blip r:embed="rId2"/>
          <a:stretch/>
        </p:blipFill>
        <p:spPr>
          <a:xfrm>
            <a:off x="324000" y="442440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iCAMUYAL8"/>
          <p:cNvPicPr/>
          <p:nvPr/>
        </p:nvPicPr>
        <p:blipFill>
          <a:blip r:embed="rId3"/>
          <a:stretch/>
        </p:blipFill>
        <p:spPr>
          <a:xfrm>
            <a:off x="4140360" y="4076640"/>
            <a:ext cx="439236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сихологические характеристики сознания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62040" y="1628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Самосознание – ощущение себя познающим субъектом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Мысленное представление существующей и воображаемой действительности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Способность контролировать свои поведенческие и психические состояния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сихологические характеристики сознания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Наличие интеллектуальных схем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Способность к коммуникации при помощи знаковых систем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5" name="Picture 6" descr="iCACIUWCC"/>
          <p:cNvPicPr/>
          <p:nvPr/>
        </p:nvPicPr>
        <p:blipFill>
          <a:blip r:embed="rId1"/>
          <a:stretch/>
        </p:blipFill>
        <p:spPr>
          <a:xfrm>
            <a:off x="7164360" y="3284640"/>
            <a:ext cx="1687680" cy="2089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iCA9A937K"/>
          <p:cNvPicPr/>
          <p:nvPr/>
        </p:nvPicPr>
        <p:blipFill>
          <a:blip r:embed="rId2"/>
          <a:stretch/>
        </p:blipFill>
        <p:spPr>
          <a:xfrm>
            <a:off x="250920" y="4437000"/>
            <a:ext cx="3240000" cy="1940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Books2"/>
          <p:cNvPicPr/>
          <p:nvPr/>
        </p:nvPicPr>
        <p:blipFill>
          <a:blip r:embed="rId3"/>
          <a:stretch/>
        </p:blipFill>
        <p:spPr>
          <a:xfrm>
            <a:off x="3924360" y="4221000"/>
            <a:ext cx="2871720" cy="24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Роль языка в развитии сознания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72000" y="6165360"/>
            <a:ext cx="115920" cy="1429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24560" y="1267920"/>
            <a:ext cx="4340160" cy="475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Знак – материальный объек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Значение – то, на что указывает знак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мысл – индивидуальный оттенок значения, связанный с личным опыто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Line 8"/>
          <p:cNvSpPr/>
          <p:nvPr/>
        </p:nvSpPr>
        <p:spPr>
          <a:xfrm flipH="1">
            <a:off x="468000" y="2492280"/>
            <a:ext cx="1871640" cy="25923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Line 9"/>
          <p:cNvSpPr/>
          <p:nvPr/>
        </p:nvSpPr>
        <p:spPr>
          <a:xfrm flipH="1">
            <a:off x="468360" y="5084640"/>
            <a:ext cx="3456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Line 10"/>
          <p:cNvSpPr/>
          <p:nvPr/>
        </p:nvSpPr>
        <p:spPr>
          <a:xfrm flipH="1" flipV="1">
            <a:off x="2340000" y="2420640"/>
            <a:ext cx="1511280" cy="266364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1766520" y="191628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ЗНА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Text Box 12"/>
          <p:cNvSpPr/>
          <p:nvPr/>
        </p:nvSpPr>
        <p:spPr>
          <a:xfrm rot="744000">
            <a:off x="182880" y="522900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ЗНАЧЕНИ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Text Box 13"/>
          <p:cNvSpPr/>
          <p:nvPr/>
        </p:nvSpPr>
        <p:spPr>
          <a:xfrm rot="20637000">
            <a:off x="3350160" y="5084640"/>
            <a:ext cx="13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МЫСЛ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Роль языка в развитии сознания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72000" y="6165360"/>
            <a:ext cx="115920" cy="1429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Язык формирует два пласта сознания – пласт значений и пласт смыслов, которые составляют коллективное и индивидуальное сознани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AutoShape 12"/>
          <p:cNvSpPr/>
          <p:nvPr/>
        </p:nvSpPr>
        <p:spPr>
          <a:xfrm>
            <a:off x="3276720" y="3716280"/>
            <a:ext cx="5688000" cy="2881440"/>
          </a:xfrm>
          <a:prstGeom prst="flowChartAlternateProcess">
            <a:avLst/>
          </a:prstGeom>
          <a:solidFill>
            <a:srgbClr val="cc6600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Line 13"/>
          <p:cNvSpPr/>
          <p:nvPr/>
        </p:nvSpPr>
        <p:spPr>
          <a:xfrm>
            <a:off x="3276720" y="5157720"/>
            <a:ext cx="568800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WordArt 15"/>
          <p:cNvSpPr txBox="1"/>
          <p:nvPr/>
        </p:nvSpPr>
        <p:spPr>
          <a:xfrm>
            <a:off x="3419640" y="5661000"/>
            <a:ext cx="5362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НДИВИДУАЛЬНОЕ СОЗНАН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3" name="WordArt 16"/>
          <p:cNvSpPr txBox="1"/>
          <p:nvPr/>
        </p:nvSpPr>
        <p:spPr>
          <a:xfrm>
            <a:off x="3419640" y="4221000"/>
            <a:ext cx="5329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ОЛЛЕКТИВНОЕ СОЗНАН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4" name="Picture 18" descr="arr024"/>
          <p:cNvPicPr/>
          <p:nvPr/>
        </p:nvPicPr>
        <p:blipFill>
          <a:blip r:embed="rId2"/>
          <a:stretch/>
        </p:blipFill>
        <p:spPr>
          <a:xfrm rot="19602600">
            <a:off x="1763640" y="3789000"/>
            <a:ext cx="1325520" cy="1368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9" descr="arr024"/>
          <p:cNvPicPr/>
          <p:nvPr/>
        </p:nvPicPr>
        <p:blipFill>
          <a:blip r:embed="rId3"/>
          <a:stretch/>
        </p:blipFill>
        <p:spPr>
          <a:xfrm rot="19602600">
            <a:off x="1763640" y="5013000"/>
            <a:ext cx="1325520" cy="13683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1"/>
          <p:cNvSpPr/>
          <p:nvPr/>
        </p:nvSpPr>
        <p:spPr>
          <a:xfrm rot="19701600">
            <a:off x="-119880" y="3963600"/>
            <a:ext cx="23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ЗНАЧЕНИ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Text Box 22"/>
          <p:cNvSpPr/>
          <p:nvPr/>
        </p:nvSpPr>
        <p:spPr>
          <a:xfrm rot="19317600">
            <a:off x="46440" y="535572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СМЫСЛ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Направление развития сознания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Общее направление развития сознания – расширение сферы осознаваемого в себе и мир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нутри этого общего направления выделяют три частных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04760" y="-34920"/>
            <a:ext cx="7086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62040" y="764640"/>
            <a:ext cx="7772400" cy="525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Рефлексивное  -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смещение фокуса рефлексии с окружающего мира на самое себ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Историческое –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связано с изменением форм коллективного сознани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Понятийное –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связано с языком. Расширение языка и проникновение в суть вещей взаимосвязан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764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роисхождение психики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Идеалистическая теория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сихика и материя – два начала,    связанных, но несводимых друг к другу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Материалистическая теория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сихика есть свойство высокоорганизованной материи, возникшее в результате эволюци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687840" y="5899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WordArt 9"/>
          <p:cNvSpPr txBox="1"/>
          <p:nvPr/>
        </p:nvSpPr>
        <p:spPr>
          <a:xfrm>
            <a:off x="324000" y="5734080"/>
            <a:ext cx="228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МАТЕР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3635280" y="5661000"/>
            <a:ext cx="1666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ЖИЗН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09" name="WordArt 11"/>
          <p:cNvSpPr txBox="1"/>
          <p:nvPr/>
        </p:nvSpPr>
        <p:spPr>
          <a:xfrm>
            <a:off x="6372360" y="5661000"/>
            <a:ext cx="2200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ПСИХИК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10" name="AutoShape 12"/>
          <p:cNvSpPr/>
          <p:nvPr/>
        </p:nvSpPr>
        <p:spPr>
          <a:xfrm>
            <a:off x="2771640" y="5734080"/>
            <a:ext cx="792360" cy="431640"/>
          </a:xfrm>
          <a:custGeom>
            <a:avLst/>
            <a:gdLst>
              <a:gd name="textAreaLeft" fmla="*/ 123840 w 792360"/>
              <a:gd name="textAreaRight" fmla="*/ 693360 w 79236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5435640" y="5734080"/>
            <a:ext cx="863640" cy="431640"/>
          </a:xfrm>
          <a:custGeom>
            <a:avLst/>
            <a:gdLst>
              <a:gd name="textAreaLeft" fmla="*/ 135000 w 863640"/>
              <a:gd name="textAreaRight" fmla="*/ 756000 w 86364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77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770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Бессознательное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Бессознательное наряду с сознанием представлено во всех психических процессах и состояниях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Ощущения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Мышление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Эмоции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4" name="Picture 4" descr="bus045"/>
          <p:cNvPicPr/>
          <p:nvPr/>
        </p:nvPicPr>
        <p:blipFill>
          <a:blip r:embed="rId1"/>
          <a:stretch/>
        </p:blipFill>
        <p:spPr>
          <a:xfrm>
            <a:off x="6012000" y="3500280"/>
            <a:ext cx="2728800" cy="2179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bus046"/>
          <p:cNvPicPr/>
          <p:nvPr/>
        </p:nvPicPr>
        <p:blipFill>
          <a:blip r:embed="rId2"/>
          <a:stretch/>
        </p:blipFill>
        <p:spPr>
          <a:xfrm>
            <a:off x="4788000" y="4149720"/>
            <a:ext cx="2279520" cy="2473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mis113"/>
          <p:cNvPicPr/>
          <p:nvPr/>
        </p:nvPicPr>
        <p:blipFill>
          <a:blip r:embed="rId3"/>
          <a:stretch/>
        </p:blipFill>
        <p:spPr>
          <a:xfrm>
            <a:off x="2484360" y="5373720"/>
            <a:ext cx="30243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Три класса неосознаваемых явлений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63640" y="1905120"/>
            <a:ext cx="667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Неосознаваемые автоматизмы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Неосознаваемые механизмы сознательных действи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Неосознаваемая установк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Неосознаваемое сопровождение сознательных действи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Три класса неосознаваемых явлений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63640" y="1905120"/>
            <a:ext cx="667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Неосознаваемые побудители сознательных действий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Надсознательные процессы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Физиологическая основа психики – нервная систем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оведение живых существ усложняется с развитием нервной систем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Развитие нервной системы связано с усложнением ее строени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4" name="Group 7"/>
          <p:cNvGrpSpPr/>
          <p:nvPr/>
        </p:nvGrpSpPr>
        <p:grpSpPr>
          <a:xfrm>
            <a:off x="324000" y="4437000"/>
            <a:ext cx="8569080" cy="1944720"/>
            <a:chOff x="324000" y="4437000"/>
            <a:chExt cx="8569080" cy="1944720"/>
          </a:xfrm>
        </p:grpSpPr>
        <p:sp>
          <p:nvSpPr>
            <p:cNvPr id="115" name="AutoShape 4"/>
            <p:cNvSpPr/>
            <p:nvPr/>
          </p:nvSpPr>
          <p:spPr>
            <a:xfrm>
              <a:off x="324000" y="4437000"/>
              <a:ext cx="3671640" cy="1944720"/>
            </a:xfrm>
            <a:prstGeom prst="flowChartPreparation">
              <a:avLst/>
            </a:prstGeom>
            <a:solidFill>
              <a:srgbClr val="8000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Раздражимость,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самосохранение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AutoShape 5"/>
            <p:cNvSpPr/>
            <p:nvPr/>
          </p:nvSpPr>
          <p:spPr>
            <a:xfrm>
              <a:off x="5219640" y="4437000"/>
              <a:ext cx="3673440" cy="1944720"/>
            </a:xfrm>
            <a:prstGeom prst="flowChartPreparation">
              <a:avLst/>
            </a:prstGeom>
            <a:solidFill>
              <a:srgbClr val="8000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Чувствительность,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Готовность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к научению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17" name="Picture 6" descr="arr030"/>
            <p:cNvPicPr/>
            <p:nvPr/>
          </p:nvPicPr>
          <p:blipFill>
            <a:blip r:embed="rId1"/>
            <a:stretch/>
          </p:blipFill>
          <p:spPr>
            <a:xfrm rot="5400000">
              <a:off x="4257720" y="4751280"/>
              <a:ext cx="628560" cy="115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Физиологическая основа психики – нервная систем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9" name="Picture 9" descr="nervy"/>
          <p:cNvPicPr/>
          <p:nvPr/>
        </p:nvPicPr>
        <p:blipFill>
          <a:blip r:embed="rId1"/>
          <a:stretch/>
        </p:blipFill>
        <p:spPr>
          <a:xfrm>
            <a:off x="1403280" y="1844640"/>
            <a:ext cx="2565360" cy="4432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iCAE4TDYG"/>
          <p:cNvPicPr/>
          <p:nvPr/>
        </p:nvPicPr>
        <p:blipFill>
          <a:blip r:embed="rId2"/>
          <a:stretch/>
        </p:blipFill>
        <p:spPr>
          <a:xfrm>
            <a:off x="4859280" y="3645000"/>
            <a:ext cx="3529080" cy="26334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2"/>
          <p:cNvSpPr/>
          <p:nvPr/>
        </p:nvSpPr>
        <p:spPr>
          <a:xfrm>
            <a:off x="5437080" y="2852640"/>
            <a:ext cx="21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Нервная клетк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Физиологическая основа психики – нервная систем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3" name="Picture 8" descr="glia"/>
          <p:cNvPicPr/>
          <p:nvPr/>
        </p:nvPicPr>
        <p:blipFill>
          <a:blip r:embed="rId1"/>
          <a:stretch/>
        </p:blipFill>
        <p:spPr>
          <a:xfrm>
            <a:off x="250920" y="1700280"/>
            <a:ext cx="6696000" cy="4579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untitled"/>
          <p:cNvPicPr/>
          <p:nvPr/>
        </p:nvPicPr>
        <p:blipFill>
          <a:blip r:embed="rId2"/>
          <a:stretch/>
        </p:blipFill>
        <p:spPr>
          <a:xfrm>
            <a:off x="6286680" y="4638600"/>
            <a:ext cx="2857320" cy="22194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7093080" y="3068640"/>
            <a:ext cx="163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ПЕРЕДАЧА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НЕРВНОГО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ИМПУЛЬСА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444080" cy="24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Простейшие</a:t>
            </a: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.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низшие многоклеточные организмы, живущие в водной среде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2707920"/>
            <a:ext cx="8964720" cy="33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еакция на биологически значимые свойства сред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Нет реакции на нейтральные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аздражител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Элементарные формы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движений, слабые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нецеленаправленны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8" name="Picture 4" descr="42154"/>
          <p:cNvPicPr/>
          <p:nvPr/>
        </p:nvPicPr>
        <p:blipFill>
          <a:blip r:embed="rId1"/>
          <a:stretch/>
        </p:blipFill>
        <p:spPr>
          <a:xfrm>
            <a:off x="5435640" y="3429000"/>
            <a:ext cx="26971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Кольчатые черви, брюхоногие моллюски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Четкие реакции на нейтральные раздражител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Развитая двигательная активност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Активный поиск положи-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тельных раздражителе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Жесткие врожденные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ограмм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1" name="Picture 4" descr="ani036"/>
          <p:cNvPicPr/>
          <p:nvPr/>
        </p:nvPicPr>
        <p:blipFill>
          <a:blip r:embed="rId1"/>
          <a:stretch/>
        </p:blipFill>
        <p:spPr>
          <a:xfrm>
            <a:off x="5580000" y="3284640"/>
            <a:ext cx="317664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Рыбы, насекомые, головоногие моллюски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ложное разнообразное движени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Активный поиск положительных раздражителей, избегание негативных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еобладание генетически запрограммированных компонентов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Развитое защитно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оведени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4" name="Picture 4" descr="ani054"/>
          <p:cNvPicPr/>
          <p:nvPr/>
        </p:nvPicPr>
        <p:blipFill>
          <a:blip r:embed="rId1"/>
          <a:stretch/>
        </p:blipFill>
        <p:spPr>
          <a:xfrm>
            <a:off x="4716360" y="4653000"/>
            <a:ext cx="377208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23640" y="228600"/>
            <a:ext cx="7201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Высшие позвоночные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тицы, некоторые млекопитающие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ысокоразвитые инстинктивные формы поведени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пособность к научени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Элементарные форм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мышлени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7" name="Picture 4" descr="ani045"/>
          <p:cNvPicPr/>
          <p:nvPr/>
        </p:nvPicPr>
        <p:blipFill>
          <a:blip r:embed="rId1"/>
          <a:stretch/>
        </p:blipFill>
        <p:spPr>
          <a:xfrm>
            <a:off x="5364000" y="3573360"/>
            <a:ext cx="365292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5:41:12Z</dcterms:created>
  <dc:creator>Admin</dc:creator>
  <dc:description/>
  <dc:language>en-US</dc:language>
  <cp:lastModifiedBy>Fenix</cp:lastModifiedBy>
  <dcterms:modified xsi:type="dcterms:W3CDTF">2012-12-20T08:05:26Z</dcterms:modified>
  <cp:revision>6</cp:revision>
  <dc:subject/>
  <dc:title>ПСИХИКА, СОЗНАНИЕ, БЕССОЗНАТЕЛЬНО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