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1.wmf" ContentType="image/x-wmf"/>
  <Override PartName="/ppt/media/image3.png" ContentType="image/png"/>
  <Override PartName="/ppt/media/image17.jpeg" ContentType="image/jpeg"/>
  <Override PartName="/ppt/media/image9.jpeg" ContentType="image/jpeg"/>
  <Override PartName="/ppt/media/image23.wmf" ContentType="image/x-wmf"/>
  <Override PartName="/ppt/media/image10.wmf" ContentType="image/x-wmf"/>
  <Override PartName="/ppt/media/image7.jpeg" ContentType="image/jpeg"/>
  <Override PartName="/ppt/media/image12.wmf" ContentType="image/x-wmf"/>
  <Override PartName="/ppt/media/image8.png" ContentType="image/png"/>
  <Override PartName="/ppt/media/image6.jpeg" ContentType="image/jpeg"/>
  <Override PartName="/ppt/media/image5.jpeg" ContentType="image/jpeg"/>
  <Override PartName="/ppt/media/image24.wmf" ContentType="image/x-wmf"/>
  <Override PartName="/ppt/media/image22.wmf" ContentType="image/x-wmf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4.wmf" ContentType="image/x-wmf"/>
  <Override PartName="/ppt/media/image18.jpeg" ContentType="image/jpeg"/>
  <Override PartName="/ppt/media/image16.jpeg" ContentType="image/jpeg"/>
  <Override PartName="/ppt/media/image14.wmf" ContentType="image/x-wmf"/>
  <Override PartName="/ppt/media/image1.png" ContentType="image/png"/>
  <Override PartName="/ppt/media/image25.wmf" ContentType="image/x-wmf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7804-B462-4F5A-A315-282933041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99E1-5735-47AF-ADBF-65732AA3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FC46-3D30-429B-924A-AEB4ED993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8787-6A4D-431A-A393-DADED3921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05183-D2D3-4C0E-A1CA-4BBE932E8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0A54D-7323-4C47-9247-BF317E7F2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66270-BCA8-4A08-9186-7B5D5DBCA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49471-1F92-49DD-BE73-D0F7C2A7F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59E8E-EA3C-46CC-957A-4BAD37D99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52089-A326-47B0-A7FA-6303E071E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250BD-BA39-451C-94A1-3395545F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4102-013C-4840-878E-CEBCEF945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53119-B5B6-473A-8C4D-0A2C00EE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D90F1-055F-4229-9CEC-DAD8D9F1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4581E-6A13-4E3B-B1A6-C61C2273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09283-AF81-4507-908D-87A9B2863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F207D-7A72-4D30-A576-07F4DF7E5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D1A5-5C2E-4A72-B020-CE32392A1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8B14-75C0-4534-B61C-F07354FA9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B975-6DB4-4A3B-9A79-B05530FE6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4F15-3E15-4018-897A-19AB8D194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DBE9-ED90-460E-852B-08D1BDC7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CC5C-3720-487B-A25A-C40995B9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12D4-2517-4454-83E3-CC68F639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>
                  <a:gd name="textAreaLeft" fmla="*/ 0 w 1306440"/>
                  <a:gd name="textAreaRight" fmla="*/ 1306440 w 13064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>
                  <a:gd name="textAreaLeft" fmla="*/ 0 w 653760"/>
                  <a:gd name="textAreaRight" fmla="*/ 653760 w 65376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5F1BB-A3A7-4B3A-8AE0-FEE8A94B9D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5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>
                  <a:gd name="textAreaLeft" fmla="*/ 0 w 2089080"/>
                  <a:gd name="textAreaRight" fmla="*/ 2089440 w 20890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>
                  <a:gd name="textAreaLeft" fmla="*/ 0 w 4178160"/>
                  <a:gd name="textAreaRight" fmla="*/ 4178160 w 417816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>
                  <a:gd name="textAreaLeft" fmla="*/ 0 w 2090880"/>
                  <a:gd name="textAreaRight" fmla="*/ 2091240 w 20908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0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635BC-F060-4508-98D5-3F4CAB2514F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ПСИХИКА, СОЗНАНИЕ, БЕССОЗНАТЕЛЬНОЕ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611280" y="1989000"/>
            <a:ext cx="7956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РАЗВИТИЕ ПСИХИКИ ЖИВЫХ СУЩЕСТВ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ПРОИСХОЖДЕНИЕ И РАЗВИТИЕ СОЗНАНИ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ПРИХОЛОГИЧЕСКИЕ ХАРАКТЕРИСТИКИ СОЗНАНИ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БЕССОЗНАТЕЛЬНО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ТРИ КЛАССА НЕОСОЗНАВАЕМЫХ ПСИХИЧЕСКИХ ЯВЛЕНИЙ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19280" y="228600"/>
            <a:ext cx="75247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Обезьяны и др. высшие позвоночные (собаки, дельфины)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Развитие исследовательских форм поведения с использованием ранее приобретенных знания и умений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Мышление (выделение причинно-следственных связей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0" name="Picture 4" descr="dog"/>
          <p:cNvPicPr/>
          <p:nvPr/>
        </p:nvPicPr>
        <p:blipFill>
          <a:blip r:embed="rId1"/>
          <a:stretch/>
        </p:blipFill>
        <p:spPr>
          <a:xfrm>
            <a:off x="5508720" y="4121280"/>
            <a:ext cx="32763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834920" y="228240"/>
            <a:ext cx="7156440" cy="284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Дальнейшее развитие психики идет за счет совершенствования высших психических функций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123640" y="3284280"/>
            <a:ext cx="4799160" cy="29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Times New Roman"/>
              </a:rPr>
              <a:t>Память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Times New Roman"/>
              </a:rPr>
              <a:t>Речь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Times New Roman"/>
              </a:rPr>
              <a:t>Мышление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834920" y="228240"/>
            <a:ext cx="715644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Возникновение и развитие сознания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124000" y="1700280"/>
            <a:ext cx="7020000" cy="453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Сознание можно определить как единство высших психических функций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Его возникновению и развитию способствовала совместная    орудийная деятельность людей опосредованная речью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5" name="Picture 4" descr="mis114"/>
          <p:cNvPicPr/>
          <p:nvPr/>
        </p:nvPicPr>
        <p:blipFill>
          <a:blip r:embed="rId1"/>
          <a:stretch/>
        </p:blipFill>
        <p:spPr>
          <a:xfrm>
            <a:off x="0" y="1916280"/>
            <a:ext cx="314172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834920" y="228240"/>
            <a:ext cx="7156440" cy="132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Возникновение и развитие сознания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124000" y="1700280"/>
            <a:ext cx="7020000" cy="453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Орудия труда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Трудовая деятельность и общение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Речь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8" name="Picture 5" descr="iCAKUKNJ6"/>
          <p:cNvPicPr/>
          <p:nvPr/>
        </p:nvPicPr>
        <p:blipFill>
          <a:blip r:embed="rId1"/>
          <a:stretch/>
        </p:blipFill>
        <p:spPr>
          <a:xfrm>
            <a:off x="250920" y="1989000"/>
            <a:ext cx="1657080" cy="16574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iCA8O4ZB6"/>
          <p:cNvPicPr/>
          <p:nvPr/>
        </p:nvPicPr>
        <p:blipFill>
          <a:blip r:embed="rId2"/>
          <a:stretch/>
        </p:blipFill>
        <p:spPr>
          <a:xfrm>
            <a:off x="324000" y="4424400"/>
            <a:ext cx="2592360" cy="19526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iCAMUYAL8"/>
          <p:cNvPicPr/>
          <p:nvPr/>
        </p:nvPicPr>
        <p:blipFill>
          <a:blip r:embed="rId3"/>
          <a:stretch/>
        </p:blipFill>
        <p:spPr>
          <a:xfrm>
            <a:off x="4140360" y="4076640"/>
            <a:ext cx="439236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Психологические характеристики сознания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62040" y="162828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Самосознание – ощущение себя познающим субъектом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Мысленное представление существующей и воображаемой действительности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Способность контролировать свои поведенческие и психические состояния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Психологические характеристики сознания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Наличие интеллектуальных схем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Способность к коммуникации при помощи знаковых систем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5" name="Picture 6" descr="iCACIUWCC"/>
          <p:cNvPicPr/>
          <p:nvPr/>
        </p:nvPicPr>
        <p:blipFill>
          <a:blip r:embed="rId1"/>
          <a:stretch/>
        </p:blipFill>
        <p:spPr>
          <a:xfrm>
            <a:off x="7164360" y="3284640"/>
            <a:ext cx="1687680" cy="2089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iCA9A937K"/>
          <p:cNvPicPr/>
          <p:nvPr/>
        </p:nvPicPr>
        <p:blipFill>
          <a:blip r:embed="rId2"/>
          <a:stretch/>
        </p:blipFill>
        <p:spPr>
          <a:xfrm>
            <a:off x="250920" y="4437000"/>
            <a:ext cx="3240000" cy="19400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Books2"/>
          <p:cNvPicPr/>
          <p:nvPr/>
        </p:nvPicPr>
        <p:blipFill>
          <a:blip r:embed="rId3"/>
          <a:stretch/>
        </p:blipFill>
        <p:spPr>
          <a:xfrm>
            <a:off x="3924360" y="4221000"/>
            <a:ext cx="2871720" cy="242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Роль языка в развитии сознания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572000" y="6165360"/>
            <a:ext cx="115920" cy="1429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24560" y="1267920"/>
            <a:ext cx="4340160" cy="475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Знак – материальный объек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Значение – то, на что указывает знак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Смысл – индивидуальный оттенок значения, связанный с личным опытом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Line 8"/>
          <p:cNvSpPr/>
          <p:nvPr/>
        </p:nvSpPr>
        <p:spPr>
          <a:xfrm flipH="1">
            <a:off x="468000" y="2492280"/>
            <a:ext cx="1871640" cy="259236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Line 9"/>
          <p:cNvSpPr/>
          <p:nvPr/>
        </p:nvSpPr>
        <p:spPr>
          <a:xfrm flipH="1">
            <a:off x="468360" y="5084640"/>
            <a:ext cx="34560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Line 10"/>
          <p:cNvSpPr/>
          <p:nvPr/>
        </p:nvSpPr>
        <p:spPr>
          <a:xfrm flipH="1" flipV="1">
            <a:off x="2340000" y="2420640"/>
            <a:ext cx="1511280" cy="266364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Text Box 11"/>
          <p:cNvSpPr/>
          <p:nvPr/>
        </p:nvSpPr>
        <p:spPr>
          <a:xfrm>
            <a:off x="1766520" y="191628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ЗНАК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Text Box 12"/>
          <p:cNvSpPr/>
          <p:nvPr/>
        </p:nvSpPr>
        <p:spPr>
          <a:xfrm rot="744000">
            <a:off x="182880" y="5229000"/>
            <a:ext cx="178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ЗНАЧЕНИ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Text Box 13"/>
          <p:cNvSpPr/>
          <p:nvPr/>
        </p:nvSpPr>
        <p:spPr>
          <a:xfrm rot="20637000">
            <a:off x="3350160" y="5084640"/>
            <a:ext cx="132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МЫСЛ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Роль языка в развитии сознания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572000" y="6165360"/>
            <a:ext cx="115920" cy="1429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3640" y="1699920"/>
            <a:ext cx="8569080" cy="13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Язык формирует два пласта сознания – пласт значений и пласт смыслов, которые составляют коллективное и индивидуальное сознани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AutoShape 12"/>
          <p:cNvSpPr/>
          <p:nvPr/>
        </p:nvSpPr>
        <p:spPr>
          <a:xfrm>
            <a:off x="3276720" y="3716280"/>
            <a:ext cx="5688000" cy="2881440"/>
          </a:xfrm>
          <a:prstGeom prst="flowChartAlternateProcess">
            <a:avLst/>
          </a:prstGeom>
          <a:solidFill>
            <a:srgbClr val="cc6600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Line 13"/>
          <p:cNvSpPr/>
          <p:nvPr/>
        </p:nvSpPr>
        <p:spPr>
          <a:xfrm>
            <a:off x="3276720" y="5157720"/>
            <a:ext cx="5688000" cy="0"/>
          </a:xfrm>
          <a:prstGeom prst="line">
            <a:avLst/>
          </a:prstGeom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WordArt 15"/>
          <p:cNvSpPr txBox="1"/>
          <p:nvPr/>
        </p:nvSpPr>
        <p:spPr>
          <a:xfrm>
            <a:off x="3419640" y="5661000"/>
            <a:ext cx="5362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НДИВИДУАЛЬНОЕ СОЗНАНИ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3" name="WordArt 16"/>
          <p:cNvSpPr txBox="1"/>
          <p:nvPr/>
        </p:nvSpPr>
        <p:spPr>
          <a:xfrm>
            <a:off x="3419640" y="4221000"/>
            <a:ext cx="5329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ОЛЛЕКТИВНОЕ СОЗНАНИ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74" name="Picture 18" descr="arr024"/>
          <p:cNvPicPr/>
          <p:nvPr/>
        </p:nvPicPr>
        <p:blipFill>
          <a:blip r:embed="rId2"/>
          <a:stretch/>
        </p:blipFill>
        <p:spPr>
          <a:xfrm rot="19602600">
            <a:off x="1763640" y="3789000"/>
            <a:ext cx="1325520" cy="1368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9" descr="arr024"/>
          <p:cNvPicPr/>
          <p:nvPr/>
        </p:nvPicPr>
        <p:blipFill>
          <a:blip r:embed="rId3"/>
          <a:stretch/>
        </p:blipFill>
        <p:spPr>
          <a:xfrm rot="19602600">
            <a:off x="1763640" y="5013000"/>
            <a:ext cx="1325520" cy="136836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21"/>
          <p:cNvSpPr/>
          <p:nvPr/>
        </p:nvSpPr>
        <p:spPr>
          <a:xfrm rot="19701600">
            <a:off x="-119880" y="3963600"/>
            <a:ext cx="237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Times New Roman"/>
              </a:rPr>
              <a:t>ЗНАЧЕНИ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Text Box 22"/>
          <p:cNvSpPr/>
          <p:nvPr/>
        </p:nvSpPr>
        <p:spPr>
          <a:xfrm rot="19317600">
            <a:off x="46440" y="5355720"/>
            <a:ext cx="17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Times New Roman"/>
              </a:rPr>
              <a:t>СМЫСЛ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Направление развития сознания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Общее направление развития сознания – расширение сферы осознаваемого в себе и мир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Внутри этого общего направления выделяют три частных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04760" y="-34920"/>
            <a:ext cx="70866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62040" y="764640"/>
            <a:ext cx="7772400" cy="525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Рефлексивное  - </a:t>
            </a: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смещение фокуса рефлексии с окружающего мира на самое себя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Историческое – </a:t>
            </a: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связано с изменением форм коллективного сознания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Понятийное – </a:t>
            </a: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связано с языком. Расширение языка и проникновение в суть вещей взаимосвязаны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7640" y="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Происхождение психики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45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Идеалистическая теория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сихика и материя – два начала,    связанных, но несводимых друг к другу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Материалистическая теория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сихика есть свойство высокоорганизованной материи, возникшее в результате эволюци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3687840" y="58993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WordArt 9"/>
          <p:cNvSpPr txBox="1"/>
          <p:nvPr/>
        </p:nvSpPr>
        <p:spPr>
          <a:xfrm>
            <a:off x="324000" y="5734080"/>
            <a:ext cx="2286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МАТЕР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08" name="WordArt 10"/>
          <p:cNvSpPr txBox="1"/>
          <p:nvPr/>
        </p:nvSpPr>
        <p:spPr>
          <a:xfrm>
            <a:off x="3635280" y="5661000"/>
            <a:ext cx="1666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ЖИЗНЬ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09" name="WordArt 11"/>
          <p:cNvSpPr txBox="1"/>
          <p:nvPr/>
        </p:nvSpPr>
        <p:spPr>
          <a:xfrm>
            <a:off x="6372360" y="5661000"/>
            <a:ext cx="2200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ПСИХИКА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10" name="AutoShape 12"/>
          <p:cNvSpPr/>
          <p:nvPr/>
        </p:nvSpPr>
        <p:spPr>
          <a:xfrm>
            <a:off x="2771640" y="5734080"/>
            <a:ext cx="792360" cy="431640"/>
          </a:xfrm>
          <a:custGeom>
            <a:avLst/>
            <a:gdLst>
              <a:gd name="textAreaLeft" fmla="*/ 123840 w 792360"/>
              <a:gd name="textAreaRight" fmla="*/ 693360 w 79236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AutoShape 13"/>
          <p:cNvSpPr/>
          <p:nvPr/>
        </p:nvSpPr>
        <p:spPr>
          <a:xfrm>
            <a:off x="5435640" y="5734080"/>
            <a:ext cx="863640" cy="431640"/>
          </a:xfrm>
          <a:custGeom>
            <a:avLst/>
            <a:gdLst>
              <a:gd name="textAreaLeft" fmla="*/ 135000 w 863640"/>
              <a:gd name="textAreaRight" fmla="*/ 756000 w 86364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Бессознательное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Бессознательное наряду с сознанием представлено во всех психических процессах и состояниях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Ощущения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Мышление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Эмоции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4" name="Picture 4" descr="bus045"/>
          <p:cNvPicPr/>
          <p:nvPr/>
        </p:nvPicPr>
        <p:blipFill>
          <a:blip r:embed="rId1"/>
          <a:stretch/>
        </p:blipFill>
        <p:spPr>
          <a:xfrm>
            <a:off x="6012000" y="3500280"/>
            <a:ext cx="2728800" cy="21798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bus046"/>
          <p:cNvPicPr/>
          <p:nvPr/>
        </p:nvPicPr>
        <p:blipFill>
          <a:blip r:embed="rId2"/>
          <a:stretch/>
        </p:blipFill>
        <p:spPr>
          <a:xfrm>
            <a:off x="4788000" y="4149720"/>
            <a:ext cx="2279520" cy="24732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mis113"/>
          <p:cNvPicPr/>
          <p:nvPr/>
        </p:nvPicPr>
        <p:blipFill>
          <a:blip r:embed="rId3"/>
          <a:stretch/>
        </p:blipFill>
        <p:spPr>
          <a:xfrm>
            <a:off x="2484360" y="5373720"/>
            <a:ext cx="302436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Три класса неосознаваемых явлений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763640" y="1905120"/>
            <a:ext cx="667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Неосознаваемые автоматизмы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Неосознаваемые механизмы сознательных действий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Неосознаваемая установк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Неосознаваемое сопровождение сознательных действий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Три класса неосознаваемых явлений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63640" y="1905120"/>
            <a:ext cx="667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Неосознаваемые побудители сознательных действий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Надсознательные процессы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Физиологическая основа психики – нервная систем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оведение живых существ усложняется с развитием нервной системы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Развитие нервной системы связано с усложнением ее строения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14" name="Group 7"/>
          <p:cNvGrpSpPr/>
          <p:nvPr/>
        </p:nvGrpSpPr>
        <p:grpSpPr>
          <a:xfrm>
            <a:off x="324000" y="4437000"/>
            <a:ext cx="8569080" cy="1944720"/>
            <a:chOff x="324000" y="4437000"/>
            <a:chExt cx="8569080" cy="1944720"/>
          </a:xfrm>
        </p:grpSpPr>
        <p:sp>
          <p:nvSpPr>
            <p:cNvPr id="115" name="AutoShape 4"/>
            <p:cNvSpPr/>
            <p:nvPr/>
          </p:nvSpPr>
          <p:spPr>
            <a:xfrm>
              <a:off x="324000" y="4437000"/>
              <a:ext cx="3671640" cy="1944720"/>
            </a:xfrm>
            <a:prstGeom prst="flowChartPreparation">
              <a:avLst/>
            </a:prstGeom>
            <a:solidFill>
              <a:srgbClr val="8000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Times New Roman"/>
                </a:rPr>
                <a:t>Раздражимость, 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Times New Roman"/>
                </a:rPr>
                <a:t>самосохранение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" name="AutoShape 5"/>
            <p:cNvSpPr/>
            <p:nvPr/>
          </p:nvSpPr>
          <p:spPr>
            <a:xfrm>
              <a:off x="5219640" y="4437000"/>
              <a:ext cx="3673440" cy="1944720"/>
            </a:xfrm>
            <a:prstGeom prst="flowChartPreparation">
              <a:avLst/>
            </a:prstGeom>
            <a:solidFill>
              <a:srgbClr val="8000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Times New Roman"/>
                </a:rPr>
                <a:t>Чувствительность,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Times New Roman"/>
                </a:rPr>
                <a:t>Готовность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00"/>
                  </a:solidFill>
                  <a:latin typeface="Times New Roman"/>
                </a:rPr>
                <a:t> </a:t>
              </a:r>
              <a:r>
                <a:rPr b="1" lang="ru-RU" sz="2400" spc="-1" strike="noStrike">
                  <a:solidFill>
                    <a:srgbClr val="ffcc00"/>
                  </a:solidFill>
                  <a:latin typeface="Times New Roman"/>
                </a:rPr>
                <a:t>к научению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117" name="Picture 6" descr="arr030"/>
            <p:cNvPicPr/>
            <p:nvPr/>
          </p:nvPicPr>
          <p:blipFill>
            <a:blip r:embed="rId1"/>
            <a:stretch/>
          </p:blipFill>
          <p:spPr>
            <a:xfrm rot="5400000">
              <a:off x="4257720" y="4751280"/>
              <a:ext cx="628560" cy="115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05704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Физиологическая основа психики – нервная систем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9" name="Picture 9" descr="nervy"/>
          <p:cNvPicPr/>
          <p:nvPr/>
        </p:nvPicPr>
        <p:blipFill>
          <a:blip r:embed="rId1"/>
          <a:stretch/>
        </p:blipFill>
        <p:spPr>
          <a:xfrm>
            <a:off x="1403280" y="1844640"/>
            <a:ext cx="2565360" cy="44323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iCAE4TDYG"/>
          <p:cNvPicPr/>
          <p:nvPr/>
        </p:nvPicPr>
        <p:blipFill>
          <a:blip r:embed="rId2"/>
          <a:stretch/>
        </p:blipFill>
        <p:spPr>
          <a:xfrm>
            <a:off x="4859280" y="3645000"/>
            <a:ext cx="3529080" cy="26334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2"/>
          <p:cNvSpPr/>
          <p:nvPr/>
        </p:nvSpPr>
        <p:spPr>
          <a:xfrm>
            <a:off x="5437080" y="2852640"/>
            <a:ext cx="21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Нервная клетк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05704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Физиологическая основа психики – нервная систем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3" name="Picture 8" descr="glia"/>
          <p:cNvPicPr/>
          <p:nvPr/>
        </p:nvPicPr>
        <p:blipFill>
          <a:blip r:embed="rId1"/>
          <a:stretch/>
        </p:blipFill>
        <p:spPr>
          <a:xfrm>
            <a:off x="250920" y="1700280"/>
            <a:ext cx="6696000" cy="4579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untitled"/>
          <p:cNvPicPr/>
          <p:nvPr/>
        </p:nvPicPr>
        <p:blipFill>
          <a:blip r:embed="rId2"/>
          <a:stretch/>
        </p:blipFill>
        <p:spPr>
          <a:xfrm>
            <a:off x="6286680" y="4638600"/>
            <a:ext cx="2857320" cy="22194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9"/>
          <p:cNvSpPr/>
          <p:nvPr/>
        </p:nvSpPr>
        <p:spPr>
          <a:xfrm>
            <a:off x="7093080" y="3068640"/>
            <a:ext cx="1630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ПЕРЕДАЧА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НЕРВНОГО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ИМПУЛЬСА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47640" y="0"/>
            <a:ext cx="7444080" cy="247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Простейшие</a:t>
            </a: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.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низшие многоклеточные организмы, живущие в водной среде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2707920"/>
            <a:ext cx="8964720" cy="33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Реакция на биологически значимые свойства среды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Нет реакции на нейтральные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раздражители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Элементарные формы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движений, слабые,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нецеленаправленны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8" name="Picture 4" descr="42154"/>
          <p:cNvPicPr/>
          <p:nvPr/>
        </p:nvPicPr>
        <p:blipFill>
          <a:blip r:embed="rId1"/>
          <a:stretch/>
        </p:blipFill>
        <p:spPr>
          <a:xfrm>
            <a:off x="5435640" y="3429000"/>
            <a:ext cx="269712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Кольчатые черви, брюхоногие моллюски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Четкие реакции на нейтральные раздражител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Развитая двигательная активность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Активный поиск положи-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тельных раздражителей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Жесткие врожденные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рограммы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1" name="Picture 4" descr="ani036"/>
          <p:cNvPicPr/>
          <p:nvPr/>
        </p:nvPicPr>
        <p:blipFill>
          <a:blip r:embed="rId1"/>
          <a:stretch/>
        </p:blipFill>
        <p:spPr>
          <a:xfrm>
            <a:off x="5580000" y="3284640"/>
            <a:ext cx="317664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Рыбы, насекомые, головоногие моллюски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Сложное разнообразное движени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Активный поиск положительных раздражителей, избегание негативных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реобладание генетически запрограммированных компонентов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Развитое защитно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оведени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4" name="Picture 4" descr="ani054"/>
          <p:cNvPicPr/>
          <p:nvPr/>
        </p:nvPicPr>
        <p:blipFill>
          <a:blip r:embed="rId1"/>
          <a:stretch/>
        </p:blipFill>
        <p:spPr>
          <a:xfrm>
            <a:off x="4716360" y="4653000"/>
            <a:ext cx="377208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23640" y="228600"/>
            <a:ext cx="72010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Высшие позвоночные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птицы, некоторые млекопитающие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242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Высокоразвитые инстинктивные формы поведения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Способность к научению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Элементарные формы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мышления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7" name="Picture 4" descr="ani045"/>
          <p:cNvPicPr/>
          <p:nvPr/>
        </p:nvPicPr>
        <p:blipFill>
          <a:blip r:embed="rId1"/>
          <a:stretch/>
        </p:blipFill>
        <p:spPr>
          <a:xfrm>
            <a:off x="5364000" y="3573360"/>
            <a:ext cx="3652920" cy="26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5:41:12Z</dcterms:created>
  <dc:creator>Admin</dc:creator>
  <dc:description/>
  <dc:language>en-US</dc:language>
  <cp:lastModifiedBy>Fenix</cp:lastModifiedBy>
  <dcterms:modified xsi:type="dcterms:W3CDTF">2012-12-20T08:05:26Z</dcterms:modified>
  <cp:revision>6</cp:revision>
  <dc:subject/>
  <dc:title>ПСИХИКА, СОЗНАНИЕ, БЕССОЗНАТЕЛЬНО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