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FC5-D42E-4DFC-B40C-5A1DA5CB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5F4-8E79-40C8-8DC4-C4842A79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B23-6CEF-4781-A244-90412105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697-1817-4416-9DC4-CF315749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745A-E56E-404A-97E0-3635E52F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E0A2-6AED-4960-9C50-00680962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14C0-1DEC-4737-A14F-EAC177C4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0185-223C-4F36-8FCD-F807E694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77C9-A5FF-4288-AF5D-57199991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567C-625F-42EC-8BFD-151A6B46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C564-668E-4B7C-B552-D65C900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8DC-2E75-42DD-AC36-1D6B25B7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C131-80F7-4514-A427-F05D63D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74FC-A315-43BE-A181-37DA8463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8545-659F-4F54-AEC2-1870E780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3077-F8D0-43FA-AB9E-28A6E676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7B51-CF78-4A9D-AD5D-C16E14D3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E4A-EDF8-4613-94E8-DD95FF3C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7B6-D9AF-487B-83F1-CD0EE595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FD7-0265-4AD3-A641-58462B0A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494-1455-490C-9CB9-2BFD44EB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110-8B89-480F-8398-418F6F2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5B9-168D-4FCF-AD8B-CDD6130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2D8-302B-4023-A6D7-5BA039E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B3EE-1FAE-4D5B-8080-5EE04C246C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C929-C2C1-4028-B036-B163A3E3FD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7756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История развития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автомобилей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3933360"/>
            <a:ext cx="6912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рязев Серг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3 «в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СОШ №8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: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осохова Людмила Евген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сква  201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ипаж с бензиновым двигател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ение двигателя внутреннего сгорани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5 году был изготовлен первый экипаж с бензиновым двига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1905%20Buick%20C"/>
          <p:cNvPicPr/>
          <p:nvPr/>
        </p:nvPicPr>
        <p:blipFill>
          <a:blip r:embed="rId1"/>
          <a:stretch/>
        </p:blipFill>
        <p:spPr>
          <a:xfrm>
            <a:off x="4932360" y="2349360"/>
            <a:ext cx="392760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ременный автомоби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тех пор автомобиль претерпел множество измен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автомобиль все также стоит на 4-ех колесах и у него все еще бензиновый двиг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69914"/>
          <p:cNvPicPr/>
          <p:nvPr/>
        </p:nvPicPr>
        <p:blipFill>
          <a:blip r:embed="rId1"/>
          <a:stretch/>
        </p:blipFill>
        <p:spPr>
          <a:xfrm>
            <a:off x="491796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о-автомобиль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een ap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-автомобиль не  загрязняет окружающую среду,  а по мере движения,  при помощи встроенных фильтров, очищает возду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ecocar-greenapple01"/>
          <p:cNvPicPr/>
          <p:nvPr/>
        </p:nvPicPr>
        <p:blipFill>
          <a:blip r:embed="rId1"/>
          <a:stretch/>
        </p:blipFill>
        <p:spPr>
          <a:xfrm>
            <a:off x="4917960" y="2276640"/>
            <a:ext cx="3927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дро-авиа-мобиль «Дельфин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813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сверхскоростной гидро-авиа-моби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Гидро» - работать на простой и морской в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Авиа» - передвигаться не только по земле, но и по воздух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ме того, он будет иметь встроенный фильтр для очистки воды или ее опресн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имеет современный обтекаемый ви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" descr="SL271176"/>
          <p:cNvPicPr/>
          <p:nvPr/>
        </p:nvPicPr>
        <p:blipFill>
          <a:blip r:embed="rId1"/>
          <a:stretch/>
        </p:blipFill>
        <p:spPr>
          <a:xfrm>
            <a:off x="4788000" y="2276640"/>
            <a:ext cx="40719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автомобиля, как и история человека, пока не закончена и много интересного ждет нас впере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слава первым мастерам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слава тем, кто строит нам в наш век автомобили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MP900442638[1]"/>
          <p:cNvPicPr/>
          <p:nvPr/>
        </p:nvPicPr>
        <p:blipFill>
          <a:blip r:embed="rId1"/>
          <a:stretch/>
        </p:blipFill>
        <p:spPr>
          <a:xfrm>
            <a:off x="5148360" y="2565360"/>
            <a:ext cx="3671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омоби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 вам хочу поведать бы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том, как был автомоби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льным самока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чудищем крыла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 парусами и рул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 сухопутным корабл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в век угля и пар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атишкой самова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на бензиновый мо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ерешел в итог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верно служит с этих п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м путникам в доро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volkov_aleksandr_urfin_dzhyus_i_ego_derevyannyie_soldatyi_(s_illyustratsiyami)_urfin13"/>
          <p:cNvPicPr/>
          <p:nvPr/>
        </p:nvPicPr>
        <p:blipFill>
          <a:blip r:embed="rId1"/>
          <a:stretch/>
        </p:blipFill>
        <p:spPr>
          <a:xfrm>
            <a:off x="1359000" y="2095560"/>
            <a:ext cx="2886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про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чего все начал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автомобили были раньш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развивался автомобил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м должен быть автомобиль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1 ве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model1"/>
          <p:cNvPicPr/>
          <p:nvPr/>
        </p:nvPicPr>
        <p:blipFill>
          <a:blip r:embed="rId1"/>
          <a:stretch/>
        </p:blipFill>
        <p:spPr>
          <a:xfrm>
            <a:off x="0" y="692280"/>
            <a:ext cx="1857240" cy="149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post-18472-1259517426_thumb"/>
          <p:cNvPicPr/>
          <p:nvPr/>
        </p:nvPicPr>
        <p:blipFill>
          <a:blip r:embed="rId2"/>
          <a:stretch/>
        </p:blipFill>
        <p:spPr>
          <a:xfrm>
            <a:off x="0" y="2805120"/>
            <a:ext cx="1905120" cy="13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krossover11"/>
          <p:cNvPicPr/>
          <p:nvPr/>
        </p:nvPicPr>
        <p:blipFill>
          <a:blip r:embed="rId3"/>
          <a:stretch/>
        </p:blipFill>
        <p:spPr>
          <a:xfrm>
            <a:off x="0" y="4770360"/>
            <a:ext cx="23814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и зада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0100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создании «самоходной повозки», которую мы сейчас называем автомоби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 изобретении экологически чистого автомоби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м должен быть автомобиле будущ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avto"/>
          <p:cNvPicPr/>
          <p:nvPr/>
        </p:nvPicPr>
        <p:blipFill>
          <a:blip r:embed="rId1"/>
          <a:stretch/>
        </p:blipFill>
        <p:spPr>
          <a:xfrm>
            <a:off x="4976640" y="20955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ес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ось все с древн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тение колеса дало очень мощный толчок развитию тех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220px-Wheel_Iran"/>
          <p:cNvPicPr/>
          <p:nvPr/>
        </p:nvPicPr>
        <p:blipFill>
          <a:blip r:embed="rId1"/>
          <a:stretch/>
        </p:blipFill>
        <p:spPr>
          <a:xfrm>
            <a:off x="5484960" y="2349360"/>
            <a:ext cx="2793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ле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явилась телега. Сначала человек сам тащил ее, но вскоре стал привлекать к тяжелому труду своих четвероногих собратье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GenaMikheev098792"/>
          <p:cNvPicPr/>
          <p:nvPr/>
        </p:nvPicPr>
        <p:blipFill>
          <a:blip r:embed="rId1"/>
          <a:stretch/>
        </p:blipFill>
        <p:spPr>
          <a:xfrm>
            <a:off x="4932360" y="2205000"/>
            <a:ext cx="3927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лега управляемая ветр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коре человек придумал использовать ветер,  но ветер дул не всегда.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Безымянный"/>
          <p:cNvPicPr/>
          <p:nvPr/>
        </p:nvPicPr>
        <p:blipFill>
          <a:blip r:embed="rId1"/>
          <a:stretch/>
        </p:blipFill>
        <p:spPr>
          <a:xfrm>
            <a:off x="5197320" y="1905120"/>
            <a:ext cx="336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16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одвижущиеся экипаж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интересной  является трехколесная самокатка Ивана Кулибина, которую он создал в 1791 году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625_2"/>
          <p:cNvPicPr/>
          <p:nvPr/>
        </p:nvPicPr>
        <p:blipFill>
          <a:blip r:embed="rId1"/>
          <a:stretch/>
        </p:blipFill>
        <p:spPr>
          <a:xfrm>
            <a:off x="4917960" y="2349360"/>
            <a:ext cx="39276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аровая повоз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ись паровые двигат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763 году французский инженер Коньо построил первую паровую повоз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ая машина могла ехать целых пятнадцать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800px-FardierdeCugnot20050111"/>
          <p:cNvPicPr/>
          <p:nvPr/>
        </p:nvPicPr>
        <p:blipFill>
          <a:blip r:embed="rId1"/>
          <a:stretch/>
        </p:blipFill>
        <p:spPr>
          <a:xfrm>
            <a:off x="4859280" y="2565360"/>
            <a:ext cx="3927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8:01:54Z</dcterms:created>
  <dc:creator>Admin</dc:creator>
  <dc:description/>
  <dc:language>en-US</dc:language>
  <cp:lastModifiedBy>Owner</cp:lastModifiedBy>
  <dcterms:modified xsi:type="dcterms:W3CDTF">2012-05-29T11:37:54Z</dcterms:modified>
  <cp:revision>8</cp:revision>
  <dc:subject/>
  <dc:title>История развития      автомобилей</dc:title>
</cp:coreProperties>
</file>