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gif" ContentType="image/gif"/>
  <Override PartName="/ppt/media/image22.wmf" ContentType="image/x-wmf"/>
  <Override PartName="/ppt/media/image7.jpeg" ContentType="image/jpeg"/>
  <Override PartName="/ppt/media/image15.gif" ContentType="image/gif"/>
  <Override PartName="/ppt/media/image11.gif" ContentType="image/gif"/>
  <Override PartName="/ppt/media/image6.gif" ContentType="image/gif"/>
  <Override PartName="/ppt/media/image17.wmf" ContentType="image/x-wmf"/>
  <Override PartName="/ppt/media/image21.gif" ContentType="image/gif"/>
  <Override PartName="/ppt/media/image19.wmf" ContentType="image/x-wmf"/>
  <Override PartName="/ppt/media/image2.png" ContentType="image/png"/>
  <Override PartName="/ppt/media/image3.wmf" ContentType="image/x-wmf"/>
  <Override PartName="/ppt/media/image8.jpeg" ContentType="image/jpeg"/>
  <Override PartName="/ppt/media/image20.wmf" ContentType="image/x-wmf"/>
  <Override PartName="/ppt/media/image18.wmf" ContentType="image/x-wmf"/>
  <Override PartName="/ppt/media/image14.gif" ContentType="image/gif"/>
  <Override PartName="/ppt/media/image1.jpeg" ContentType="image/jpeg"/>
  <Override PartName="/ppt/media/image4.wmf" ContentType="image/x-wmf"/>
  <Override PartName="/ppt/media/image16.wmf" ContentType="image/x-wmf"/>
  <Override PartName="/ppt/media/image5.gif" ContentType="image/gif"/>
  <Override PartName="/ppt/media/image10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648450" cy="9805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62B-86C1-49AD-AF8A-6EF18878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527-2A63-487B-B220-7C09D9DE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4C25D-BDEA-4119-83BA-C944A99F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FE740-6305-4B59-A182-00FF6871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63D48-8A9E-454F-BF61-E843B23F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984AF-53B2-4288-A71C-41FEC6BE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8CD866-EC32-4461-B8EF-B299C888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4E57E-EB9C-43C6-93C7-D3EDC36D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77193D-B7DB-4220-8EE6-86F7B6AF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B3CAB3-B0C1-4718-BAFB-572A24DA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C8134-05B9-4FD9-8B59-F8E10B36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A7C-A43D-4BF4-BB64-E1646219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2EC-C924-40CA-8E39-3787545A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6AF7-E9D3-4135-9BAA-51014247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AEE6-5C4F-4CC9-9ABB-1839A578F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B5BED-3316-443B-9BCA-40EA7E1C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CC8C7-2724-4951-8BCF-DE36B61A7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6052-A3FB-4EFF-9240-AB41CDC42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7C37-307D-498C-9001-78961B8A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ADC2-71F3-444A-9454-87AAF59B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42C-30C5-47BE-BCCF-76BA28FB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8E55-79F3-4870-BC75-EA7B31D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0331-4A55-43D4-A977-1EF72983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83EDE-7DB9-42E2-8776-E24BC588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1182-DB64-4D9B-B7AA-8B0D7660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B691-A2C6-49C2-8794-C6F706FB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FFBF-0E18-4FDF-8676-9347DFFC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424E3-784F-4D1C-8519-F42ED234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0343F-E959-494C-B65F-D4BA35481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9622-4FE7-4B7D-AA6A-31336422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F8F6-7249-4E62-B7A7-517F6764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BDD7-CA9A-4A37-9CAB-39ACC33A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E795D-FE43-4A5D-83B2-59A158EF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2B3BC-1B27-4E65-80CC-3F3DAF2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77747-1224-4F70-B1B8-BCA96AD8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DAFB7-6E3C-4F8A-98BB-66B30827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E9F03-98D8-442E-A7A6-C9117D60D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92E37-CF27-41BF-AF8B-7221187F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1ACA3-47E6-4C0B-901D-3D13A27D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51070-AE2C-4FCE-82C8-0E2E65E65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08F03-2285-48E3-9273-259A2FE8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79EAD-4823-49B6-A548-87D95A95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23B-C49A-4AFF-93CA-5E87A932B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823AB-B038-4780-8770-4A7D01471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81EA7-76E0-438E-B12D-F167A256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5DEA-134A-42C9-A305-41B3C5DC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FC12-4E87-4041-B66E-6F4407CB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0609-D8C6-4FDE-BDE9-BD8D7C8D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50A9B-EB0C-45B5-B20B-B56BF51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BC49F-8335-4912-A20E-B9E8048B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13057-89FB-4001-9122-E3D8BD9A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A73ED-DAE8-4F20-8A36-E85D0B53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D29F1-382E-45A5-88D4-4FB741433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182D-7477-4204-9AB5-7DBC156C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465B9-C9CD-40F9-97E9-811F8FBF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08DAE-73D6-462B-89A4-5E710EB85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4A905-4546-4631-BCD0-D7B9E61E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392A3-A7C8-495E-809B-FDA343C26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194F6-6137-438B-B390-A8B9BB33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474EB-6D1E-41E2-AADE-E3FFD4BD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36390-9F00-422E-AE0B-0D6E45973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0A75C-0EDD-4633-81A8-41694387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BDFCF7-84BC-4BFA-ADF7-1AECB691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E30EB-EDF8-497A-95F4-305FDECB6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CF43-88DB-41DF-8F32-E9683037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BAC04-979E-463A-99A5-9FC1A1E71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57D57-B4DF-4243-9EED-A0A4EEB5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F5F9E-CF76-4733-9B62-27367A52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4C373-E220-4FD2-9B86-D059558D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2A81D-849F-43A3-B0A0-DC27FFBC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243D0-B5BA-4358-9970-81634100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63B43-F736-4C2A-88CB-E5837EEA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F851E-8440-44E5-82D8-9E715A4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34CFF-23FA-4BD4-9DD2-1824A681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A97B7-8825-4046-B3C8-289A032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B4D-69E3-4EF9-9F62-9CDD4B2D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0D05-A184-497F-9350-5D3448CD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E6572-DA3A-4D2D-82DA-FF721423F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20815-8295-4AF9-9DA0-CB590D07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668077-8861-4546-9E41-B6229249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59260-B57D-4A2C-A276-49835445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61111-A377-46C6-A673-64161088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1C61AA-E924-4EAB-9B02-7EB2E95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E63A71-53C0-4F2C-A24C-AF49BB29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8C018-0824-43BC-81E9-DC3E8285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BCFCA-5206-4E15-85B9-196AF303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F43-1BC1-427A-8F31-1212C9FC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2FF975-2717-4A05-998A-C8F6F9F2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31FA9-86FF-4977-99B0-A5CEAC3A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C2EBB1-5741-4882-858F-5C6927B1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B6AE5-B49B-48B9-BAE6-F131AA96E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0135B1-36C4-4EB4-8663-B68A195CC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EB25F-43C5-4E1F-89C8-52250881E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16DC77-5057-43D1-94D1-9499243E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5F289-4109-485C-A893-B24ABB91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48E89-33E8-454F-AAE8-C95F507E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E984DC-C738-4C1F-88B5-EC0A6B0D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D33B-71B9-40BD-BE9F-CABF150F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A5A06-2D7E-47CA-80F4-00C6AF62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DFA2B-EC06-4C52-A1D0-DF602B06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2C0D9-641C-4993-935A-14C413C3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32449-153F-4082-BB12-54AFFBB6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AE8051-402C-4557-9A48-7C38B303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B7322-20E3-4EEA-8902-80BC65F43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BE186-A948-4CA8-995D-251C860D3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2791A-6ABB-4D09-BA4D-3BD914D2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8AEA8-418B-446F-A51C-85BBC38B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254AE-5CFD-4455-9C59-649CD282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45AA6-56A6-45FE-99D6-C058504E9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FB30-27D2-412C-9765-97D7205B99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>
                  <a:gd name="textAreaLeft" fmla="*/ 0 w 1581120"/>
                  <a:gd name="textAreaRight" fmla="*/ 1581480 w 1581120"/>
                  <a:gd name="textAreaTop" fmla="*/ 0 h 846000"/>
                  <a:gd name="textAreaBottom" fmla="*/ 846360 h 84600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>
                  <a:gd name="textAreaLeft" fmla="*/ 0 w 246240"/>
                  <a:gd name="textAreaRight" fmla="*/ 246240 w 24624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>
                  <a:gd name="textAreaLeft" fmla="*/ 0 w 66600"/>
                  <a:gd name="textAreaRight" fmla="*/ 66960 w 6660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E62D-A381-469E-BA81-B19F1BD4E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3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4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55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7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86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4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1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2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4112-73E4-4795-9248-5000FF5D9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58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1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62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5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287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2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2855-CCCA-4781-AC27-7625E938B02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33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2109-8D0E-479B-A0A1-A01CB85C83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8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8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9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9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E62F-F9D8-4DDD-8359-C03CDC7B4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46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8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60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79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6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97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4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505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D20A-DD84-4C15-9CF4-DC05257BB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551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555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8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9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580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5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5236-F299-4188-A3A8-5D07197B2EB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4"/>
          <p:cNvSpPr txBox="1"/>
          <p:nvPr/>
        </p:nvSpPr>
        <p:spPr>
          <a:xfrm>
            <a:off x="468360" y="76500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       </a:t>
            </a: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емля - планета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лнечной  системы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29" name="Picture 6" descr="J0229659"/>
          <p:cNvPicPr/>
          <p:nvPr/>
        </p:nvPicPr>
        <p:blipFill>
          <a:blip r:embed="rId1"/>
          <a:stretch/>
        </p:blipFill>
        <p:spPr>
          <a:xfrm>
            <a:off x="5651640" y="4076640"/>
            <a:ext cx="3095640" cy="2006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7" descr="j0290360"/>
          <p:cNvPicPr/>
          <p:nvPr/>
        </p:nvPicPr>
        <p:blipFill>
          <a:blip r:embed="rId2"/>
          <a:stretch/>
        </p:blipFill>
        <p:spPr>
          <a:xfrm>
            <a:off x="826920" y="3786120"/>
            <a:ext cx="24829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62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 Кто первым убедился в том, что Земля имеет форму шар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гда это случилос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Какая модель помогает нам увидеть уменьшенное изображение Земл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Чего больше на Земле – воды или суши? Как это можно определить по глобусу и карте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Picture 4" descr="j0232110"/>
          <p:cNvPicPr/>
          <p:nvPr/>
        </p:nvPicPr>
        <p:blipFill>
          <a:blip r:embed="rId1"/>
          <a:stretch/>
        </p:blipFill>
        <p:spPr>
          <a:xfrm>
            <a:off x="5940360" y="2492280"/>
            <a:ext cx="25686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e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826920" y="981000"/>
            <a:ext cx="7345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у выполнила ученица 3 класса, член кружка «Юный программист» Валеева Юл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ководитель: Валеева Гульнара Ильгизовна, учительница начальных классов Чувашско – Бродской средней школы Алькеевского района Р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а: Земля – планета Солнечной сист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Формировать у учащихся представления о Солнечной систем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вать навыки работы на компьютер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ать самостоятельность в учебном процессе, любознательн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0d48"/>
                </a:solidFill>
                <a:latin typeface="Arial"/>
              </a:rPr>
              <a:t>Земля у нас одна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ша Земля – единственная плане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которой существует жиз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ля очень активна, вулканы и землетрясения постоянно меняют    её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3" name="Picture 9" descr="j0282861"/>
          <p:cNvPicPr/>
          <p:nvPr/>
        </p:nvPicPr>
        <p:blipFill>
          <a:blip r:embed="rId1"/>
          <a:stretch/>
        </p:blipFill>
        <p:spPr>
          <a:xfrm>
            <a:off x="6443640" y="4610160"/>
            <a:ext cx="2160720" cy="169524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12" descr="j0174012"/>
          <p:cNvPicPr/>
          <p:nvPr/>
        </p:nvPicPr>
        <p:blipFill>
          <a:blip r:embed="rId2"/>
          <a:stretch/>
        </p:blipFill>
        <p:spPr>
          <a:xfrm>
            <a:off x="5076720" y="1341360"/>
            <a:ext cx="32385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6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100720" y="-2324160"/>
            <a:ext cx="585720" cy="74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77756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вым в мире человеком, увидевшим нашу Землю из космоса был космонавт Юрий Гагарин. Весь мир убедился в том, что Земля имеет форму шара. Это произошло  12 апреля 1961 года. Наша страна первой покорила космос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7" name="Picture 4" descr="j0178715"/>
          <p:cNvPicPr/>
          <p:nvPr/>
        </p:nvPicPr>
        <p:blipFill>
          <a:blip r:embed="rId1"/>
          <a:stretch/>
        </p:blipFill>
        <p:spPr>
          <a:xfrm>
            <a:off x="250920" y="2349360"/>
            <a:ext cx="3600360" cy="4508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4" descr="сканирование"/>
          <p:cNvPicPr/>
          <p:nvPr/>
        </p:nvPicPr>
        <p:blipFill>
          <a:blip r:embed="rId2"/>
          <a:stretch/>
        </p:blipFill>
        <p:spPr>
          <a:xfrm>
            <a:off x="4859280" y="2781360"/>
            <a:ext cx="33847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15"/>
          <p:cNvSpPr/>
          <p:nvPr/>
        </p:nvSpPr>
        <p:spPr>
          <a:xfrm>
            <a:off x="4356000" y="26028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круг Земли вращается 1 спутник – Лу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месте с Луной Земля движется вокруг Солнц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ак же как и все остальные планеты Солнечн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стем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Picture 17" descr="j0219080"/>
          <p:cNvPicPr/>
          <p:nvPr/>
        </p:nvPicPr>
        <p:blipFill>
          <a:blip r:embed="rId1"/>
          <a:stretch/>
        </p:blipFill>
        <p:spPr>
          <a:xfrm>
            <a:off x="1763640" y="907920"/>
            <a:ext cx="676440" cy="68580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19" descr="56"/>
          <p:cNvPicPr/>
          <p:nvPr/>
        </p:nvPicPr>
        <p:blipFill>
          <a:blip r:embed="rId2"/>
          <a:stretch/>
        </p:blipFill>
        <p:spPr>
          <a:xfrm>
            <a:off x="1332000" y="2637000"/>
            <a:ext cx="3062160" cy="30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37 0.03398 C 0.28299 0.03398 0.42118 0.21711 0.42118 0.44231 C 0.42118 0.66728 0.28299 0.85063 0.11337 0.85063 C -0.05642 0.85063 -0.19444 0.66728 -0.19444 0.44231 C -0.19444 0.21711 -0.05642 0.03398 0.11337 0.03398 Z">
                                      <p:cBhvr>
                                        <p:cTn id="77" dur="5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емля имеет форму шара. Она вращается вокруг Солнца и одновременно вокру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воей оси, поэт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уществует смена дня и но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Picture 28" descr="j0174012"/>
          <p:cNvPicPr/>
          <p:nvPr/>
        </p:nvPicPr>
        <p:blipFill>
          <a:blip r:embed="rId1"/>
          <a:stretch/>
        </p:blipFill>
        <p:spPr>
          <a:xfrm>
            <a:off x="5076720" y="177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2" descr="j0219082"/>
          <p:cNvPicPr/>
          <p:nvPr/>
        </p:nvPicPr>
        <p:blipFill>
          <a:blip r:embed="rId2"/>
          <a:stretch/>
        </p:blipFill>
        <p:spPr>
          <a:xfrm>
            <a:off x="4500720" y="2997360"/>
            <a:ext cx="2555640" cy="2592360"/>
          </a:xfrm>
          <a:prstGeom prst="rect">
            <a:avLst/>
          </a:prstGeom>
          <a:ln w="0">
            <a:noFill/>
          </a:ln>
        </p:spPr>
      </p:pic>
      <p:sp>
        <p:nvSpPr>
          <p:cNvPr id="646" name="AutoShape 23"/>
          <p:cNvSpPr/>
          <p:nvPr/>
        </p:nvSpPr>
        <p:spPr>
          <a:xfrm>
            <a:off x="7524720" y="907920"/>
            <a:ext cx="432000" cy="433440"/>
          </a:xfrm>
          <a:custGeom>
            <a:avLst/>
            <a:gdLst>
              <a:gd name="textAreaLeft" fmla="*/ 133560 w 432000"/>
              <a:gd name="textAreaRight" fmla="*/ 298440 w 432000"/>
              <a:gd name="textAreaTop" fmla="*/ 165600 h 433440"/>
              <a:gd name="textAreaBottom" fmla="*/ 331200 h 433440"/>
            </a:gdLst>
            <a:ahLst/>
            <a:rect l="textAreaLeft" t="textAreaTop" r="textAreaRight" b="textAreaBottom"/>
            <a:pathLst>
              <a:path w="431800" h="433388">
                <a:moveTo>
                  <a:pt x="0" y="165539"/>
                </a:moveTo>
                <a:lnTo>
                  <a:pt x="164934" y="165540"/>
                </a:lnTo>
                <a:lnTo>
                  <a:pt x="215900" y="0"/>
                </a:lnTo>
                <a:lnTo>
                  <a:pt x="266866" y="165540"/>
                </a:lnTo>
                <a:lnTo>
                  <a:pt x="431800" y="165539"/>
                </a:lnTo>
                <a:lnTo>
                  <a:pt x="298365" y="267847"/>
                </a:lnTo>
                <a:lnTo>
                  <a:pt x="349334" y="433387"/>
                </a:lnTo>
                <a:lnTo>
                  <a:pt x="215900" y="331077"/>
                </a:lnTo>
                <a:lnTo>
                  <a:pt x="82466" y="433387"/>
                </a:lnTo>
                <a:lnTo>
                  <a:pt x="133435" y="267847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AutoShape 24"/>
          <p:cNvSpPr/>
          <p:nvPr/>
        </p:nvSpPr>
        <p:spPr>
          <a:xfrm>
            <a:off x="4211640" y="4941720"/>
            <a:ext cx="431640" cy="360360"/>
          </a:xfrm>
          <a:custGeom>
            <a:avLst/>
            <a:gdLst>
              <a:gd name="textAreaLeft" fmla="*/ 177840 w 431640"/>
              <a:gd name="textAreaRight" fmla="*/ 253800 w 43164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AutoShape 25"/>
          <p:cNvSpPr/>
          <p:nvPr/>
        </p:nvSpPr>
        <p:spPr>
          <a:xfrm>
            <a:off x="7956720" y="5445000"/>
            <a:ext cx="502920" cy="648000"/>
          </a:xfrm>
          <a:custGeom>
            <a:avLst/>
            <a:gdLst>
              <a:gd name="textAreaLeft" fmla="*/ 155520 w 502920"/>
              <a:gd name="textAreaRight" fmla="*/ 347400 w 502920"/>
              <a:gd name="textAreaTop" fmla="*/ 247320 h 648000"/>
              <a:gd name="textAreaBottom" fmla="*/ 495000 h 648000"/>
            </a:gdLst>
            <a:ahLst/>
            <a:rect l="textAreaLeft" t="textAreaTop" r="textAreaRight" b="textAreaBottom"/>
            <a:pathLst>
              <a:path w="503238" h="647700">
                <a:moveTo>
                  <a:pt x="1" y="247399"/>
                </a:moveTo>
                <a:lnTo>
                  <a:pt x="192221" y="247400"/>
                </a:lnTo>
                <a:lnTo>
                  <a:pt x="251619" y="0"/>
                </a:lnTo>
                <a:lnTo>
                  <a:pt x="311017" y="247400"/>
                </a:lnTo>
                <a:lnTo>
                  <a:pt x="503237" y="247399"/>
                </a:lnTo>
                <a:lnTo>
                  <a:pt x="347727" y="400299"/>
                </a:lnTo>
                <a:lnTo>
                  <a:pt x="407128" y="647698"/>
                </a:lnTo>
                <a:lnTo>
                  <a:pt x="251619" y="494795"/>
                </a:lnTo>
                <a:lnTo>
                  <a:pt x="96110" y="647698"/>
                </a:lnTo>
                <a:lnTo>
                  <a:pt x="155511" y="400299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AutoShape 26"/>
          <p:cNvSpPr/>
          <p:nvPr/>
        </p:nvSpPr>
        <p:spPr>
          <a:xfrm>
            <a:off x="2700360" y="476280"/>
            <a:ext cx="431640" cy="288720"/>
          </a:xfrm>
          <a:custGeom>
            <a:avLst/>
            <a:gdLst>
              <a:gd name="textAreaLeft" fmla="*/ 133200 w 431640"/>
              <a:gd name="textAreaRight" fmla="*/ 298440 w 431640"/>
              <a:gd name="textAreaTop" fmla="*/ 110160 h 288720"/>
              <a:gd name="textAreaBottom" fmla="*/ 220680 h 288720"/>
            </a:gdLst>
            <a:ahLst/>
            <a:rect l="textAreaLeft" t="textAreaTop" r="textAreaRight" b="textAreaBottom"/>
            <a:pathLst>
              <a:path w="431800" h="288925">
                <a:moveTo>
                  <a:pt x="0" y="110359"/>
                </a:moveTo>
                <a:lnTo>
                  <a:pt x="164934" y="110360"/>
                </a:lnTo>
                <a:lnTo>
                  <a:pt x="215900" y="0"/>
                </a:lnTo>
                <a:lnTo>
                  <a:pt x="266866" y="110360"/>
                </a:lnTo>
                <a:lnTo>
                  <a:pt x="431800" y="110359"/>
                </a:lnTo>
                <a:lnTo>
                  <a:pt x="298365" y="178565"/>
                </a:lnTo>
                <a:lnTo>
                  <a:pt x="349334" y="288924"/>
                </a:lnTo>
                <a:lnTo>
                  <a:pt x="215900" y="220718"/>
                </a:lnTo>
                <a:lnTo>
                  <a:pt x="82466" y="288924"/>
                </a:lnTo>
                <a:lnTo>
                  <a:pt x="133435" y="178565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8 -1.44509E-006 C 0.19357 -1.44509E-006 0.31788 0.15422 0.31788 0.34405 C 0.31788 0.53364 0.19357 0.68809 0.0408 0.68809 C -0.11215 0.68809 -0.23629 0.53364 -0.23629 0.34405 C -0.23629 0.15422 -0.11215 -1.44509E-006 0.0408 -1.44509E-006 Z">
                                      <p:cBhvr>
                                        <p:cTn id="108" dur="5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емля имеет огромные запасы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тмосфера защищает её от метеоритов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лнечного излучения, что и определя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ществование жизни на Земл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1" name="Picture 3" descr="j0219085"/>
          <p:cNvPicPr/>
          <p:nvPr/>
        </p:nvPicPr>
        <p:blipFill>
          <a:blip r:embed="rId1"/>
          <a:stretch/>
        </p:blipFill>
        <p:spPr>
          <a:xfrm>
            <a:off x="5796000" y="765000"/>
            <a:ext cx="1284120" cy="1301760"/>
          </a:xfrm>
          <a:prstGeom prst="rect">
            <a:avLst/>
          </a:prstGeom>
          <a:ln w="0">
            <a:noFill/>
          </a:ln>
        </p:spPr>
      </p:pic>
      <p:sp>
        <p:nvSpPr>
          <p:cNvPr id="652" name="AutoShape 4"/>
          <p:cNvSpPr/>
          <p:nvPr/>
        </p:nvSpPr>
        <p:spPr>
          <a:xfrm>
            <a:off x="8101080" y="981000"/>
            <a:ext cx="574560" cy="576360"/>
          </a:xfrm>
          <a:custGeom>
            <a:avLst/>
            <a:gdLst>
              <a:gd name="textAreaLeft" fmla="*/ 177480 w 574560"/>
              <a:gd name="textAreaRight" fmla="*/ 397080 w 574560"/>
              <a:gd name="textAreaTop" fmla="*/ 219960 h 576360"/>
              <a:gd name="textAreaBottom" fmla="*/ 440280 h 576360"/>
            </a:gdLst>
            <a:ahLst/>
            <a:rect l="textAreaLeft" t="textAreaTop" r="textAreaRight" b="textAreaBottom"/>
            <a:pathLst>
              <a:path w="574675" h="576263">
                <a:moveTo>
                  <a:pt x="1" y="220112"/>
                </a:moveTo>
                <a:lnTo>
                  <a:pt x="219508" y="220114"/>
                </a:lnTo>
                <a:lnTo>
                  <a:pt x="287338" y="0"/>
                </a:lnTo>
                <a:lnTo>
                  <a:pt x="355167" y="220114"/>
                </a:lnTo>
                <a:lnTo>
                  <a:pt x="574674" y="220112"/>
                </a:lnTo>
                <a:lnTo>
                  <a:pt x="397089" y="356148"/>
                </a:lnTo>
                <a:lnTo>
                  <a:pt x="464922" y="576261"/>
                </a:lnTo>
                <a:lnTo>
                  <a:pt x="287338" y="440223"/>
                </a:lnTo>
                <a:lnTo>
                  <a:pt x="109753" y="576261"/>
                </a:lnTo>
                <a:lnTo>
                  <a:pt x="177586" y="356148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AutoShape 5"/>
          <p:cNvSpPr/>
          <p:nvPr/>
        </p:nvSpPr>
        <p:spPr>
          <a:xfrm>
            <a:off x="3492360" y="404640"/>
            <a:ext cx="719280" cy="360360"/>
          </a:xfrm>
          <a:custGeom>
            <a:avLst/>
            <a:gdLst>
              <a:gd name="textAreaLeft" fmla="*/ 296280 w 719280"/>
              <a:gd name="textAreaRight" fmla="*/ 423000 w 719280"/>
              <a:gd name="textAreaTop" fmla="*/ 148320 h 360360"/>
              <a:gd name="textAreaBottom" fmla="*/ 21204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AutoShape 6"/>
          <p:cNvSpPr/>
          <p:nvPr/>
        </p:nvSpPr>
        <p:spPr>
          <a:xfrm>
            <a:off x="468360" y="549360"/>
            <a:ext cx="718920" cy="431640"/>
          </a:xfrm>
          <a:custGeom>
            <a:avLst/>
            <a:gdLst>
              <a:gd name="textAreaLeft" fmla="*/ 222120 w 718920"/>
              <a:gd name="textAreaRight" fmla="*/ 496800 w 718920"/>
              <a:gd name="textAreaTop" fmla="*/ 164880 h 431640"/>
              <a:gd name="textAreaBottom" fmla="*/ 329760 h 431640"/>
            </a:gdLst>
            <a:ahLst/>
            <a:rect l="textAreaLeft" t="textAreaTop" r="textAreaRight" b="textAreaBottom"/>
            <a:pathLst>
              <a:path w="719137" h="431800">
                <a:moveTo>
                  <a:pt x="1" y="164932"/>
                </a:moveTo>
                <a:lnTo>
                  <a:pt x="274687" y="164934"/>
                </a:lnTo>
                <a:lnTo>
                  <a:pt x="359569" y="0"/>
                </a:lnTo>
                <a:lnTo>
                  <a:pt x="444450" y="164934"/>
                </a:lnTo>
                <a:lnTo>
                  <a:pt x="719136" y="164932"/>
                </a:lnTo>
                <a:lnTo>
                  <a:pt x="496909" y="266866"/>
                </a:lnTo>
                <a:lnTo>
                  <a:pt x="581794" y="431799"/>
                </a:lnTo>
                <a:lnTo>
                  <a:pt x="359569" y="329864"/>
                </a:lnTo>
                <a:lnTo>
                  <a:pt x="137343" y="431799"/>
                </a:lnTo>
                <a:lnTo>
                  <a:pt x="222228" y="266866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5" name="Picture 7" descr="j0282866"/>
          <p:cNvPicPr/>
          <p:nvPr/>
        </p:nvPicPr>
        <p:blipFill>
          <a:blip r:embed="rId2"/>
          <a:stretch/>
        </p:blipFill>
        <p:spPr>
          <a:xfrm>
            <a:off x="4500720" y="5129280"/>
            <a:ext cx="2808000" cy="17287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8" descr="j0282868"/>
          <p:cNvPicPr/>
          <p:nvPr/>
        </p:nvPicPr>
        <p:blipFill>
          <a:blip r:embed="rId3"/>
          <a:stretch/>
        </p:blipFill>
        <p:spPr>
          <a:xfrm>
            <a:off x="7270920" y="4653000"/>
            <a:ext cx="1873080" cy="22050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9" descr="j0303326"/>
          <p:cNvPicPr/>
          <p:nvPr/>
        </p:nvPicPr>
        <p:blipFill>
          <a:blip r:embed="rId4"/>
          <a:stretch/>
        </p:blipFill>
        <p:spPr>
          <a:xfrm>
            <a:off x="6012000" y="2852640"/>
            <a:ext cx="1461960" cy="12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Земная ось наклонена к плоскости орбиты Земли под углом и направлена всегда в одну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точку – Полярную звезд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клонное положение оси Земли сохраняется в течение всего года, поэтому солнце освещает поверхность Земли по разному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9" name="Picture 12" descr="J0215547"/>
          <p:cNvPicPr/>
          <p:nvPr/>
        </p:nvPicPr>
        <p:blipFill>
          <a:blip r:embed="rId1"/>
          <a:stretch/>
        </p:blipFill>
        <p:spPr>
          <a:xfrm>
            <a:off x="5796000" y="2565360"/>
            <a:ext cx="2808360" cy="3397320"/>
          </a:xfrm>
          <a:prstGeom prst="rect">
            <a:avLst/>
          </a:prstGeom>
          <a:ln w="0">
            <a:noFill/>
          </a:ln>
        </p:spPr>
      </p:pic>
      <p:sp>
        <p:nvSpPr>
          <p:cNvPr id="660" name="AutoShape 15"/>
          <p:cNvSpPr/>
          <p:nvPr/>
        </p:nvSpPr>
        <p:spPr>
          <a:xfrm>
            <a:off x="5508720" y="1268280"/>
            <a:ext cx="503280" cy="287640"/>
          </a:xfrm>
          <a:custGeom>
            <a:avLst/>
            <a:gdLst>
              <a:gd name="textAreaLeft" fmla="*/ 155520 w 503280"/>
              <a:gd name="textAreaRight" fmla="*/ 347760 w 503280"/>
              <a:gd name="textAreaTop" fmla="*/ 109800 h 287640"/>
              <a:gd name="textAreaBottom" fmla="*/ 219960 h 287640"/>
            </a:gdLst>
            <a:ahLst/>
            <a:rect l="textAreaLeft" t="textAreaTop" r="textAreaRight" b="textAreaBottom"/>
            <a:pathLst>
              <a:path w="503238" h="287337">
                <a:moveTo>
                  <a:pt x="1" y="109753"/>
                </a:moveTo>
                <a:lnTo>
                  <a:pt x="192221" y="109753"/>
                </a:lnTo>
                <a:lnTo>
                  <a:pt x="251619" y="0"/>
                </a:lnTo>
                <a:lnTo>
                  <a:pt x="311017" y="109753"/>
                </a:lnTo>
                <a:lnTo>
                  <a:pt x="503237" y="109753"/>
                </a:lnTo>
                <a:lnTo>
                  <a:pt x="347727" y="177583"/>
                </a:lnTo>
                <a:lnTo>
                  <a:pt x="407128" y="287336"/>
                </a:lnTo>
                <a:lnTo>
                  <a:pt x="251619" y="219504"/>
                </a:lnTo>
                <a:lnTo>
                  <a:pt x="96110" y="287336"/>
                </a:lnTo>
                <a:lnTo>
                  <a:pt x="155511" y="177583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" dur="2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a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бы было возможно совершить путешеств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округ Земли пешком, делая по 25 км. в сутки,  н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требовалось бы 1600 суток или 4 года и 140 сут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2" name="Picture 4" descr="J0215306"/>
          <p:cNvPicPr/>
          <p:nvPr/>
        </p:nvPicPr>
        <p:blipFill>
          <a:blip r:embed="rId1"/>
          <a:stretch/>
        </p:blipFill>
        <p:spPr>
          <a:xfrm>
            <a:off x="1079640" y="4317840"/>
            <a:ext cx="1584360" cy="17989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J0215303"/>
          <p:cNvPicPr/>
          <p:nvPr/>
        </p:nvPicPr>
        <p:blipFill>
          <a:blip r:embed="rId2"/>
          <a:stretch/>
        </p:blipFill>
        <p:spPr>
          <a:xfrm>
            <a:off x="3708360" y="4433760"/>
            <a:ext cx="1905120" cy="168300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0" descr="J0215291"/>
          <p:cNvPicPr/>
          <p:nvPr/>
        </p:nvPicPr>
        <p:blipFill>
          <a:blip r:embed="rId3"/>
          <a:stretch/>
        </p:blipFill>
        <p:spPr>
          <a:xfrm>
            <a:off x="6732720" y="4149720"/>
            <a:ext cx="1180800" cy="1871640"/>
          </a:xfrm>
          <a:prstGeom prst="rect">
            <a:avLst/>
          </a:prstGeom>
          <a:ln w="0">
            <a:noFill/>
          </a:ln>
        </p:spPr>
      </p:pic>
      <p:sp>
        <p:nvSpPr>
          <p:cNvPr id="665" name="AutoShape 11"/>
          <p:cNvSpPr/>
          <p:nvPr/>
        </p:nvSpPr>
        <p:spPr>
          <a:xfrm>
            <a:off x="6084720" y="476280"/>
            <a:ext cx="2590920" cy="2232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8" dur="500"/>
                                        <p:tgtEl>
                                          <p:spTgt spid="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4" dur="500"/>
                                        <p:tgtEl>
                                          <p:spTgt spid="6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" dur="20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2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" dur="2000" fill="hold"/>
                                        <p:tgtEl>
                                          <p:spTgt spid="6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0" dur="2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411280" y="-4283640"/>
            <a:ext cx="144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3848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 самолёте можно облететь Землю за 40 ча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епрерывного полёта (почти двое суток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если самолёт летит со скоростью 1000 км. в ча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8" name="Picture 4" descr="J0280308"/>
          <p:cNvPicPr/>
          <p:nvPr/>
        </p:nvPicPr>
        <p:blipFill>
          <a:blip r:embed="rId1"/>
          <a:stretch/>
        </p:blipFill>
        <p:spPr>
          <a:xfrm>
            <a:off x="4284720" y="1268280"/>
            <a:ext cx="2303280" cy="15908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7" descr="j0189252"/>
          <p:cNvPicPr/>
          <p:nvPr/>
        </p:nvPicPr>
        <p:blipFill>
          <a:blip r:embed="rId2"/>
          <a:stretch/>
        </p:blipFill>
        <p:spPr>
          <a:xfrm>
            <a:off x="2268360" y="333360"/>
            <a:ext cx="17290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5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3.7037E-006 C 0.01893 -0.00833 0.03976 -0.00069 0.05903 0.00324 C 0.07206 0.00903 0.08456 0.01366 0.09775 0.01829 C 0.10244 0.01991 0.11147 0.02431 0.11147 0.02431 C 0.11372 0.02639 0.11581 0.0287 0.11824 0.03032 C 0.12032 0.03171 0.12292 0.03171 0.12501 0.03333 C 0.12692 0.03495 0.12778 0.03773 0.12952 0.03958 C 0.13699 0.04745 0.14237 0.05278 0.14775 0.06366 C 0.15765 0.10417 0.16719 0.14468 0.17726 0.18495 C 0.179 0.1919 0.18334 0.19722 0.18647 0.20324 C 0.18803 0.20625 0.18942 0.20926 0.19098 0.21227 C 0.19237 0.21481 0.1915 0.21898 0.19324 0.2213 C 0.19497 0.22361 0.19775 0.22338 0.20001 0.22431 C 0.21268 0.24977 0.19584 0.21968 0.21147 0.23657 C 0.21355 0.23889 0.2139 0.24329 0.21598 0.2456 C 0.21789 0.24768 0.22067 0.24699 0.22275 0.24861 C 0.24028 0.26134 0.25313 0.27847 0.27275 0.28495 C 0.28386 0.29468 0.29844 0.29722 0.31147 0.3 C 0.33317 0.31042 0.34949 0.30625 0.37501 0.30625 E">
                                      <p:cBhvr>
                                        <p:cTn id="187" dur="2000" fill="hold"/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8:41:01Z</dcterms:created>
  <dc:creator>cnit10</dc:creator>
  <dc:description/>
  <dc:language>en-US</dc:language>
  <cp:lastModifiedBy>Fenix</cp:lastModifiedBy>
  <dcterms:modified xsi:type="dcterms:W3CDTF">2012-12-20T14:53:02Z</dcterms:modified>
  <cp:revision>32</cp:revision>
  <dc:subject/>
  <dc:title>Слайд 1</dc:title>
</cp:coreProperties>
</file>