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5AE-0C6D-4FF2-B4EB-0AF92FDB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76B-A934-4D00-B48C-E0FE03C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C95-7C6E-45A7-9FFB-1E8DEA8A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9AF-FA6E-4A43-84C8-3EA85E99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41E1-B9CD-486D-B41C-FDF9B0CB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017F-A9E9-4B2B-95E8-5EB1304B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6006-BF64-4150-A5F7-3C70D9D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E81-AD1D-4435-8664-2E56AD9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E39-26FE-4AB5-ACE1-01352F2F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F292-65B0-4D67-B605-213D3B3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54C4-5540-4708-A1CD-5DE7BEF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647-7571-44B1-A13A-2E39108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16BD-88FA-4369-B215-97D8B05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5F6-E99B-4E82-9554-47D3437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9B4-1938-48CC-AB9B-1BE7BD3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BC4C-B695-4E69-A4F6-2E58058A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D01F-3CF6-4DE3-8DF8-F32D8E81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910-F896-4AE3-84CE-AA01691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DFA-FD51-46BD-864B-F9C6479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D48-9B2F-4F65-8FCF-65D5E2F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1AA-923C-4491-BF1C-0214887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3B1-0E32-428E-ACF8-7407865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B50-A7FA-4EFE-93BA-DE56702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11F-935D-454A-89BB-F940F06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EB3-4FE7-44E8-82DC-C4DAAE444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38E6-A6E0-49CA-86B1-BECAE210FB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MGP16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oa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Petroleum_cm05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228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лезные ископаемы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56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 вокруг нас 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лана Евгеньевна Мартус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МОУСОШ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Горючее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пуч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е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гч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жидкость.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азообраз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яжелее воды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елого цв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ерного цвета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4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пособно плав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того цвета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ластич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упкое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лохо пропускает 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 запах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17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ричневого или белого цве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9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Хорошо пропускает в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ариа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нный уголь: 1,4,5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сок: 2,4,6,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 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фть: 1,3,8,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ина: 4, 15,16,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ископаем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и людей, добывающих полезные ископае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ежно относится к приро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но использовать богатства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рани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рнистый, твердый и про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 фундаментов зданий, набережных, дорог, памятников; отделка станций ме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Использование известняка в строительств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149720"/>
            <a:ext cx="3514680" cy="2519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звестня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го, серого или желтого цвета; если капнуть капельку кислоты – шипит(выделяет га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, мел, мрам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и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мелка смесь частиц бурого, желтого, белого и других цв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Уго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6960" y="3924360"/>
            <a:ext cx="2867040" cy="2933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аменный угол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ного цвета, твердый, но хрупкий, горю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опление жилых помещений, кокс-краски, лекарства, пластмассы,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Неф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дкость темного цвета, с запахом бензина, горю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еросин, бензин, смазочные масла, вазелин, лекарства, мыло, тенический спир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Неф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714320" cy="2095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Нефтяные вышки в Лос-Анджелесе (1896)"/>
          <p:cNvPicPr/>
          <p:nvPr/>
        </p:nvPicPr>
        <p:blipFill>
          <a:blip r:embed="rId3"/>
          <a:stretch/>
        </p:blipFill>
        <p:spPr>
          <a:xfrm>
            <a:off x="5580000" y="5013360"/>
            <a:ext cx="2381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Железная ру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ного цвета, твердое, плотное вещество, притягивает металлические предм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ы, железнодорожные рельсы, вагоны, нож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есо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свойств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виде крупинок, сыпу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спользовани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оги, стек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Дюны в Марокко"/>
          <p:cNvPicPr/>
          <p:nvPr/>
        </p:nvPicPr>
        <p:blipFill>
          <a:blip r:embed="rId1"/>
          <a:stretch/>
        </p:blipFill>
        <p:spPr>
          <a:xfrm>
            <a:off x="5148360" y="3500280"/>
            <a:ext cx="31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37:01Z</dcterms:created>
  <dc:creator>USER</dc:creator>
  <dc:description/>
  <dc:language>en-US</dc:language>
  <cp:lastModifiedBy>Owner</cp:lastModifiedBy>
  <dcterms:modified xsi:type="dcterms:W3CDTF">2012-08-17T14:05:20Z</dcterms:modified>
  <cp:revision>5</cp:revision>
  <dc:subject/>
  <dc:title>Полезные ископаемые</dc:title>
</cp:coreProperties>
</file>