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D4D3-24B3-4D93-B823-3DC907D5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DB48-C221-4927-ABDB-2BC6824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AB95-BBF9-46EB-A7BF-0F7433F1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E0B1-07EE-4212-9490-D3D71E9D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28EC-ACB1-4741-83E7-0731E244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6F98-110E-493B-B45A-D9E6C4D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8BA4-FAD1-4909-86C8-4FBAFA99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EDD5-860B-4583-A331-622D56A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CF3A-6364-4268-873B-E951EEA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3EA7-C2E7-4145-BE95-D144A8D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FFF0-90E0-41A3-B885-5E10AFD6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2410-EC57-4EBD-A963-3E68D57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4576-1CB3-439A-9EEC-8A3C30ECF5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abc"/>
            </a:gs>
            <a:gs pos="50000">
              <a:srgbClr val="95c5db"/>
            </a:gs>
            <a:gs pos="100000">
              <a:srgbClr val="7a7ab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резентации по тем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Семь чудес свет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ителя начальных классов МОУ «Средняя общеобразовательная школа № 45» г.Калуги Романенковой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ая презентация составлена к урокам курса «Окружающий мир» по программе А.А. Плешакова 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ить знания детей по теме урока «Знаменитые места ми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ивать любовь к прекрасн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у презентацию можно использовать на уроке объяснения, а так же для внеклассной работы на классных ча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3"/>
            </a:gs>
            <a:gs pos="100000">
              <a:srgbClr val="6767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Александрийский ма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03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як был построен на скале на о. Фарос близ египетского побережья и поражал всех своими размерами… Это была трехэтажная башня, высотой около 120 метров.На куполе маяка стояла огромная бронзовая статуя бога морей Посейдона высотой 7 м. Маяк освещал путь в гавань и был креп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ayak2"/>
          <p:cNvPicPr/>
          <p:nvPr/>
        </p:nvPicPr>
        <p:blipFill>
          <a:blip r:embed="rId1"/>
          <a:stretch/>
        </p:blipFill>
        <p:spPr>
          <a:xfrm>
            <a:off x="4356000" y="1557360"/>
            <a:ext cx="4335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9f"/>
            </a:gs>
            <a:gs pos="50000">
              <a:srgbClr val="45a9a9"/>
            </a:gs>
            <a:gs pos="100000">
              <a:srgbClr val="7a71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92360" y="530064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bertus Extra Bold"/>
              </a:rPr>
              <a:t>Из этих произведений архитектуры и искусства, сохранилась только пирамида Хеоп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емь чудес света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Египетские пирамиды были построе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а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1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б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10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в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45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1296"/>
          <p:cNvPicPr/>
          <p:nvPr/>
        </p:nvPicPr>
        <p:blipFill>
          <a:blip r:embed="rId2"/>
          <a:stretch/>
        </p:blipFill>
        <p:spPr>
          <a:xfrm>
            <a:off x="179280" y="1989000"/>
            <a:ext cx="3059280" cy="237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76720" y="1628280"/>
            <a:ext cx="586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еркните в списке названия достопримечательности и страны, где она нах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татуя Свободы 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Америка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иднейская опера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ирамида Хеопса 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й достопримечательност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 стрелками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исячие сады Семирам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Храм Артем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Александрийский ма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sady1"/>
          <p:cNvPicPr/>
          <p:nvPr/>
        </p:nvPicPr>
        <p:blipFill>
          <a:blip r:embed="rId2"/>
          <a:stretch/>
        </p:blipFill>
        <p:spPr>
          <a:xfrm>
            <a:off x="5364000" y="5084640"/>
            <a:ext cx="316872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artemida"/>
          <p:cNvPicPr/>
          <p:nvPr/>
        </p:nvPicPr>
        <p:blipFill>
          <a:blip r:embed="rId3"/>
          <a:stretch/>
        </p:blipFill>
        <p:spPr>
          <a:xfrm>
            <a:off x="5364000" y="1844640"/>
            <a:ext cx="316872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ayak2"/>
          <p:cNvPicPr/>
          <p:nvPr/>
        </p:nvPicPr>
        <p:blipFill>
          <a:blip r:embed="rId4"/>
          <a:stretch/>
        </p:blipFill>
        <p:spPr>
          <a:xfrm>
            <a:off x="5364000" y="3429000"/>
            <a:ext cx="3168720" cy="1511280"/>
          </a:xfrm>
          <a:prstGeom prst="rect">
            <a:avLst/>
          </a:prstGeom>
          <a:ln w="0">
            <a:noFill/>
          </a:ln>
        </p:spPr>
      </p:pic>
      <p:sp>
        <p:nvSpPr>
          <p:cNvPr id="90" name="Line 12"/>
          <p:cNvSpPr/>
          <p:nvPr/>
        </p:nvSpPr>
        <p:spPr>
          <a:xfrm>
            <a:off x="3635280" y="2421000"/>
            <a:ext cx="1584360" cy="3313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 flipV="1">
            <a:off x="3924360" y="2708280"/>
            <a:ext cx="1295280" cy="1441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3995640" y="4075920"/>
            <a:ext cx="1224000" cy="1368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4b"/>
            </a:gs>
            <a:gs pos="100000">
              <a:srgbClr val="ff8b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 Мир вокруг нас. Учеб. для 3 кл. нач. шк. В 2 ч. Ч 2 / А.А. Плешаков. – М.: Просвещение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 Мир вокруг нас. Проверим себя: Тетрадь для учащихся 3 класса начальной школы. В 2 ч. Ч. 2. – М.: Вита-Пресс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 из серии «ЧТО ЕСТЬ ЧТО». «Семь чудес света». – М.: «Сл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.turismy.com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a3f3"/>
            </a:gs>
            <a:gs pos="100000">
              <a:srgbClr val="653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1557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Спасибо</a:t>
            </a: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за</a:t>
            </a: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5000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ru-RU" sz="8800" spc="-1" strike="noStrike">
                <a:solidFill>
                  <a:srgbClr val="cc0000"/>
                </a:solidFill>
                <a:latin typeface="Arial"/>
              </a:rPr>
              <a:t>СЕМЬ ЧУДЕС</a:t>
            </a:r>
            <a:br>
              <a:rPr sz="8800"/>
            </a:br>
            <a:r>
              <a:rPr b="1" lang="ru-RU" sz="8800" spc="-1" strike="noStrike">
                <a:solidFill>
                  <a:srgbClr val="cc0000"/>
                </a:solidFill>
                <a:latin typeface="Arial"/>
              </a:rPr>
              <a:t> СВЕТА</a:t>
            </a:r>
            <a:br>
              <a:rPr sz="8800"/>
            </a:br>
            <a:br>
              <a:rPr sz="88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Романенкова О.Е., учитель начальных классов </a:t>
            </a:r>
            <a:br>
              <a:rPr sz="24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МОУ « Средняя  общеобразовательная школа № 45»</a:t>
            </a:r>
            <a:br>
              <a:rPr sz="24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 г. Калуг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560" y="7605360"/>
            <a:ext cx="6502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b7"/>
            </a:gs>
            <a:gs pos="50000">
              <a:srgbClr val="ffa347"/>
            </a:gs>
            <a:gs pos="100000">
              <a:srgbClr val="6d6d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арта расположения семи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a"/>
          <p:cNvPicPr/>
          <p:nvPr/>
        </p:nvPicPr>
        <p:blipFill>
          <a:blip r:embed="rId1"/>
          <a:stretch/>
        </p:blipFill>
        <p:spPr>
          <a:xfrm>
            <a:off x="952560" y="2101680"/>
            <a:ext cx="71247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86ca"/>
            </a:gs>
            <a:gs pos="100000">
              <a:srgbClr val="383e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Египетские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чудо света – пирамида Хеопса. Своё название получила по имени её создателя фараона Хеопса (около 2551-2528 до Р.Х.). Её высота – 146,6 м, площадь основания составляет 230 м х 230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296"/>
          <p:cNvPicPr/>
          <p:nvPr/>
        </p:nvPicPr>
        <p:blipFill>
          <a:blip r:embed="rId1"/>
          <a:stretch/>
        </p:blipFill>
        <p:spPr>
          <a:xfrm>
            <a:off x="4211640" y="1700280"/>
            <a:ext cx="47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ff1d"/>
            </a:gs>
            <a:gs pos="50000">
              <a:srgbClr val="ffff57"/>
            </a:gs>
            <a:gs pos="100000">
              <a:srgbClr val="8eff1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468720" y="148392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 знаменитые сады  в Вавилоне были построены по приказу царя Навуходоносора для любимой жены. Они размещались на четырехъярусной башне. Сказочно прекрасны были они. Их аромат, тень и прохлада в безлесной Вавилонии  казались людям необыкновенным ч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dy1"/>
          <p:cNvPicPr/>
          <p:nvPr/>
        </p:nvPicPr>
        <p:blipFill>
          <a:blip r:embed="rId1"/>
          <a:stretch/>
        </p:blipFill>
        <p:spPr>
          <a:xfrm>
            <a:off x="3851280" y="1628640"/>
            <a:ext cx="529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"/>
                            </p:stCondLst>
                            <p:childTnLst>
                              <p:par>
                                <p:cTn id="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50000">
              <a:srgbClr val="66ccff"/>
            </a:gs>
            <a:gs pos="100000">
              <a:srgbClr val="9999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Статуя Зевса Олимпий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zevs4"/>
          <p:cNvPicPr/>
          <p:nvPr/>
        </p:nvPicPr>
        <p:blipFill>
          <a:blip r:embed="rId1"/>
          <a:stretch/>
        </p:blipFill>
        <p:spPr>
          <a:xfrm>
            <a:off x="4716360" y="1557360"/>
            <a:ext cx="421164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495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работы Фидия в целле храма в Олимпии считается одним из Семи чудес света. Двенадцатиметровая фигура сплошь отделана золотом и слоновой костью, трон выполнен из слоновой 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Храм Артемиды Эфес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601280"/>
            <a:ext cx="403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емида почиталась в Эфесе как богиня ох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илище Артемиды было главной достопримечательностью древнего Эфеса в Древней Греции.Строительство храма длилось 120 лет.После пожара был отстроен заново и стал еще прекрасней. Внутри храма находилась 15-ти метровая статуя Артемиды. Храм так же был самым знаменитым музеем : собранием картин и скульп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rtemida"/>
          <p:cNvPicPr/>
          <p:nvPr/>
        </p:nvPicPr>
        <p:blipFill>
          <a:blip r:embed="rId2"/>
          <a:stretch/>
        </p:blipFill>
        <p:spPr>
          <a:xfrm>
            <a:off x="3995640" y="1628640"/>
            <a:ext cx="49323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acda"/>
            </a:gs>
            <a:gs pos="50000">
              <a:srgbClr val="ab4df1"/>
            </a:gs>
            <a:gs pos="100000">
              <a:srgbClr val="8aac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Галикарнасский мавз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03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есь мир славилась своим великолепием гробница царя Мовсола, простоявший около 1800 лет. Это сооружение высотой 49 метров устояло и во время походов А. Македонского, и в других войнах,  и во время землетрясений. Статуя карийского царя Мавсола высотой 3,05 м была найдена среди развалин мавзолея. Ныне находится в Британском музее в Лонд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avzoley1"/>
          <p:cNvPicPr/>
          <p:nvPr/>
        </p:nvPicPr>
        <p:blipFill>
          <a:blip r:embed="rId1"/>
          <a:stretch/>
        </p:blipFill>
        <p:spPr>
          <a:xfrm>
            <a:off x="4067280" y="1484280"/>
            <a:ext cx="4897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2f81"/>
            </a:gs>
            <a:gs pos="100000">
              <a:srgbClr val="7979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олосс Родос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до н.э в Древней Греции на  о.Родос была построена гигантская статуя бога солнца Гелиоса, высотой 35 метров. Ее строительство велось 12 лет.Весть о необыкновенном сооружении быстро разнеслась по всему греческому миру, но родосцы недолго гордились статуей. Через 56 лет статуя была разрушена во время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Koloss1"/>
          <p:cNvPicPr/>
          <p:nvPr/>
        </p:nvPicPr>
        <p:blipFill>
          <a:blip r:embed="rId1"/>
          <a:stretch/>
        </p:blipFill>
        <p:spPr>
          <a:xfrm>
            <a:off x="4284720" y="1341360"/>
            <a:ext cx="460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9:59:26Z</dcterms:created>
  <dc:creator>Администратор</dc:creator>
  <dc:description/>
  <dc:language>en-US</dc:language>
  <cp:lastModifiedBy>Fenix</cp:lastModifiedBy>
  <dcterms:modified xsi:type="dcterms:W3CDTF">2012-12-20T15:10:15Z</dcterms:modified>
  <cp:revision>80</cp:revision>
  <dc:subject/>
  <dc:title>История древнего мира</dc:title>
</cp:coreProperties>
</file>