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BB4-18A2-42C6-8539-10D8DE7F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640-B315-40A1-B111-0D90FAA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C87-F2C9-43A9-91E6-D152C2E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CFE-7C97-4C28-97A6-8C6D02A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77A-2BB5-4708-AA1F-3B204D0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30E-F65E-4159-8C0B-08C69AE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815-1D5A-4BF7-AC3B-4E56438B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179-137E-4060-9C93-043D730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806-EB9E-49BF-8DCF-34B2B5B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DB8-5419-4364-8288-DE72B24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512-EB77-4768-9F18-C07952E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88B-3F80-407D-BED6-646F6EE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AAE9-C704-40CE-9CE8-FA1973A85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9;&#128;&#208;&#176;&#208;&#189;&#209;&#134;&#208;&#184;&#209;&#143;" TargetMode="External"/><Relationship Id="rId2" Type="http://schemas.openxmlformats.org/officeDocument/2006/relationships/hyperlink" Target="http://ru.wikipedia.org/wiki/&#208;&#160;&#208;&#181;&#208;&#179;&#208;&#184;&#208;&#190;&#208;&#189;&#209;&#139;_&#208;&#164;&#209;&#128;&#208;&#176;&#208;&#189;&#209;&#134;&#208;&#184;&#208;&#184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LocationFrance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Flag_of_France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rance,que j`a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учитель французского языка М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вропейский лицей» Шиткина В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и́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ari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pitale de la Fra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и́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 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иц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Фран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важнейший экономический и культурный центр страны, расположенный в северной части центральной Франци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регио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ь-де-Франс на берегах реки С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 Париж имеет большое международное значение — здесь находя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таб-квартиры ЮНЕСКО, ОЭСР и Международной торговой пал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АРИЖ. МУЗЕИ ЭКСКУРСИИ"/>
          <p:cNvPicPr/>
          <p:nvPr/>
        </p:nvPicPr>
        <p:blipFill>
          <a:blip r:embed="rId3"/>
          <a:stretch/>
        </p:blipFill>
        <p:spPr>
          <a:xfrm>
            <a:off x="468360" y="1628640"/>
            <a:ext cx="4174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СНЕЙЛЭ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ижский Диснейленд состоит из парка Диснейленд и студии Уолта Дисн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к Диснейленд устроен наподобие калифорнийского и располагает 42 аттракцион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посмотреть мультфильмы и побывать на съемочной площа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ДИСНЕЙЛЭНД"/>
          <p:cNvPicPr/>
          <p:nvPr/>
        </p:nvPicPr>
        <p:blipFill>
          <a:blip r:embed="rId1"/>
          <a:stretch/>
        </p:blipFill>
        <p:spPr>
          <a:xfrm>
            <a:off x="755640" y="1484280"/>
            <a:ext cx="3408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ЙФЕЛЕВА БАШНЯ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 Eiff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24000" y="1413000"/>
            <a:ext cx="4762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авный символ Парижа - Эйфелеву башню, построили ко Всемирной выставке 1889 года. Последнее достижение техники было самым высоким в мире зданием и предметом ожесточенных споров. Мопассан говорил, что чувствует себя хорошо только на ее вершине: это единственное место, откуда не видно чудовища. После окончания выставки башне грозил снос, но Эйфель сумел ее отстоять, придумав своей постройке практическое применение. На вершине открыли метеорологическую лабораторию и радиостанцию, а позже установили и телевизионную антен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4 из 134"/>
          <p:cNvPicPr/>
          <p:nvPr/>
        </p:nvPicPr>
        <p:blipFill>
          <a:blip r:embed="rId2"/>
          <a:stretch/>
        </p:blipFill>
        <p:spPr>
          <a:xfrm>
            <a:off x="324000" y="1413000"/>
            <a:ext cx="3144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e du Louv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вр, самый большой и наиболее известный в мире муз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лагает бесценными собраниями греческих, римских и египетских древностей, а также шедеврами французской, итальянской, голландской и фламандской живописи. Среди сокровищ Лувра выделяются Мона Лиза Леонардо да Винчи, греческие статуи Венера Милосская и Ника Самофракийск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ЛУВР"/>
          <p:cNvPicPr/>
          <p:nvPr/>
        </p:nvPicPr>
        <p:blipFill>
          <a:blip r:embed="rId1"/>
          <a:stretch/>
        </p:blipFill>
        <p:spPr>
          <a:xfrm>
            <a:off x="755640" y="1557360"/>
            <a:ext cx="34369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ra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re-Dame de Par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бор Парижской Богомат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один символов города и один из первых готических храмов. Собор был построен на месте развалин римского храма. Период его строительства 1163 - 1330 г. Первый камень заложен папой Александром III в 1163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СОБОР ПАРИЖСКОЙ БОГОМАТЕРИ"/>
          <p:cNvPicPr/>
          <p:nvPr/>
        </p:nvPicPr>
        <p:blipFill>
          <a:blip r:embed="rId1"/>
          <a:stretch/>
        </p:blipFill>
        <p:spPr>
          <a:xfrm>
            <a:off x="539640" y="1628640"/>
            <a:ext cx="351648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e de la Ci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В С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колыбелью Парижа, сердцем Парижа и местом его основа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незапамятных времен люди селились на острове Ситэ, еще до Цезаря здесь была основана столица кельтского племени паризиев - Лютец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ОСТРОВ СИТЕ"/>
          <p:cNvPicPr/>
          <p:nvPr/>
        </p:nvPicPr>
        <p:blipFill>
          <a:blip r:embed="rId1"/>
          <a:stretch/>
        </p:blipFill>
        <p:spPr>
          <a:xfrm>
            <a:off x="826920" y="1557360"/>
            <a:ext cx="34372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сейский дворе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alais de l`Elly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76720" y="981000"/>
            <a:ext cx="2266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ание было построено в стиле французского классиц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днее дворец был реконструиров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837 года здесь размещается официальная резиденция главы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624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Согла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Согласия - центральная площадь Парижа, созданная в стиле классицизма, разбита между Елисейскими полями и садом дворца Тюильри королевским архитектором Габриэлем в 1755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лощади стоит Луксорский обелиск, который вице-король Египта Мухаммед Али подарил Франции в 1829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943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умфальная арка (фр. Arc de Triomph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умфальная арка была сооружена в 1806-1836 годах на площади Звезды (ныне - площадь Шарля де Голля). Архитектор - Жан Шальгрен. Арка сооружена в честь военных побед Франции во время Революции и в период Первой импе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2670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rte de la Fr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349360"/>
            <a:ext cx="568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официальное название Французская Республика) - государство в Западной Европе. С севера страна омывается проливом Ла-Манш, с запада Атлантическим океаном и с юга Средиземным морем. Франция имеет границы с Бельгией, Люксембургом, Германией, Швейцарией, Италией, Монако, Испанией и Андоррой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ая часть территории страны - равнинная. Главными горными массивами Франции являются Альпы, Пиренеи, Юра, Арденны, Вогезы и Центральный массив. Самая высокая точка Альп и Западной Европы - гора Монблан (4807 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ОБЩАЯ ИНФОРМАЦИЯ"/>
          <p:cNvPicPr/>
          <p:nvPr/>
        </p:nvPicPr>
        <p:blipFill>
          <a:blip r:embed="rId1"/>
          <a:stretch/>
        </p:blipFill>
        <p:spPr>
          <a:xfrm>
            <a:off x="468360" y="549360"/>
            <a:ext cx="4164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ЩАЯ ИНФОРМАЦ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692280"/>
            <a:ext cx="4244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551,6 тыс.кв.к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ел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5,7 млн челов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олиц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ариж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тстает от московского на 2 час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фициальный язы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французск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ДЕЛЕНИЕ 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анция разделена на 22 региона и 95 департаментов, каждый из которых по-своему интересен.первоначальное деление на департаменты провели в 1790 г. Чаще всего название департамента связано с названием рек или г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ИМН ФРАНЦИИ"/>
          <p:cNvPicPr/>
          <p:nvPr/>
        </p:nvPicPr>
        <p:blipFill>
          <a:blip r:embed="rId1"/>
          <a:stretch/>
        </p:blipFill>
        <p:spPr>
          <a:xfrm>
            <a:off x="900000" y="1125360"/>
            <a:ext cx="362448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drapeau de la Fr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лаг Фран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628640"/>
            <a:ext cx="63057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ианна - символ Французской республ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МАРИАННА"/>
          <p:cNvPicPr/>
          <p:nvPr/>
        </p:nvPicPr>
        <p:blipFill>
          <a:blip r:embed="rId1"/>
          <a:stretch/>
        </p:blipFill>
        <p:spPr>
          <a:xfrm>
            <a:off x="2916360" y="1628640"/>
            <a:ext cx="3138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Фра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сударственный герб Французской Республи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изображен в виде эллипса, в центре которого находятся дикторский пучок-символ власти и республики. На ленте помещены слова: "Свобода, равенство, братство". Все это окружено дубовыми и оливковыми ветвями-символами власти и славы. Цепь, окружающая фигуры на гербе - символ почета и благородства. Внизу овала расположен орден Почетного Легион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Франция, эмблема"/>
          <p:cNvPicPr/>
          <p:nvPr/>
        </p:nvPicPr>
        <p:blipFill>
          <a:blip r:embed="rId1"/>
          <a:stretch/>
        </p:blipFill>
        <p:spPr>
          <a:xfrm>
            <a:off x="0" y="2276640"/>
            <a:ext cx="47354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ЛЬСКИЙ ПЕТ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ного удивительно, что французы избрали именно эту птицу символом страны. По легенде, галлы успешно разводили кур и петухов. Этот символ олицетворяет гордость, смелость и красоту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ГАЛЬСКИЙ ПЕТУХ"/>
          <p:cNvPicPr/>
          <p:nvPr/>
        </p:nvPicPr>
        <p:blipFill>
          <a:blip r:embed="rId1"/>
          <a:stretch/>
        </p:blipFill>
        <p:spPr>
          <a:xfrm>
            <a:off x="900000" y="1628640"/>
            <a:ext cx="33004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La Marseillais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Гимн Фран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lons enfants de la Patr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 jour de gloire est ar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ntre nous de la tyra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'étendard sanglant est 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'etendard sanglant est lev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tendez-vous dans nos campag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ugir ces féroces sold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Qui viennent jusque dans vos 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gorger vos fils et vos compag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frain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ux armes citoye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ormez vos bataill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archons! Marchon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Qu'un sang imp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reuve nos sillon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9144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44:24Z</dcterms:created>
  <dc:creator>Валентина</dc:creator>
  <dc:description/>
  <dc:language>en-US</dc:language>
  <cp:lastModifiedBy>Name</cp:lastModifiedBy>
  <dcterms:modified xsi:type="dcterms:W3CDTF">2010-09-30T20:24:08Z</dcterms:modified>
  <cp:revision>10</cp:revision>
  <dc:subject/>
  <dc:title>Символы Фр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6000000000001024140</vt:lpwstr>
  </property>
</Properties>
</file>