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191F-3C4A-4BE2-97E5-1FD0C4ED4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6F9C-2FB9-4164-8650-B521B1B55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869E-A7AD-4400-9C21-85006CBC5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66B4-579E-4EE8-8B9C-F56203547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70CD-F7E5-491F-A045-034876935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0EDD-4840-4ED0-A641-5E21648F4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B8D8-5B3D-4E28-AB09-D4D70FB22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DF0E-35AD-48A5-9A45-FADD0C303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5F43-EEC1-4D7A-84D0-C400012B3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8759-0596-4EC8-9143-E7BC0D73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B233-6C95-41D7-9870-29707616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BC90-6D6B-46AF-89A5-562F55FB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8D380-4555-4102-A79F-7518D6D550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208;&#164;&#209;&#128;&#208;&#176;&#208;&#189;&#209;&#134;&#208;&#184;&#209;&#143;" TargetMode="External"/><Relationship Id="rId2" Type="http://schemas.openxmlformats.org/officeDocument/2006/relationships/hyperlink" Target="http://ru.wikipedia.org/wiki/&#208;&#160;&#208;&#181;&#208;&#179;&#208;&#184;&#208;&#190;&#208;&#189;&#209;&#139;_&#208;&#164;&#209;&#128;&#208;&#176;&#208;&#189;&#209;&#134;&#208;&#184;&#208;&#184;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208;&#164;&#208;&#176;&#208;&#185;&#208;&#187;:LocationFrance.sv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208;&#164;&#208;&#176;&#208;&#185;&#208;&#187;:Flag_of_France.svg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France,que j`aim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олнила учитель французского языка МО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Европейский лицей» Шиткина В.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ари́ж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fr-FR" sz="4000" spc="-1" strike="noStrike">
                <a:solidFill>
                  <a:srgbClr val="000000"/>
                </a:solidFill>
                <a:latin typeface="Arial"/>
              </a:rPr>
              <a:t>Paris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)-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capitale de la Franc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ари́ж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 —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олица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Франци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важнейший экономический и культурный центр страны, расположенный в северной части центральной Франции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, 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регион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ль-де-Франс на берегах реки Се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роме того Париж имеет большое международное значение — здесь находятс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штаб-квартиры ЮНЕСКО, ОЭСР и Международной торговой пала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ПАРИЖ. МУЗЕИ ЭКСКУРСИИ"/>
          <p:cNvPicPr/>
          <p:nvPr/>
        </p:nvPicPr>
        <p:blipFill>
          <a:blip r:embed="rId3"/>
          <a:stretch/>
        </p:blipFill>
        <p:spPr>
          <a:xfrm>
            <a:off x="468360" y="1628640"/>
            <a:ext cx="417492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ИСНЕЙЛЭН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арижский Диснейленд состоит из парка Диснейленд и студии Уолта Дисне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арк Диснейленд устроен наподобие калифорнийского и располагает 42 аттракционами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десь можно посмотреть мультфильмы и побывать на съемочной площад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ДИСНЕЙЛЭНД"/>
          <p:cNvPicPr/>
          <p:nvPr/>
        </p:nvPicPr>
        <p:blipFill>
          <a:blip r:embed="rId1"/>
          <a:stretch/>
        </p:blipFill>
        <p:spPr>
          <a:xfrm>
            <a:off x="755640" y="1484280"/>
            <a:ext cx="340848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ЙФЕЛЕВА БАШНЯ 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ur Eiffe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924000" y="1413000"/>
            <a:ext cx="476244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лавный символ Парижа - Эйфелеву башню, построили ко Всемирной выставке 1889 года. Последнее достижение техники было самым высоким в мире зданием и предметом ожесточенных споров. Мопассан говорил, что чувствует себя хорошо только на ее вершине: это единственное место, откуда не видно чудовища. После окончания выставки башне грозил снос, но Эйфель сумел ее отстоять, придумав своей постройке практическое применение. На вершине открыли метеорологическую лабораторию и радиостанцию, а позже установили и телевизионную антенн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Картинка 4 из 134"/>
          <p:cNvPicPr/>
          <p:nvPr/>
        </p:nvPicPr>
        <p:blipFill>
          <a:blip r:embed="rId2"/>
          <a:stretch/>
        </p:blipFill>
        <p:spPr>
          <a:xfrm>
            <a:off x="324000" y="1413000"/>
            <a:ext cx="314460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mu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ée du Louv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увр, самый большой и наиболее известный в мире музей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полагает бесценными собраниями греческих, римских и египетских древностей, а также шедеврами французской, итальянской, голландской и фламандской живописи. Среди сокровищ Лувра выделяются Мона Лиза Леонардо да Винчи, греческие статуи Венера Милосская и Ника Самофракийская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ЛУВР"/>
          <p:cNvPicPr/>
          <p:nvPr/>
        </p:nvPicPr>
        <p:blipFill>
          <a:blip r:embed="rId1"/>
          <a:stretch/>
        </p:blipFill>
        <p:spPr>
          <a:xfrm>
            <a:off x="755640" y="1557360"/>
            <a:ext cx="343692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Cat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dral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Notre-Dame de Pari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бор Парижской Богоматер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один символов города и один из первых готических храмов. Собор был построен на месте развалин римского храма. Период его строительства 1163 - 1330 г. Первый камень заложен папой Александром III в 1163г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СОБОР ПАРИЖСКОЙ БОГОМАТЕРИ"/>
          <p:cNvPicPr/>
          <p:nvPr/>
        </p:nvPicPr>
        <p:blipFill>
          <a:blip r:embed="rId1"/>
          <a:stretch/>
        </p:blipFill>
        <p:spPr>
          <a:xfrm>
            <a:off x="539640" y="1628640"/>
            <a:ext cx="3516480" cy="46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L’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le de la Cit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é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РОВ СИ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зывают колыбелью Парижа, сердцем Парижа и местом его основания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незапамятных времен люди селились на острове Ситэ, еще до Цезаря здесь была основана столица кельтского племени паризиев - Лютеция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ОСТРОВ СИТЕ"/>
          <p:cNvPicPr/>
          <p:nvPr/>
        </p:nvPicPr>
        <p:blipFill>
          <a:blip r:embed="rId1"/>
          <a:stretch/>
        </p:blipFill>
        <p:spPr>
          <a:xfrm>
            <a:off x="826920" y="1557360"/>
            <a:ext cx="343728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лисейский дворе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palais de l`Elly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876720" y="981000"/>
            <a:ext cx="22669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дание было построено в стиле французского классицизм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зднее дворец был реконструирова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 1837 года здесь размещается официальная резиденция главы государ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662472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лощадь Согла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ощадь Согласия - центральная площадь Парижа, созданная в стиле классицизма, разбита между Елисейскими полями и садом дворца Тюильри королевским архитектором Габриэлем в 1755 г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площади стоит Луксорский обелиск, который вице-король Египта Мухаммед Али подарил Франции в 1829 год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394344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риумфальная арка (фр. Arc de Triomphe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иумфальная арка была сооружена в 1806-1836 годах на площади Звезды (ныне - площадь Шарля де Голля). Архитектор - Жан Шальгрен. Арка сооружена в честь военных побед Франции во время Революции и в период Первой импе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4267080" cy="49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carte de la Franc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92360" y="2349360"/>
            <a:ext cx="5688000" cy="28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47960" y="476280"/>
            <a:ext cx="424476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Франци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официальное название Французская Республика) - государство в Западной Европе. С севера страна омывается проливом Ла-Манш, с запада Атлантическим океаном и с юга Средиземным морем. Франция имеет границы с Бельгией, Люксембургом, Германией, Швейцарией, Италией, Монако, Испанией и Андоррой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ольшая часть территории страны - равнинная. Главными горными массивами Франции являются Альпы, Пиренеи, Юра, Арденны, Вогезы и Центральный массив. Самая высокая точка Альп и Западной Европы - гора Монблан (4807 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ОБЩАЯ ИНФОРМАЦИЯ"/>
          <p:cNvPicPr/>
          <p:nvPr/>
        </p:nvPicPr>
        <p:blipFill>
          <a:blip r:embed="rId1"/>
          <a:stretch/>
        </p:blipFill>
        <p:spPr>
          <a:xfrm>
            <a:off x="468360" y="549360"/>
            <a:ext cx="4164120" cy="55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ОБЩАЯ ИНФОРМАЦИЯ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7960" y="692280"/>
            <a:ext cx="424476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Территор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 551,6 тыс.кв.км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Население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55,7 млн человек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толица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ариж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рем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 отстает от московского на 2 часа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фициальный язы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французский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ДМИНИСТРАТИВНОЕ ДЕЛЕНИЕ ФРАН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ранция разделена на 22 региона и 95 департаментов, каждый из которых по-своему интересен.первоначальное деление на департаменты провели в 1790 г. Чаще всего название департамента связано с названием рек или г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ГИМН ФРАНЦИИ"/>
          <p:cNvPicPr/>
          <p:nvPr/>
        </p:nvPicPr>
        <p:blipFill>
          <a:blip r:embed="rId1"/>
          <a:stretch/>
        </p:blipFill>
        <p:spPr>
          <a:xfrm>
            <a:off x="900000" y="1125360"/>
            <a:ext cx="3624480" cy="48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drapeau de la Franc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Флаг Франции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03280" y="1628640"/>
            <a:ext cx="6305760" cy="42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арианна - символ Французской республик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МАРИАННА"/>
          <p:cNvPicPr/>
          <p:nvPr/>
        </p:nvPicPr>
        <p:blipFill>
          <a:blip r:embed="rId1"/>
          <a:stretch/>
        </p:blipFill>
        <p:spPr>
          <a:xfrm>
            <a:off x="2916360" y="1628640"/>
            <a:ext cx="313848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ерб Фран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осударственный герб Французской Республики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изображен в виде эллипса, в центре которого находятся дикторский пучок-символ власти и республики. На ленте помещены слова: "Свобода, равенство, братство". Все это окружено дубовыми и оливковыми ветвями-символами власти и славы. Цепь, окружающая фигуры на гербе - символ почета и благородства. Внизу овала расположен орден Почетного Легиона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Франция, эмблема"/>
          <p:cNvPicPr/>
          <p:nvPr/>
        </p:nvPicPr>
        <p:blipFill>
          <a:blip r:embed="rId1"/>
          <a:stretch/>
        </p:blipFill>
        <p:spPr>
          <a:xfrm>
            <a:off x="0" y="2276640"/>
            <a:ext cx="473544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АЛЬСКИЙ ПЕТУ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много удивительно, что французы избрали именно эту птицу символом страны. По легенде, галлы успешно разводили кур и петухов. Этот символ олицетворяет гордость, смелость и красоту Фран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ГАЛЬСКИЙ ПЕТУХ"/>
          <p:cNvPicPr/>
          <p:nvPr/>
        </p:nvPicPr>
        <p:blipFill>
          <a:blip r:embed="rId1"/>
          <a:stretch/>
        </p:blipFill>
        <p:spPr>
          <a:xfrm>
            <a:off x="900000" y="1628640"/>
            <a:ext cx="330048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Arial"/>
              </a:rPr>
              <a:t>La Marseillaise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- Гимн Франци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Allons enfants de la Patri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le jour de gloire est arri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ontre nous de la tyran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L'étendard sanglant est lev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L'etendard sanglant est levé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Entendez-vous dans nos campag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Mugir ces féroces soldat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Qui viennent jusque dans vos b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Egorger vos fils et vos compag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Refrain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Aux armes citoyen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Formez vos bataill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Marchons! Marchons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Qu'un sang imp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Abreuve nos sillons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372360" y="4005360"/>
            <a:ext cx="91440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3T11:44:24Z</dcterms:created>
  <dc:creator>Валентина</dc:creator>
  <dc:description/>
  <dc:language>en-US</dc:language>
  <cp:lastModifiedBy>Name</cp:lastModifiedBy>
  <dcterms:modified xsi:type="dcterms:W3CDTF">2010-09-30T20:24:08Z</dcterms:modified>
  <cp:revision>10</cp:revision>
  <dc:subject/>
  <dc:title>Символы Фран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606000000000001024140</vt:lpwstr>
  </property>
</Properties>
</file>