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115-6B62-4304-8A09-C2311354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A46-3531-46C3-B2E1-068182CF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C47-45F1-4F58-A961-17E6CEB8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4CF-0259-4E9B-8A5C-201F9B1B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E5D-1138-493C-9969-A9A5F153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89D-50CB-49FC-BC2C-8225FF6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135-5C7D-4F6D-9B00-C7F844D0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F8D-D335-48EF-B26E-922E1F7A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601-A8C0-48D9-97DB-254CF1F7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08D-AD96-41F6-B540-DEFEE7E4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5E7-ADEC-4677-B10D-4BBF8E3C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D52-05F5-4138-906D-CFD4435D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98CB-831A-4F85-AC77-805F1AA93C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История</a:t>
            </a:r>
            <a:r>
              <a:rPr b="0" lang="en-US" sz="4400" spc="-1" strike="noStrike">
                <a:solidFill>
                  <a:srgbClr val="f69101"/>
                </a:solidFill>
                <a:latin typeface="Acquest Script"/>
              </a:rPr>
              <a:t> </a:t>
            </a: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и</a:t>
            </a:r>
            <a:r>
              <a:rPr b="0" lang="en-US" sz="4400" spc="-1" strike="noStrike">
                <a:solidFill>
                  <a:srgbClr val="f69101"/>
                </a:solidFill>
                <a:latin typeface="Acquest Script"/>
              </a:rPr>
              <a:t> </a:t>
            </a: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достопримечательности</a:t>
            </a:r>
            <a:r>
              <a:rPr b="0" lang="en-US" sz="4400" spc="-1" strike="noStrike">
                <a:solidFill>
                  <a:srgbClr val="f69101"/>
                </a:solidFill>
                <a:latin typeface="Acquest Script"/>
              </a:rPr>
              <a:t> </a:t>
            </a: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Франции</a:t>
            </a:r>
            <a:r>
              <a:rPr b="0" lang="en-US" sz="4400" spc="-1" strike="noStrike">
                <a:solidFill>
                  <a:srgbClr val="f69101"/>
                </a:solidFill>
                <a:latin typeface="Acquest Scrip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562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боту выполнила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учащаяся 7 класса «А» ГОУ СОШ №666 Иванов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географии Банников С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133880" cy="310212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7300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Триумфальная арка а Париже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   </a:t>
            </a: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Триумфальная арка расположена в одном из самых туристических кварталов, входит в число памятников столицы. Её высота примерно 50 метров, и с этой высоты открывается прекрасный вид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49244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d223"/>
                </a:solidFill>
                <a:latin typeface="Acquest Script"/>
              </a:rPr>
              <a:t>Франция одна из самых замечательных стран мира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Франци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Столица: Пари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Площадь: 543965 кв.к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223"/>
                </a:solidFill>
                <a:latin typeface="Acquest Script"/>
              </a:rPr>
              <a:t>Население: 59330 тыс.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40388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Флаг Франц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0840" y="1447920"/>
            <a:ext cx="4040280" cy="4952880"/>
            <a:chOff x="150840" y="1447920"/>
            <a:chExt cx="4040280" cy="495288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0840" y="1447920"/>
              <a:ext cx="404028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 txBox="1"/>
            <p:nvPr/>
          </p:nvSpPr>
          <p:spPr>
            <a:xfrm>
              <a:off x="150840" y="1447920"/>
              <a:ext cx="4040280" cy="495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66720" y="1676520"/>
            <a:ext cx="4876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Синее знамя использовалось еще со времен Короля, и было связано с цветом облачения святого Мартина  Турского, покровителя Франции. По легенде святой поделился своим плащом синего цвета, а Король после принятия христианства около 498 года сменил в честь него белое знамя на сине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          </a:t>
            </a: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Белый цвет символизирует Францию и все то, что связано с божественным порядком, с Богом (отсюда и выбор этого цвета в качестве основной эмблемы королевства — по официальной доктрине власть короля имела божественное происхожд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          </a:t>
            </a:r>
            <a:r>
              <a:rPr b="1" lang="ru-RU" sz="1600" spc="-1" strike="noStrike">
                <a:solidFill>
                  <a:srgbClr val="ffd223"/>
                </a:solidFill>
                <a:latin typeface="Acquest Script"/>
              </a:rPr>
              <a:t>Во времена правления Гуго Капета и его потомков короли Франции имели красную орифламму в честь святого Дионисия. С начала правления Генриха IV королевские одеяния стали белыми с красной и синей вышивкой на них.. Они сохранили их и после революции, но уже, как фла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64080" y="12794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Герб Франц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На гербе изображе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Пельты с с головой</a:t>
            </a:r>
            <a:r>
              <a:rPr b="0" lang="ru-RU" sz="2400" spc="-1" strike="noStrike">
                <a:solidFill>
                  <a:srgbClr val="ffd22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льва и монограммой «RF», означающей Французская Республ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Ветки оливы, символизирующие м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Дубовая ветвь, символизирующая мудр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2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Фасции, являющейся символом правосуд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0976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Карта Франц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6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223"/>
                </a:solidFill>
                <a:latin typeface="Acquest Script"/>
              </a:rPr>
              <a:t>Париж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d223"/>
                </a:solidFill>
                <a:latin typeface="Acquest Script"/>
              </a:rPr>
              <a:t>Город расположен в центре Парижского бассейна, примерно 65 м над уровнем моря. Границы жилых кварталов Парижа очерчены кольцевой автодорогой протяжённостью 36 километров. К территории Парижа также относят находящийся к западу от города Булонский лес и расположенный на востоке Венсенский лес. Площадь города составляет 105 км², если включать площадь этих парков, и около 87 км² без 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883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Эйфелева башн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d223"/>
                </a:solidFill>
                <a:latin typeface="Acquest Script"/>
              </a:rPr>
              <a:t>Самая узнаваемая архитектурная достопримечательность Парижа, всемирно известная как символ Франции, названная в честь своего конструктора Густава Эйфеля и являющаяся местом паломничества туристов. Сам конструктор называл её просто — 300-метровой баш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223"/>
                </a:solidFill>
                <a:latin typeface="Acquest Script"/>
              </a:rPr>
              <a:t>      </a:t>
            </a:r>
            <a:r>
              <a:rPr b="0" lang="en-US" sz="1800" spc="-1" strike="noStrike">
                <a:solidFill>
                  <a:srgbClr val="ffd223"/>
                </a:solidFill>
                <a:latin typeface="Acquest Script"/>
              </a:rPr>
              <a:t>Башня является самой посещаемой достопримечательностью мира. Этот символ Парижа задумывался как временное сооружение — башня служила входной аркой парижской Всемирной выставки. От сноса башню спасли радиоантенны, установленные на самом верху, — это была эпоха внедрения ради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Собор Парижской Богоматери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223"/>
                </a:solidFill>
                <a:latin typeface="Acquest Script"/>
              </a:rPr>
              <a:t>    </a:t>
            </a:r>
            <a:r>
              <a:rPr b="0" lang="ru-RU" sz="2800" spc="-1" strike="noStrike">
                <a:solidFill>
                  <a:srgbClr val="ffd223"/>
                </a:solidFill>
                <a:latin typeface="Acquest Script"/>
              </a:rPr>
              <a:t>Собор Парижской Богоматери, также известный, как – Нотр-Дам возвышается в западной части острова Сите. Нотр-Дам занимает центральное место в истории Парижа и Фран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760" y="5226120"/>
            <a:ext cx="877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223"/>
                </a:solidFill>
                <a:latin typeface="Acquest Script"/>
              </a:rPr>
              <a:t>Музей Лувр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223"/>
                </a:solidFill>
                <a:latin typeface="Acquest Script"/>
              </a:rPr>
              <a:t>   </a:t>
            </a:r>
            <a:r>
              <a:rPr b="0" lang="ru-RU" sz="2400" spc="-1" strike="noStrike">
                <a:solidFill>
                  <a:srgbClr val="ffd223"/>
                </a:solidFill>
                <a:latin typeface="Acquest Script"/>
              </a:rPr>
              <a:t>Ромбы из специально обработанного стекла обеспечивают прозрачность пирамиды лувра. Воздвигнутое посреди главного двора крупнейшего парижского дворца, одно из красивейших в мире , создание Й.М.Пея, оно отражает небо и облака, дрожь воды в бассейне и вечерние ог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4197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30T20:24:08Z</dcterms:modified>
  <cp:revision>37</cp:revision>
  <dc:subject/>
  <dc:title>Достопримечательности Фран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6000000000001024140</vt:lpwstr>
  </property>
  <property fmtid="{D5CDD505-2E9C-101B-9397-08002B2CF9AE}" pid="3" name="Version">
    <vt:r8>1</vt:r8>
  </property>
</Properties>
</file>