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1A1-282E-4150-8B90-1D6C76C1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0A0-EA9D-4641-B9AB-4BABFA83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81D-8303-4379-AA07-8D37705A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02B-6365-49B8-A43D-983A1056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FC5-AADB-4DF4-A398-4C0D3E3A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058-1BC0-413A-B084-B9B40BC3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7A5-FB83-454D-9B30-ED443E7D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F9F-EFF7-4677-B258-4E35C400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1D0-DC26-48B8-A0E9-1B63182B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02F-FD7F-4289-B424-45D716A7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F50-5283-47A2-9560-251D66D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F68-35CB-458D-9E9D-68C6E422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C6ED-164F-42B1-B752-9AE2DE2324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История</a:t>
            </a:r>
            <a:r>
              <a:rPr b="0" lang="en-US" sz="4400" spc="-1" strike="noStrike">
                <a:solidFill>
                  <a:srgbClr val="f69101"/>
                </a:solidFill>
                <a:latin typeface="Acquest Script"/>
              </a:rPr>
              <a:t> </a:t>
            </a: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и</a:t>
            </a:r>
            <a:r>
              <a:rPr b="0" lang="en-US" sz="4400" spc="-1" strike="noStrike">
                <a:solidFill>
                  <a:srgbClr val="f69101"/>
                </a:solidFill>
                <a:latin typeface="Acquest Script"/>
              </a:rPr>
              <a:t> </a:t>
            </a: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достопримечательности</a:t>
            </a:r>
            <a:r>
              <a:rPr b="0" lang="en-US" sz="4400" spc="-1" strike="noStrike">
                <a:solidFill>
                  <a:srgbClr val="f69101"/>
                </a:solidFill>
                <a:latin typeface="Acquest Script"/>
              </a:rPr>
              <a:t> </a:t>
            </a: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Франции</a:t>
            </a:r>
            <a:r>
              <a:rPr b="0" lang="en-US" sz="4400" spc="-1" strike="noStrike">
                <a:solidFill>
                  <a:srgbClr val="f69101"/>
                </a:solidFill>
                <a:latin typeface="Acquest Script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5562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боту выполнила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учащаяся 7 класса «А» ГОУ СОШ №666 Иванов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географии Банников С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133880" cy="310212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7300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Триумфальная арка а Париже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223"/>
                </a:solidFill>
                <a:latin typeface="Acquest Script"/>
              </a:rPr>
              <a:t>   </a:t>
            </a:r>
            <a:r>
              <a:rPr b="0" lang="en-US" sz="2800" spc="-1" strike="noStrike">
                <a:solidFill>
                  <a:srgbClr val="ffd223"/>
                </a:solidFill>
                <a:latin typeface="Acquest Script"/>
              </a:rPr>
              <a:t>Триумфальная арка расположена в одном из самых туристических кварталов, входит в число памятников столицы. Её высота примерно 50 метров, и с этой высоты открывается прекрасный вид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49244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d223"/>
                </a:solidFill>
                <a:latin typeface="Acquest Script"/>
              </a:rPr>
              <a:t>Франция одна из самых замечательных стран мира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Франци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223"/>
                </a:solidFill>
                <a:latin typeface="Acquest Script"/>
              </a:rPr>
              <a:t>Столица: Пари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223"/>
                </a:solidFill>
                <a:latin typeface="Acquest Script"/>
              </a:rPr>
              <a:t>Площадь: 543965 кв.к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223"/>
                </a:solidFill>
                <a:latin typeface="Acquest Script"/>
              </a:rPr>
              <a:t>Население: 59330 тыс.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40388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Флаг Франци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0840" y="1447920"/>
            <a:ext cx="4040280" cy="4952880"/>
            <a:chOff x="150840" y="1447920"/>
            <a:chExt cx="4040280" cy="495288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0840" y="1447920"/>
              <a:ext cx="404028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 txBox="1"/>
            <p:nvPr/>
          </p:nvSpPr>
          <p:spPr>
            <a:xfrm>
              <a:off x="150840" y="1447920"/>
              <a:ext cx="4040280" cy="495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66720" y="1676520"/>
            <a:ext cx="4876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ffd223"/>
                </a:solidFill>
                <a:latin typeface="Acquest Script"/>
              </a:rPr>
              <a:t>Синее знамя использовалось еще со времен Короля, и было связано с цветом облачения святого Мартина  Турского, покровителя Франции. По легенде святой поделился своим плащом синего цвета, а Король после принятия христианства около 498 года сменил в честь него белое знамя на сине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d223"/>
                </a:solidFill>
                <a:latin typeface="Acquest Script"/>
              </a:rPr>
              <a:t>          </a:t>
            </a:r>
            <a:r>
              <a:rPr b="1" lang="ru-RU" sz="1600" spc="-1" strike="noStrike">
                <a:solidFill>
                  <a:srgbClr val="ffd223"/>
                </a:solidFill>
                <a:latin typeface="Acquest Script"/>
              </a:rPr>
              <a:t>Белый цвет символизирует Францию и все то, что связано с божественным порядком, с Богом (отсюда и выбор этого цвета в качестве основной эмблемы королевства — по официальной доктрине власть короля имела божественное происхождение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d223"/>
                </a:solidFill>
                <a:latin typeface="Acquest Script"/>
              </a:rPr>
              <a:t>          </a:t>
            </a:r>
            <a:r>
              <a:rPr b="1" lang="ru-RU" sz="1600" spc="-1" strike="noStrike">
                <a:solidFill>
                  <a:srgbClr val="ffd223"/>
                </a:solidFill>
                <a:latin typeface="Acquest Script"/>
              </a:rPr>
              <a:t>Во времена правления Гуго Капета и его потомков короли Франции имели красную орифламму в честь святого Дионисия. С начала правления Генриха IV королевские одеяния стали белыми с красной и синей вышивкой на них.. Они сохранили их и после революции, но уже, как фла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64080" y="12794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Герб Франци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 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На гербе изображе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 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Пельты с с головой</a:t>
            </a:r>
            <a:r>
              <a:rPr b="0" lang="ru-RU" sz="2400" spc="-1" strike="noStrike">
                <a:solidFill>
                  <a:srgbClr val="ffd22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льва и монограммой «RF», означающей Французская Республ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 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Ветки оливы, символизирующие м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 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Дубовая ветвь, символизирующая мудр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2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Фасции, являющейся символом правосуд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0976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Карта Франци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6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223"/>
                </a:solidFill>
                <a:latin typeface="Acquest Script"/>
              </a:rPr>
              <a:t>Париж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d223"/>
                </a:solidFill>
                <a:latin typeface="Acquest Script"/>
              </a:rPr>
              <a:t>Город расположен в центре Парижского бассейна, примерно 65 м над уровнем моря. Границы жилых кварталов Парижа очерчены кольцевой автодорогой протяжённостью 36 километров. К территории Парижа также относят находящийся к западу от города Булонский лес и расположенный на востоке Венсенский лес. Площадь города составляет 105 км², если включать площадь этих парков, и около 87 км² без н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883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Эйфелева башня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d223"/>
                </a:solidFill>
                <a:latin typeface="Acquest Script"/>
              </a:rPr>
              <a:t>Самая узнаваемая архитектурная достопримечательность Парижа, всемирно известная как символ Франции, названная в честь своего конструктора Густава Эйфеля и являющаяся местом паломничества туристов. Сам конструктор называл её просто — 300-метровой баш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223"/>
                </a:solidFill>
                <a:latin typeface="Acquest Script"/>
              </a:rPr>
              <a:t>      </a:t>
            </a:r>
            <a:r>
              <a:rPr b="0" lang="en-US" sz="1800" spc="-1" strike="noStrike">
                <a:solidFill>
                  <a:srgbClr val="ffd223"/>
                </a:solidFill>
                <a:latin typeface="Acquest Script"/>
              </a:rPr>
              <a:t>Башня является самой посещаемой достопримечательностью мира. Этот символ Парижа задумывался как временное сооружение — башня служила входной аркой парижской Всемирной выставки. От сноса башню спасли радиоантенны, установленные на самом верху, — это была эпоха внедрения ради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Собор Парижской Богоматери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223"/>
                </a:solidFill>
                <a:latin typeface="Acquest Script"/>
              </a:rPr>
              <a:t>    </a:t>
            </a:r>
            <a:r>
              <a:rPr b="0" lang="ru-RU" sz="2800" spc="-1" strike="noStrike">
                <a:solidFill>
                  <a:srgbClr val="ffd223"/>
                </a:solidFill>
                <a:latin typeface="Acquest Script"/>
              </a:rPr>
              <a:t>Собор Парижской Богоматери, также известный, как – Нотр-Дам возвышается в западной части острова Сите. Нотр-Дам занимает центральное место в истории Парижа и Фран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2760" y="5226120"/>
            <a:ext cx="877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Музей Лувр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223"/>
                </a:solidFill>
                <a:latin typeface="Acquest Script"/>
              </a:rPr>
              <a:t>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Ромбы из специально обработанного стекла обеспечивают прозрачность пирамиды лувра. Воздвигнутое посреди главного двора крупнейшего парижского дворца, одно из красивейших в мире , создание Й.М.Пея, оно отражает небо и облака, дрожь воды в бассейне и вечерние ог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4197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30T20:24:08Z</dcterms:modified>
  <cp:revision>37</cp:revision>
  <dc:subject/>
  <dc:title>Достопримечательности Фран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06000000000001024140</vt:lpwstr>
  </property>
  <property fmtid="{D5CDD505-2E9C-101B-9397-08002B2CF9AE}" pid="3" name="Version">
    <vt:r8>1</vt:r8>
  </property>
</Properties>
</file>