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4CF-E78F-4B02-8001-BA1E155D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471-5A48-4392-9D3D-D73EDA79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F16-3B5E-4A38-9AB7-CBFA4675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169-ACC6-4926-921F-5C0E06DF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698D-C976-412E-A45E-FFB90AF7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501D-0B65-40B6-8997-919B26F1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9BC2-F8AD-4C11-BDBC-BB1B3D7B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857B-21DD-4CBD-96D7-68189491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610A-EDC8-421C-B7EC-022CB632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38AF-98DE-4F5D-A561-710C8B27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14E6-A905-4F09-AB1B-C6A6A2F3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52F-D1E2-4633-A75A-99369542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68BE-D432-4EB3-8D54-8B0A6594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1F40-F1AB-4DFC-AA27-6C307642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323E-D882-4D05-A713-3CBC2528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651D-1102-4B7C-AFB5-6C6A8AA0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D87E-06C2-473A-9FAD-F1176A18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22801-2F3F-4CAC-8786-2950E1E6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3ABC-4FE4-4A96-B20D-BB71519E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C390-C2C6-444B-A08B-CBA7A480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D48F-3B2D-44A2-953B-1585301E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577C-F1A7-4FC2-A05A-FC44BDB7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298-F595-46C6-AFA0-5F5166C0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80B1-E6A1-4CD1-B2A1-EE04980D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72B6-F45F-4A86-A802-B4AF69E8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FFAE-78C8-4BA9-9011-7504E191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0894-9158-4FF4-9EE7-F50BD42C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182F-B086-4A1F-A411-013809EE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53DA-1450-471D-A40A-AE91FBEF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CEBF-8548-4DD9-BAAC-01B377DA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812C7-0E93-4A44-BC1A-46CD0E38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76F5C-0C97-4755-896C-E535C264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9F4C-9E6C-4D3B-9EBA-281B4448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6DC-F715-4ADD-9C98-55A7F329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308E1-D468-4680-92FD-DD870E56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E78A-88EE-4623-8A12-A193F74B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DA4E6-6F91-45C1-A15C-876A7009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4F707-B15B-4BF7-AFF5-1265D78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1FB12-7D16-4F3B-8D6D-344518E2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F611-B1BB-452E-8DB9-F3CFAE02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570D-4BC6-4623-A376-3576E04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B580-16FB-4E52-9523-8DA7583E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717E7-0E43-48DF-9273-8F3E2F2E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24F-0363-41A4-93FB-63C53B09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DEC-28C8-4327-A9F6-715FCA13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D34-035B-4604-A161-6623A2C9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027-6B06-4AC4-A0BC-CF1EE7E1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B6D-B6B9-4A8E-BE73-EDBC8BDD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FDFD-1659-4738-82B2-DAC8B625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F63C-B955-4820-9844-642E44866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65F6-1374-4C02-9EAF-DA24CEA08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1881-4F4E-4C04-B699-DB153F6CF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6480" y="-360"/>
            <a:ext cx="753588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Виды штор и порть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15-1"/>
          <p:cNvPicPr/>
          <p:nvPr/>
        </p:nvPicPr>
        <p:blipFill>
          <a:blip r:embed="rId1"/>
          <a:stretch/>
        </p:blipFill>
        <p:spPr>
          <a:xfrm>
            <a:off x="1119240" y="898560"/>
            <a:ext cx="7021440" cy="5022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1468440" y="5918040"/>
            <a:ext cx="628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Презентация учителя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категории Миклиной И.М.                             МБОУ СОШ№ 10 г.Йошкар-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1840" y="-360"/>
            <a:ext cx="7313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Итальян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Ita1"/>
          <p:cNvPicPr/>
          <p:nvPr/>
        </p:nvPicPr>
        <p:blipFill>
          <a:blip r:embed="rId1"/>
          <a:stretch/>
        </p:blipFill>
        <p:spPr>
          <a:xfrm>
            <a:off x="165240" y="1041480"/>
            <a:ext cx="5089320" cy="4647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Ita3"/>
          <p:cNvPicPr/>
          <p:nvPr/>
        </p:nvPicPr>
        <p:blipFill>
          <a:blip r:embed="rId2"/>
          <a:stretch/>
        </p:blipFill>
        <p:spPr>
          <a:xfrm>
            <a:off x="4943520" y="1042920"/>
            <a:ext cx="4029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31376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Классиче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class01"/>
          <p:cNvPicPr/>
          <p:nvPr/>
        </p:nvPicPr>
        <p:blipFill>
          <a:blip r:embed="rId1"/>
          <a:stretch/>
        </p:blipFill>
        <p:spPr>
          <a:xfrm>
            <a:off x="3827520" y="1343160"/>
            <a:ext cx="5181480" cy="478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49-11"/>
          <p:cNvPicPr/>
          <p:nvPr/>
        </p:nvPicPr>
        <p:blipFill>
          <a:blip r:embed="rId2"/>
          <a:stretch/>
        </p:blipFill>
        <p:spPr>
          <a:xfrm>
            <a:off x="150840" y="3002040"/>
            <a:ext cx="3753000" cy="3714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vidi_shtor_s_lambrikenom"/>
          <p:cNvPicPr/>
          <p:nvPr/>
        </p:nvPicPr>
        <p:blipFill>
          <a:blip r:embed="rId3"/>
          <a:stretch/>
        </p:blipFill>
        <p:spPr>
          <a:xfrm>
            <a:off x="152280" y="982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9920" y="-371520"/>
            <a:ext cx="7313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Ламбреке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219243617"/>
          <p:cNvPicPr/>
          <p:nvPr/>
        </p:nvPicPr>
        <p:blipFill>
          <a:blip r:embed="rId1"/>
          <a:stretch/>
        </p:blipFill>
        <p:spPr>
          <a:xfrm>
            <a:off x="128520" y="1122480"/>
            <a:ext cx="4205520" cy="560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wndows-of-the-difficult-form_1_20100226_1336154192"/>
          <p:cNvPicPr/>
          <p:nvPr/>
        </p:nvPicPr>
        <p:blipFill>
          <a:blip r:embed="rId2"/>
          <a:stretch/>
        </p:blipFill>
        <p:spPr>
          <a:xfrm>
            <a:off x="4786200" y="1117440"/>
            <a:ext cx="41911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6560" y="-344880"/>
            <a:ext cx="73137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Длина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id_836_1226928598076577"/>
          <p:cNvPicPr/>
          <p:nvPr/>
        </p:nvPicPr>
        <p:blipFill>
          <a:blip r:embed="rId1"/>
          <a:stretch/>
        </p:blipFill>
        <p:spPr>
          <a:xfrm>
            <a:off x="189000" y="1335240"/>
            <a:ext cx="2852640" cy="3052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id_837_1226928660174762"/>
          <p:cNvPicPr/>
          <p:nvPr/>
        </p:nvPicPr>
        <p:blipFill>
          <a:blip r:embed="rId2"/>
          <a:stretch/>
        </p:blipFill>
        <p:spPr>
          <a:xfrm>
            <a:off x="3311640" y="1333440"/>
            <a:ext cx="2813040" cy="2997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id_838_1226928752774470"/>
          <p:cNvPicPr/>
          <p:nvPr/>
        </p:nvPicPr>
        <p:blipFill>
          <a:blip r:embed="rId3"/>
          <a:stretch/>
        </p:blipFill>
        <p:spPr>
          <a:xfrm>
            <a:off x="6461280" y="1305000"/>
            <a:ext cx="2458800" cy="3381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239760" y="4429080"/>
            <a:ext cx="294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1. до подоконника — нижний край занавески находится на 1 см выше подоконника, так что может беспрепятственно двиг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3470400" y="4405320"/>
            <a:ext cx="253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2. ниже подоконника — занавески смотрятся аккуратнее, если свисают на 10-15 см ниже подокон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289560" y="4773600"/>
            <a:ext cx="271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3. до пола — занавески заканчиваются на 1 см выше уровня пола, чтобы они меньше изнашив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4480" y="-217800"/>
            <a:ext cx="73137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Ширина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id_830_1226928317824849"/>
          <p:cNvPicPr/>
          <p:nvPr/>
        </p:nvPicPr>
        <p:blipFill>
          <a:blip r:embed="rId1"/>
          <a:stretch/>
        </p:blipFill>
        <p:spPr>
          <a:xfrm>
            <a:off x="287280" y="177624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id_831_1226928362764524"/>
          <p:cNvPicPr/>
          <p:nvPr/>
        </p:nvPicPr>
        <p:blipFill>
          <a:blip r:embed="rId2"/>
          <a:stretch/>
        </p:blipFill>
        <p:spPr>
          <a:xfrm>
            <a:off x="3030480" y="1762200"/>
            <a:ext cx="2376720" cy="1508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id_832_1226928392032132"/>
          <p:cNvPicPr/>
          <p:nvPr/>
        </p:nvPicPr>
        <p:blipFill>
          <a:blip r:embed="rId3"/>
          <a:stretch/>
        </p:blipFill>
        <p:spPr>
          <a:xfrm>
            <a:off x="6000840" y="1801800"/>
            <a:ext cx="2286000" cy="1463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d_833_1226928479131254"/>
          <p:cNvPicPr/>
          <p:nvPr/>
        </p:nvPicPr>
        <p:blipFill>
          <a:blip r:embed="rId4"/>
          <a:stretch/>
        </p:blipFill>
        <p:spPr>
          <a:xfrm>
            <a:off x="324000" y="426708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id_834_1226928515571563"/>
          <p:cNvPicPr/>
          <p:nvPr/>
        </p:nvPicPr>
        <p:blipFill>
          <a:blip r:embed="rId5"/>
          <a:stretch/>
        </p:blipFill>
        <p:spPr>
          <a:xfrm>
            <a:off x="3220920" y="425592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id_835_1226928573981292"/>
          <p:cNvPicPr/>
          <p:nvPr/>
        </p:nvPicPr>
        <p:blipFill>
          <a:blip r:embed="rId6"/>
          <a:stretch/>
        </p:blipFill>
        <p:spPr>
          <a:xfrm>
            <a:off x="6099120" y="4226040"/>
            <a:ext cx="2286000" cy="1485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6"/>
          <p:cNvSpPr/>
          <p:nvPr/>
        </p:nvSpPr>
        <p:spPr>
          <a:xfrm>
            <a:off x="368280" y="3560760"/>
            <a:ext cx="20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тли 1,5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281760" y="354168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Люверсы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5621400" y="332568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андар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ардинная лент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277920" y="5851440"/>
            <a:ext cx="23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рандаш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кладки 2 -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3392640" y="582444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р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кладки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6470280" y="5896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Буфы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72680" y="0"/>
            <a:ext cx="822636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асчет тка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70240" y="1352520"/>
            <a:ext cx="474984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Тю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ысота полотна = высота шторы + подгиб низа + подгиб верха = 2,6 м + 0,15 м + 0,10м = 2,85 м ширина полотна = длина карниза Х коэффициент  сборки = 2 м Х 2 = 4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рть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ысота полотна = высота шторы + подгиб низа + подгиб верха =2,6 м +0,15 м+0,10 м = 2,85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ширина полотна для одного полотна = (Длина карниза Х коэффициент сборки) : на количество полотен = (2 м Х 2) : 2 = 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ag4"/>
          <p:cNvPicPr/>
          <p:nvPr/>
        </p:nvPicPr>
        <p:blipFill>
          <a:blip r:embed="rId1"/>
          <a:stretch/>
        </p:blipFill>
        <p:spPr>
          <a:xfrm>
            <a:off x="162000" y="1371600"/>
            <a:ext cx="4019400" cy="33559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169920" y="4654440"/>
            <a:ext cx="37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лина карниза 2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ысота окна 2,6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эффициент сборки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исунок и расход тка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24345_1_23266_2_OriginalImage"/>
          <p:cNvPicPr/>
          <p:nvPr/>
        </p:nvPicPr>
        <p:blipFill>
          <a:blip r:embed="rId1"/>
          <a:stretch/>
        </p:blipFill>
        <p:spPr>
          <a:xfrm>
            <a:off x="139680" y="1231920"/>
            <a:ext cx="4589640" cy="3871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24346_1_23267_2_OriginalImage"/>
          <p:cNvPicPr/>
          <p:nvPr/>
        </p:nvPicPr>
        <p:blipFill>
          <a:blip r:embed="rId2"/>
          <a:stretch/>
        </p:blipFill>
        <p:spPr>
          <a:xfrm>
            <a:off x="4284720" y="2684520"/>
            <a:ext cx="46497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26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исунок и расход тка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24347_1_23268_2_OriginalImage"/>
          <p:cNvPicPr/>
          <p:nvPr/>
        </p:nvPicPr>
        <p:blipFill>
          <a:blip r:embed="rId1"/>
          <a:stretch/>
        </p:blipFill>
        <p:spPr>
          <a:xfrm>
            <a:off x="157320" y="1292400"/>
            <a:ext cx="4641840" cy="391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24348_1_23269_2_OriginalImage"/>
          <p:cNvPicPr/>
          <p:nvPr/>
        </p:nvPicPr>
        <p:blipFill>
          <a:blip r:embed="rId2"/>
          <a:stretch/>
        </p:blipFill>
        <p:spPr>
          <a:xfrm>
            <a:off x="3887640" y="2417760"/>
            <a:ext cx="50403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1 (1)"/>
          <p:cNvPicPr/>
          <p:nvPr/>
        </p:nvPicPr>
        <p:blipFill>
          <a:blip r:embed="rId1"/>
          <a:stretch/>
        </p:blipFill>
        <p:spPr>
          <a:xfrm>
            <a:off x="1498680" y="1428840"/>
            <a:ext cx="58928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gorizontal"/>
          <p:cNvPicPr/>
          <p:nvPr/>
        </p:nvPicPr>
        <p:blipFill>
          <a:blip r:embed="rId1"/>
          <a:stretch/>
        </p:blipFill>
        <p:spPr>
          <a:xfrm>
            <a:off x="4352760" y="31989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rimskie3"/>
          <p:cNvPicPr/>
          <p:nvPr/>
        </p:nvPicPr>
        <p:blipFill>
          <a:blip r:embed="rId2"/>
          <a:stretch/>
        </p:blipFill>
        <p:spPr>
          <a:xfrm>
            <a:off x="2733840" y="210960"/>
            <a:ext cx="5221080" cy="3919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avstrijsk"/>
          <p:cNvPicPr/>
          <p:nvPr/>
        </p:nvPicPr>
        <p:blipFill>
          <a:blip r:embed="rId3"/>
          <a:stretch/>
        </p:blipFill>
        <p:spPr>
          <a:xfrm>
            <a:off x="0" y="762120"/>
            <a:ext cx="48196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69520" y="-36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Составляющие ш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00488410_1_"/>
          <p:cNvPicPr/>
          <p:nvPr/>
        </p:nvPicPr>
        <p:blipFill>
          <a:blip r:embed="rId1"/>
          <a:stretch/>
        </p:blipFill>
        <p:spPr>
          <a:xfrm>
            <a:off x="1114560" y="1127160"/>
            <a:ext cx="68580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Француз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238573453"/>
          <p:cNvPicPr/>
          <p:nvPr/>
        </p:nvPicPr>
        <p:blipFill>
          <a:blip r:embed="rId1"/>
          <a:stretch/>
        </p:blipFill>
        <p:spPr>
          <a:xfrm>
            <a:off x="281160" y="1138320"/>
            <a:ext cx="4133520" cy="551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information_items_835"/>
          <p:cNvPicPr/>
          <p:nvPr/>
        </p:nvPicPr>
        <p:blipFill>
          <a:blip r:embed="rId2"/>
          <a:stretch/>
        </p:blipFill>
        <p:spPr>
          <a:xfrm>
            <a:off x="4782960" y="1131840"/>
            <a:ext cx="4151520" cy="5533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vidi_shtor_france"/>
          <p:cNvPicPr/>
          <p:nvPr/>
        </p:nvPicPr>
        <p:blipFill>
          <a:blip r:embed="rId3"/>
          <a:stretch/>
        </p:blipFill>
        <p:spPr>
          <a:xfrm>
            <a:off x="3693960" y="11318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9640" y="-360"/>
            <a:ext cx="731376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Австрий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avstrijsk2"/>
          <p:cNvPicPr/>
          <p:nvPr/>
        </p:nvPicPr>
        <p:blipFill>
          <a:blip r:embed="rId1"/>
          <a:stretch/>
        </p:blipFill>
        <p:spPr>
          <a:xfrm>
            <a:off x="154080" y="1082520"/>
            <a:ext cx="4763880" cy="423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austrian_blinds1"/>
          <p:cNvPicPr/>
          <p:nvPr/>
        </p:nvPicPr>
        <p:blipFill>
          <a:blip r:embed="rId2"/>
          <a:stretch/>
        </p:blipFill>
        <p:spPr>
          <a:xfrm>
            <a:off x="4824360" y="11350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avstr31"/>
          <p:cNvPicPr/>
          <p:nvPr/>
        </p:nvPicPr>
        <p:blipFill>
          <a:blip r:embed="rId3"/>
          <a:stretch/>
        </p:blipFill>
        <p:spPr>
          <a:xfrm>
            <a:off x="3865680" y="4013280"/>
            <a:ext cx="1908000" cy="2685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vidi_shtor_avstriyskie"/>
          <p:cNvPicPr/>
          <p:nvPr/>
        </p:nvPicPr>
        <p:blipFill>
          <a:blip r:embed="rId4"/>
          <a:stretch/>
        </p:blipFill>
        <p:spPr>
          <a:xfrm>
            <a:off x="3664080" y="11192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2480" y="0"/>
            <a:ext cx="731376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им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vidi_shtor_rimskaya"/>
          <p:cNvPicPr/>
          <p:nvPr/>
        </p:nvPicPr>
        <p:blipFill>
          <a:blip r:embed="rId1"/>
          <a:stretch/>
        </p:blipFill>
        <p:spPr>
          <a:xfrm>
            <a:off x="3265560" y="1163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-shtory-na-kuhniu-foto"/>
          <p:cNvPicPr/>
          <p:nvPr/>
        </p:nvPicPr>
        <p:blipFill>
          <a:blip r:embed="rId2"/>
          <a:stretch/>
        </p:blipFill>
        <p:spPr>
          <a:xfrm>
            <a:off x="139680" y="1106640"/>
            <a:ext cx="5715000" cy="4971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aedc18a9a2b1"/>
          <p:cNvPicPr/>
          <p:nvPr/>
        </p:nvPicPr>
        <p:blipFill>
          <a:blip r:embed="rId3"/>
          <a:stretch/>
        </p:blipFill>
        <p:spPr>
          <a:xfrm>
            <a:off x="5353200" y="1106640"/>
            <a:ext cx="3612960" cy="497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vidi_shtor_rimskaya"/>
          <p:cNvPicPr/>
          <p:nvPr/>
        </p:nvPicPr>
        <p:blipFill>
          <a:blip r:embed="rId4"/>
          <a:stretch/>
        </p:blipFill>
        <p:spPr>
          <a:xfrm>
            <a:off x="3718080" y="4395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3134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оликовы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catalog2"/>
          <p:cNvPicPr/>
          <p:nvPr/>
        </p:nvPicPr>
        <p:blipFill>
          <a:blip r:embed="rId1"/>
          <a:stretch/>
        </p:blipFill>
        <p:spPr>
          <a:xfrm>
            <a:off x="4405320" y="1085760"/>
            <a:ext cx="4572000" cy="5497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roll_with_cat"/>
          <p:cNvPicPr/>
          <p:nvPr/>
        </p:nvPicPr>
        <p:blipFill>
          <a:blip r:embed="rId2"/>
          <a:stretch/>
        </p:blipFill>
        <p:spPr>
          <a:xfrm>
            <a:off x="131760" y="1087560"/>
            <a:ext cx="4192560" cy="5589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vidi_shtor_rulonki"/>
          <p:cNvPicPr/>
          <p:nvPr/>
        </p:nvPicPr>
        <p:blipFill>
          <a:blip r:embed="rId3"/>
          <a:stretch/>
        </p:blipFill>
        <p:spPr>
          <a:xfrm>
            <a:off x="3321000" y="108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63480" y="-360"/>
            <a:ext cx="731376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Япон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03"/>
          <p:cNvPicPr/>
          <p:nvPr/>
        </p:nvPicPr>
        <p:blipFill>
          <a:blip r:embed="rId1"/>
          <a:stretch/>
        </p:blipFill>
        <p:spPr>
          <a:xfrm>
            <a:off x="3898800" y="1616040"/>
            <a:ext cx="5245200" cy="394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japan"/>
          <p:cNvPicPr/>
          <p:nvPr/>
        </p:nvPicPr>
        <p:blipFill>
          <a:blip r:embed="rId2"/>
          <a:stretch/>
        </p:blipFill>
        <p:spPr>
          <a:xfrm>
            <a:off x="331920" y="3559320"/>
            <a:ext cx="382572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japan-004"/>
          <p:cNvPicPr/>
          <p:nvPr/>
        </p:nvPicPr>
        <p:blipFill>
          <a:blip r:embed="rId3"/>
          <a:stretch/>
        </p:blipFill>
        <p:spPr>
          <a:xfrm>
            <a:off x="306360" y="1082520"/>
            <a:ext cx="29005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5920" y="0"/>
            <a:ext cx="7313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Скрещенны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061"/>
          <p:cNvPicPr/>
          <p:nvPr/>
        </p:nvPicPr>
        <p:blipFill>
          <a:blip r:embed="rId1"/>
          <a:stretch/>
        </p:blipFill>
        <p:spPr>
          <a:xfrm>
            <a:off x="187200" y="1057320"/>
            <a:ext cx="4224600" cy="5635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sh_ckr_1"/>
          <p:cNvPicPr/>
          <p:nvPr/>
        </p:nvPicPr>
        <p:blipFill>
          <a:blip r:embed="rId2"/>
          <a:stretch/>
        </p:blipFill>
        <p:spPr>
          <a:xfrm>
            <a:off x="4427640" y="1041480"/>
            <a:ext cx="4562280" cy="4562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vidi_shtor_skreshennie"/>
          <p:cNvPicPr/>
          <p:nvPr/>
        </p:nvPicPr>
        <p:blipFill>
          <a:blip r:embed="rId3"/>
          <a:stretch/>
        </p:blipFill>
        <p:spPr>
          <a:xfrm>
            <a:off x="31114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2:18:15Z</dcterms:created>
  <dc:creator>Ирина</dc:creator>
  <dc:description/>
  <dc:language>en-US</dc:language>
  <cp:lastModifiedBy>Олег</cp:lastModifiedBy>
  <dcterms:modified xsi:type="dcterms:W3CDTF">2012-07-16T18:52:32Z</dcterms:modified>
  <cp:revision>10</cp:revision>
  <dc:subject/>
  <dc:title>Виды штор и портьер</dc:title>
</cp:coreProperties>
</file>