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3F6-2663-4802-B343-CA303537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C73-4661-4D2C-B206-01111D99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0278-0B5A-471A-8666-58035E8E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22F-CBD3-4840-A78C-F310E7E6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1938-021D-4440-8B5F-CF3BF615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791A-1D19-4A83-A77B-FD361FBE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D961-761B-461B-890C-5CC4BF56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DD4F-691A-4537-8C17-333BDD62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D623-B448-4A34-AFD4-B5A2741D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CF9A-642E-44B9-A688-6291E069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C777-B146-4B64-8804-5BCEFAA9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FA5-7B73-4D64-BFFB-342202A4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1E01-FBF5-4316-89F1-8E27C4C3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D7A0-7F32-4D89-A33E-2CCD1216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1F47-87B4-41D0-B44B-259E6FD1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61A6-39FB-482F-892A-1D868F79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5469-B26F-4C22-8D18-CBFBDC34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221E-3001-4E47-AA4F-3AAFFCA4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0520-6B99-4CB1-B814-526B05BD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DAA7-7B00-4121-8DB4-0F190517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8CAA-BFC5-4BAC-80C2-FE315046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093E-4048-494E-BB89-7F5E6F83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119-A605-41E0-892B-1D8EBCA0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004-8A65-4538-A3EF-72026EF5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31D8-213D-48AB-BBB2-7EF8284F7D2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47E8-359A-4DC0-BFAD-C264C58AFB6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0329b_vopros"/>
          <p:cNvPicPr/>
          <p:nvPr/>
        </p:nvPicPr>
        <p:blipFill>
          <a:blip r:embed="rId1"/>
          <a:stretch/>
        </p:blipFill>
        <p:spPr>
          <a:xfrm>
            <a:off x="4032360" y="1628640"/>
            <a:ext cx="5111640" cy="4313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400_F_7347800_gOGSusTuy4inQRT7KzU3ircr44CCpW3L"/>
          <p:cNvPicPr/>
          <p:nvPr/>
        </p:nvPicPr>
        <p:blipFill>
          <a:blip r:embed="rId2"/>
          <a:stretch/>
        </p:blipFill>
        <p:spPr>
          <a:xfrm>
            <a:off x="0" y="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2"/>
          <p:cNvSpPr/>
          <p:nvPr/>
        </p:nvSpPr>
        <p:spPr>
          <a:xfrm>
            <a:off x="1619280" y="1628640"/>
            <a:ext cx="66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«Интернет:   да или нет»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6004080"/>
            <a:ext cx="882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дготовила учитель математики Гомонова Галина Васильев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ОУ Масленниковская СОШ, Хворостянский район, Самарская обла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Психологическую в своей основе, интернет-зависимость сравнивают с наркоманией — физиологической зависимостью от наркотических веществ, где также присутствует психический компонент.</a:t>
            </a:r>
            <a:r>
              <a:rPr b="0" lang="ru-RU" sz="24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5" descr="33"/>
          <p:cNvPicPr/>
          <p:nvPr/>
        </p:nvPicPr>
        <p:blipFill>
          <a:blip r:embed="rId1"/>
          <a:stretch/>
        </p:blipFill>
        <p:spPr>
          <a:xfrm>
            <a:off x="250920" y="3573360"/>
            <a:ext cx="4968720" cy="3011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bde6b57f5681cd8c8f9ab71c58021c11_full"/>
          <p:cNvPicPr/>
          <p:nvPr/>
        </p:nvPicPr>
        <p:blipFill>
          <a:blip r:embed="rId2"/>
          <a:stretch/>
        </p:blipFill>
        <p:spPr>
          <a:xfrm>
            <a:off x="5435640" y="3068640"/>
            <a:ext cx="37083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photos0-800x600[1]"/>
          <p:cNvPicPr/>
          <p:nvPr/>
        </p:nvPicPr>
        <p:blipFill>
          <a:blip r:embed="rId1"/>
          <a:stretch/>
        </p:blipFill>
        <p:spPr>
          <a:xfrm>
            <a:off x="2700360" y="342900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179280" y="18900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Интернет информационно-развлекательный гигант, но и место разводов и лохотрона. Будьте бдительны, не попадайтесь на уловки мошенников. Не давайте им зарабатывать на нас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интрнет угроза для детей"/>
          <p:cNvPicPr/>
          <p:nvPr/>
        </p:nvPicPr>
        <p:blipFill>
          <a:blip r:embed="rId1"/>
          <a:stretch/>
        </p:blipFill>
        <p:spPr>
          <a:xfrm>
            <a:off x="611280" y="0"/>
            <a:ext cx="7947000" cy="5297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324000" y="530532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зартные игры наносят непоправимый вред, занимают у ребёнка подавляющую часть времени, отвлекают от занятий и спокойного отдыха, вредят психическому и физическому здоровью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5019"/>
          <p:cNvPicPr/>
          <p:nvPr/>
        </p:nvPicPr>
        <p:blipFill>
          <a:blip r:embed="rId1"/>
          <a:stretch/>
        </p:blipFill>
        <p:spPr>
          <a:xfrm>
            <a:off x="5324400" y="2924280"/>
            <a:ext cx="3819600" cy="39337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179280" y="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Какие угрозы наиболее очевидны: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0" y="549360"/>
            <a:ext cx="8820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ражение вредоносными программам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оступ к нежелательному содержимом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нтакты с незнакомыми людьми с помощью чатов или электронной почт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контролируемые покупк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желательная реклам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точная информация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10" descr="2115230"/>
          <p:cNvPicPr/>
          <p:nvPr/>
        </p:nvPicPr>
        <p:blipFill>
          <a:blip r:embed="rId2"/>
          <a:stretch/>
        </p:blipFill>
        <p:spPr>
          <a:xfrm rot="19442400">
            <a:off x="468000" y="4723920"/>
            <a:ext cx="1224000" cy="1684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41"/>
          <p:cNvPicPr/>
          <p:nvPr/>
        </p:nvPicPr>
        <p:blipFill>
          <a:blip r:embed="rId3"/>
          <a:stretch/>
        </p:blipFill>
        <p:spPr>
          <a:xfrm>
            <a:off x="1908000" y="4486320"/>
            <a:ext cx="2232360" cy="147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windowslivewritervirustriggervirustriggerremovalinstuctio-d7deadware-42"/>
          <p:cNvPicPr/>
          <p:nvPr/>
        </p:nvPicPr>
        <p:blipFill>
          <a:blip r:embed="rId4"/>
          <a:stretch/>
        </p:blipFill>
        <p:spPr>
          <a:xfrm rot="1978800">
            <a:off x="3780000" y="4941720"/>
            <a:ext cx="187164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-182520" y="44280"/>
            <a:ext cx="9661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Times New Roman"/>
              </a:rPr>
              <a:t>Интернет</a:t>
            </a: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8000" spc="-1" strike="noStrike">
                <a:solidFill>
                  <a:srgbClr val="ffffff"/>
                </a:solidFill>
                <a:latin typeface="Times New Roman"/>
              </a:rPr>
              <a:t>            ЗА или ПРОТИВ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5">
            <a:hlinkClick r:id="rId1" action="ppaction://hlinksldjump"/>
          </p:cNvPr>
          <p:cNvSpPr/>
          <p:nvPr/>
        </p:nvSpPr>
        <p:spPr>
          <a:xfrm>
            <a:off x="539640" y="2997360"/>
            <a:ext cx="1224000" cy="977760"/>
          </a:xfrm>
          <a:prstGeom prst="rect">
            <a:avLst/>
          </a:prstGeom>
          <a:noFill/>
          <a:ln w="414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1</a:t>
            </a:r>
            <a:endParaRPr b="0" lang="en-US" sz="5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0">
            <a:hlinkClick r:id="rId3" action="ppaction://hlinksldjump"/>
          </p:cNvPr>
          <p:cNvSpPr/>
          <p:nvPr/>
        </p:nvSpPr>
        <p:spPr>
          <a:xfrm>
            <a:off x="7308720" y="2997360"/>
            <a:ext cx="1224000" cy="977760"/>
          </a:xfrm>
          <a:prstGeom prst="rect">
            <a:avLst/>
          </a:prstGeom>
          <a:noFill/>
          <a:ln w="414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5</a:t>
            </a:r>
            <a:endParaRPr b="0" lang="en-US" sz="5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1">
            <a:hlinkClick r:id="rId5" action="ppaction://hlinksldjump"/>
          </p:cNvPr>
          <p:cNvSpPr/>
          <p:nvPr/>
        </p:nvSpPr>
        <p:spPr>
          <a:xfrm>
            <a:off x="5508720" y="4221000"/>
            <a:ext cx="1224000" cy="977760"/>
          </a:xfrm>
          <a:prstGeom prst="rect">
            <a:avLst/>
          </a:prstGeom>
          <a:noFill/>
          <a:ln w="414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4</a:t>
            </a:r>
            <a:endParaRPr b="0" lang="en-US" sz="5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2">
            <a:hlinkClick r:id="rId7" action="ppaction://hlinksldjump"/>
          </p:cNvPr>
          <p:cNvSpPr/>
          <p:nvPr/>
        </p:nvSpPr>
        <p:spPr>
          <a:xfrm>
            <a:off x="3995640" y="2997360"/>
            <a:ext cx="1224000" cy="977760"/>
          </a:xfrm>
          <a:prstGeom prst="rect">
            <a:avLst/>
          </a:prstGeom>
          <a:noFill/>
          <a:ln w="414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u="sng">
                <a:solidFill>
                  <a:srgbClr val="ffffcc"/>
                </a:solidFill>
                <a:uFillTx/>
                <a:latin typeface="Times New Roman"/>
                <a:hlinkClick r:id="rId8" action="ppaction://hlinksldjump"/>
              </a:rPr>
              <a:t>3</a:t>
            </a:r>
            <a:endParaRPr b="0" lang="en-US" sz="5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3">
            <a:hlinkClick r:id="rId9" action="ppaction://hlinksldjump"/>
          </p:cNvPr>
          <p:cNvSpPr/>
          <p:nvPr/>
        </p:nvSpPr>
        <p:spPr>
          <a:xfrm>
            <a:off x="2268360" y="4149720"/>
            <a:ext cx="1224000" cy="977760"/>
          </a:xfrm>
          <a:prstGeom prst="rect">
            <a:avLst/>
          </a:prstGeom>
          <a:noFill/>
          <a:ln w="414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u="sng">
                <a:solidFill>
                  <a:srgbClr val="ffffcc"/>
                </a:solidFill>
                <a:uFillTx/>
                <a:latin typeface="Times New Roman"/>
                <a:hlinkClick r:id="rId10" action="ppaction://hlinksldjump"/>
              </a:rPr>
              <a:t>2</a:t>
            </a:r>
            <a:endParaRPr b="0" lang="en-US" sz="5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4">
            <a:hlinkClick r:id="rId11" action="ppaction://hlinksldjump"/>
          </p:cNvPr>
          <p:cNvSpPr/>
          <p:nvPr/>
        </p:nvSpPr>
        <p:spPr>
          <a:xfrm>
            <a:off x="3924360" y="5516640"/>
            <a:ext cx="1224000" cy="977760"/>
          </a:xfrm>
          <a:prstGeom prst="rect">
            <a:avLst/>
          </a:prstGeom>
          <a:noFill/>
          <a:ln w="414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u="sng">
                <a:solidFill>
                  <a:srgbClr val="ffffcc"/>
                </a:solidFill>
                <a:uFillTx/>
                <a:latin typeface="Times New Roman"/>
                <a:hlinkClick r:id="rId12" action="ppaction://hlinksldjump"/>
              </a:rPr>
              <a:t>6</a:t>
            </a:r>
            <a:endParaRPr b="0" lang="en-US" sz="5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Стрелка вправо 8">
            <a:hlinkClick r:id="rId13" action="ppaction://hlinksldjump"/>
          </p:cNvPr>
          <p:cNvSpPr/>
          <p:nvPr/>
        </p:nvSpPr>
        <p:spPr>
          <a:xfrm>
            <a:off x="214200" y="5572080"/>
            <a:ext cx="1143000" cy="500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539640" y="1628640"/>
            <a:ext cx="842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cc"/>
                </a:solidFill>
                <a:latin typeface="Times New Roman"/>
              </a:rPr>
              <a:t>Дата рождения Интернет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580000" y="4581360"/>
            <a:ext cx="3564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539640" y="1628640"/>
            <a:ext cx="777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cc"/>
                </a:solidFill>
                <a:latin typeface="Times New Roman"/>
              </a:rPr>
              <a:t>Самый популярный ресурс сети Интернет, с которого начиналось создание сети Интернет?</a:t>
            </a: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0000" y="4581360"/>
            <a:ext cx="3564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539640" y="1628640"/>
            <a:ext cx="7777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cc"/>
                </a:solidFill>
                <a:latin typeface="Times New Roman"/>
              </a:rPr>
              <a:t>В каком году была изобретена Всемирная паутина</a:t>
            </a:r>
            <a:r>
              <a:rPr b="1" lang="en-US" sz="4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39640" y="162864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cc"/>
                </a:solidFill>
                <a:latin typeface="Times New Roman"/>
              </a:rPr>
              <a:t>Кто изобрел электронную почту</a:t>
            </a:r>
            <a:r>
              <a:rPr b="1" lang="en-US" sz="4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539640" y="162864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cc"/>
                </a:solidFill>
                <a:latin typeface="Times New Roman"/>
              </a:rPr>
              <a:t>Назовите аргументы ЗА Интернет</a:t>
            </a: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569440" cy="410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«В добрых руках Интернет будет способствовать умножению добра и распространению света истины, а в злых – сеять в душах  грех и пагубу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162864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Назовите аргументы ПРОТИВ Интернета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468360" y="126828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Весь мир в одном человеке – это любовь, весь мир в экране – это Интернет.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 flipV="1" rot="10798200">
            <a:off x="971280" y="3499920"/>
            <a:ext cx="632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Интернет дает людскому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развитию толчок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ричем во всех смыслах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7" descr="x_9b1de80f"/>
          <p:cNvPicPr/>
          <p:nvPr/>
        </p:nvPicPr>
        <p:blipFill>
          <a:blip r:embed="rId1"/>
          <a:stretch/>
        </p:blipFill>
        <p:spPr>
          <a:xfrm>
            <a:off x="0" y="0"/>
            <a:ext cx="4286160" cy="345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i[2]"/>
          <p:cNvPicPr/>
          <p:nvPr/>
        </p:nvPicPr>
        <p:blipFill>
          <a:blip r:embed="rId2"/>
          <a:stretch/>
        </p:blipFill>
        <p:spPr>
          <a:xfrm>
            <a:off x="6696000" y="4492800"/>
            <a:ext cx="24480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0163435"/>
          <p:cNvPicPr/>
          <p:nvPr/>
        </p:nvPicPr>
        <p:blipFill>
          <a:blip r:embed="rId1"/>
          <a:stretch/>
        </p:blipFill>
        <p:spPr>
          <a:xfrm>
            <a:off x="179280" y="2349360"/>
            <a:ext cx="3816360" cy="2799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980640"/>
            <a:ext cx="8002440" cy="43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нтернет предоставляет широчайшие технические возможности для общения. Кроме того, в Интернете сравнительно легко найти людей со схожими интересами и взглядами на мир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Picture 5" descr="3124438_cfd0e62b"/>
          <p:cNvPicPr/>
          <p:nvPr/>
        </p:nvPicPr>
        <p:blipFill>
          <a:blip r:embed="rId2"/>
          <a:stretch/>
        </p:blipFill>
        <p:spPr>
          <a:xfrm>
            <a:off x="4140360" y="3206880"/>
            <a:ext cx="486252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Всемирная сеть дает возможность «держать» руку на пульсе событий, имея доступ к информации из любой точки земного шара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Picture 4" descr="1040745"/>
          <p:cNvPicPr/>
          <p:nvPr/>
        </p:nvPicPr>
        <p:blipFill>
          <a:blip r:embed="rId1"/>
          <a:stretch/>
        </p:blipFill>
        <p:spPr>
          <a:xfrm>
            <a:off x="5148360" y="2492280"/>
            <a:ext cx="3744720" cy="3745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5048_a_photo"/>
          <p:cNvPicPr/>
          <p:nvPr/>
        </p:nvPicPr>
        <p:blipFill>
          <a:blip r:embed="rId2"/>
          <a:stretch/>
        </p:blipFill>
        <p:spPr>
          <a:xfrm>
            <a:off x="684360" y="3314880"/>
            <a:ext cx="39607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569080" cy="299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Интернет открывает огромные возможности перед современными школьниками, становясь палочкой –выручалочкой  в решении многих проблемных вопросов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Picture 4" descr="1258665087_rozov"/>
          <p:cNvPicPr/>
          <p:nvPr/>
        </p:nvPicPr>
        <p:blipFill>
          <a:blip r:embed="rId1"/>
          <a:stretch/>
        </p:blipFill>
        <p:spPr>
          <a:xfrm>
            <a:off x="1763640" y="3068640"/>
            <a:ext cx="6012000" cy="35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От эффективности и быстродействия научных коммуникаций существенным образом зависит вся профессиональная деятельность научного сообщества.</a:t>
            </a: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Интернет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необходимое условие выживания науки сегодня, путь к её развитию завтра</a:t>
            </a: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33cccc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i"/>
          <p:cNvPicPr/>
          <p:nvPr/>
        </p:nvPicPr>
        <p:blipFill>
          <a:blip r:embed="rId1"/>
          <a:stretch/>
        </p:blipFill>
        <p:spPr>
          <a:xfrm>
            <a:off x="2124000" y="2857680"/>
            <a:ext cx="53294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5157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Овладение компьютерными и Интернет - технологиями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открывает мир новых семейных увлечений, а самое главное – дает возможность заниматься за компьютером увлекательными делами родителям вместе с детьми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Picture 4" descr="family_computer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250920" y="249228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з преувеличения, интернет - всемирная сеть, в которой, чтобы мы ни искали, это обязательно найдется. Однако не стоит забывать, что это система, внутри которой могут подстерегаться и опасности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5" descr="интер"/>
          <p:cNvPicPr/>
          <p:nvPr/>
        </p:nvPicPr>
        <p:blipFill>
          <a:blip r:embed="rId1"/>
          <a:stretch/>
        </p:blipFill>
        <p:spPr>
          <a:xfrm>
            <a:off x="1042920" y="0"/>
            <a:ext cx="2556000" cy="2556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dangerous_internet_for_child-199x300"/>
          <p:cNvPicPr/>
          <p:nvPr/>
        </p:nvPicPr>
        <p:blipFill>
          <a:blip r:embed="rId2"/>
          <a:stretch/>
        </p:blipFill>
        <p:spPr>
          <a:xfrm>
            <a:off x="6084720" y="3789360"/>
            <a:ext cx="2035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6:44:54Z</dcterms:created>
  <dc:creator>Школа</dc:creator>
  <dc:description/>
  <dc:language>en-US</dc:language>
  <cp:lastModifiedBy>Саша+Дима</cp:lastModifiedBy>
  <dcterms:modified xsi:type="dcterms:W3CDTF">2011-12-21T18:33:25Z</dcterms:modified>
  <cp:revision>10</cp:revision>
  <dc:subject/>
  <dc:title>Слайд 1</dc:title>
</cp:coreProperties>
</file>